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11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image6.png" ContentType="image/png"/>
  <Override PartName="/ppt/media/image3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13.gif" ContentType="image/gif"/>
  <Override PartName="/ppt/media/image27.jpeg" ContentType="image/jpeg"/>
  <Override PartName="/ppt/media/image16.jpeg" ContentType="image/jpeg"/>
  <Override PartName="/ppt/media/image9.gif" ContentType="image/gif"/>
  <Override PartName="/ppt/media/typ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24.jpeg" ContentType="image/jpeg"/>
  <Override PartName="/ppt/media/projctor.wav" ContentType="audio/x-wav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F3BB-70BB-434D-8735-580898CCBA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噪音像一个来无影去无踪的“隐身人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像烟尘和废水那样可以集中起来处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F70-F587-4094-9C9C-B5083BB9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6EB-B5D4-48AC-BBD0-675D981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DE5-DA05-4663-A2F9-510A4621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633-7BDD-40BF-9E59-1094B7F4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A8F-718C-4B39-8B24-27A9620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6AF-8164-4010-AE24-9474BFA1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654-7362-4811-A58D-98A5F930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92B-5FEB-43CF-87F3-43A207DF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FE0-49EE-4673-8593-3B1D0E7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CAC-63A2-41CA-86AC-92AF630E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FB1-67C3-4BA3-A8A0-7CF21AA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29A-C57F-4B1C-8593-FF3F1478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356-6DF1-4AF7-A592-1ECCA3022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3.gi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63480"/>
            <a:ext cx="9144000" cy="5349960"/>
            <a:chOff x="0" y="663480"/>
            <a:chExt cx="9144000" cy="5349960"/>
          </a:xfrm>
        </p:grpSpPr>
        <p:sp>
          <p:nvSpPr>
            <p:cNvPr id="49" name=""/>
            <p:cNvSpPr/>
            <p:nvPr/>
          </p:nvSpPr>
          <p:spPr>
            <a:xfrm>
              <a:off x="0" y="663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663480"/>
              <a:ext cx="914400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4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895480" y="1981080"/>
            <a:ext cx="3276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华文行楷"/>
              </a:rPr>
              <a:t>新型玻璃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华文行楷"/>
              <a:ea typeface="华文行楷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419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5516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5516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自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5516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00200" y="11430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炎热的夏天，它能阻挡强烈的阳光，使室内比室外凉爽；在严寒的冬季，它把冷空气挡在室外，使室内保持温暖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7.gif (3404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8672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144792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吃音玻璃”就是消除噪音的能手。临街的窗子上如果装上这种玻璃，街上的声音为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时，传到房间里就只剩下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144792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吃音玻璃”就是消除噪音的能手。临街的窗子上如果装上这种玻璃，街上的声音为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时，传到房间里就只剩下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733920"/>
            <a:ext cx="1218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52578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7.gif (3404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602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大胆设计一种新型玻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404640"/>
            <a:ext cx="25196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放飞想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flipH="1">
            <a:off x="4212720" y="404640"/>
            <a:ext cx="1800360" cy="13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148104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2880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21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世纪新型玻璃设计方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2133720"/>
            <a:ext cx="32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产品名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352680"/>
            <a:ext cx="35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和作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4495680"/>
            <a:ext cx="29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设计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743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105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55627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日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只要刻苦学习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掌握先进的科学技术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就一定能让自己的奇思妙想变成现实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620120" cy="5105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24852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16360" y="189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各式各样的玻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3516480" cy="495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10080" y="1219320"/>
            <a:ext cx="3119400" cy="487656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4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56084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3809880" cy="43210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4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6934320" cy="38098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4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68280"/>
            <a:ext cx="96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名               称                特      点                    作    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9810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夹丝网防盗玻璃         自动报警             防           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夹丝玻璃                  坚硬，安全         适于高层建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6734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变色玻璃      反射阳光、改变颜色     调节室内光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1008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吸热玻璃       吸热、阻挡冷空气    使室内冬暖夏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288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吃音玻璃              消除噪音               减弱噪音强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68580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4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4286520" cy="358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5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1257480" cy="3211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62520" y="15228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48520" y="15228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971640" y="3357720"/>
            <a:ext cx="1257120" cy="322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819520" y="342900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5105520" y="342900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7467480" y="3429000"/>
            <a:ext cx="1257480" cy="3222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3720" y="8380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夹丝网防盗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2057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夹丝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变色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419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吸热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5486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吃音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381880" y="640080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1833480"/>
            <a:ext cx="648036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自读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自由读课文，读准字音，读通句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你知道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还有什么不明白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8458200" y="64008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3808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玻璃叫“夹丝网防盗玻璃”，博物馆可以采用，银行可以采用，珠宝店可以采用，存放重要图纸、文件的建筑物也可以采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5335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玻璃叫“夹丝网防盗玻璃”，博物馆可以采用，银行可以采用，珠宝店可以采用，存放重要图纸、文件的建筑物也可以采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0481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55627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30481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8862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7.gif (3404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8380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它非常坚硬，受到猛击仍安然无恙；即使被打碎了，碎片仍然藕断丝连地粘在一起，不会伤人。有些国家规定，高层建筑必须采用这种安全可靠的玻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7.gif (3404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943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10666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7621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还有一种“变色玻璃”，能够对阳光起反射作用。建筑物装上这种玻璃，从室内看外面很清楚，从外面看室内却什么也瞧不见。变色玻璃还会随着阳光的强弱而改变颜色的深浅，调节室内的光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7.gif (3404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变色玻璃还会随着阳光的强弱 而改变颜色的深浅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调节室内的光线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所以人们又把这种玻璃叫做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自动窗帘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37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、噪音像一个来无影去无踪的“</a:t>
            </a:r>
            <a:r>
              <a:rPr b="0" lang="zh-CN" sz="4000" spc="-1" strike="noStrike">
                <a:solidFill>
                  <a:srgbClr val="ccccff"/>
                </a:solidFill>
                <a:latin typeface="Arial"/>
              </a:rPr>
              <a:t>隐身人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不像烟尘和废水那样可以集中起来处理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2926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99"/>
                </a:solidFill>
                <a:latin typeface="Arial"/>
                <a:ea typeface="华文楷体"/>
              </a:rPr>
              <a:t>打比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26Z</dcterms:created>
  <dc:creator/>
  <dc:description/>
  <dc:language>en-US</dc:language>
  <cp:lastModifiedBy>abc</cp:lastModifiedBy>
  <dcterms:modified xsi:type="dcterms:W3CDTF">2011-11-29T12:05:11Z</dcterms:modified>
  <cp:revision>62</cp:revision>
  <dc:subject/>
  <dc:title>PowerPoint 演示文稿</dc:title>
</cp:coreProperties>
</file>