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E51-599F-43A5-A1B9-8CB321D1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839016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915360"/>
            <a:ext cx="839016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D4E-5E1C-450D-9333-6D6130F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1C8-BBBC-42FC-94E7-0B6A6D08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600" y="127908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5760" y="127908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91536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600" y="391536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5760" y="391536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75F-59D9-439A-8CD8-4F62CD9B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6054-3625-4B82-ABC3-AF006F57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1800" y="1279080"/>
            <a:ext cx="8390160" cy="50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9F1-94B0-4C78-9031-65737C5E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839016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1A09-3324-4795-9279-5014896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3CAF-CF02-4299-8674-5FA3AE17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8D0B-8B0C-4D96-9D9D-65DF227F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1800" y="299880"/>
            <a:ext cx="839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0A6A-663C-408B-BED8-227FD5AC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180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A57-AD21-404E-B4E2-3DBB3BD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279080"/>
            <a:ext cx="8390160" cy="50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953-884A-4272-9AE2-32309F9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277-D6D4-48A9-9CE7-EAEEDDA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1800" y="3915360"/>
            <a:ext cx="839016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50FE-46FD-4889-A974-8A9AB56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839016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800" y="3915360"/>
            <a:ext cx="839016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4B66-34D0-48B9-8EEC-14A1F1AE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180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EA2-8C36-46CC-83DB-026DEB5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8600" y="127908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5760" y="127908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1800" y="391536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8600" y="391536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5760" y="3915360"/>
            <a:ext cx="270144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00D2-3DC1-4A5E-B8BA-8FEBB82F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839016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402-B58E-40AC-B887-BFE86F83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BBE-6ADB-4033-B819-20D5B5C4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41C-23B2-4C60-AF87-F574C26A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1800" y="299880"/>
            <a:ext cx="839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90D-0E55-4FE3-A20A-41B2CC04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FB0-6D07-4430-B04B-6C06EAA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391536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DB3-F5DB-4401-BE5E-E3CF098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1279080"/>
            <a:ext cx="409428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915360"/>
            <a:ext cx="8390160" cy="24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7DE-43DB-455B-B7E6-985FBDD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图片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矩形 6"/>
            <p:cNvSpPr/>
            <p:nvPr/>
          </p:nvSpPr>
          <p:spPr>
            <a:xfrm>
              <a:off x="0" y="0"/>
              <a:ext cx="9144000" cy="6539040"/>
            </a:xfrm>
            <a:prstGeom prst="rect">
              <a:avLst/>
            </a:prstGeom>
            <a:solidFill>
              <a:srgbClr val="0501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61800" y="1279080"/>
            <a:ext cx="839016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af460b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8200" y="6404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029040" y="640404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57680" y="6404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D959-F447-4D18-BEB6-58FC700D04A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d0e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BC40-BB20-43E6-AC9B-343CEFAB6D6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725400" y="484776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d0e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92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5400" y="484776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7120" y="5636880"/>
            <a:ext cx="77691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d0e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1800" y="1279080"/>
            <a:ext cx="839016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e92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8:23:40Z</dcterms:modified>
  <cp:revision>151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34138</vt:lpwstr>
  </property>
  <property fmtid="{D5CDD505-2E9C-101B-9397-08002B2CF9AE}" pid="3" name="name">
    <vt:lpwstr>A000120150119A18PWBG.ppt</vt:lpwstr>
  </property>
</Properties>
</file>