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E04-6845-4CA6-BF28-BACC216E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200F-6EA5-4D77-924D-2666C083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40B-B308-42A6-9373-56FE8229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8E6-21DA-4F33-AADD-49C6EA96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6DF-156E-46AD-9EA7-8DDDEF1E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2FD-9A3D-4D22-B1DB-E42C86DB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EAB-F958-4E95-975E-E55D20E4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990-F33E-45C4-B776-BEB278C1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296-1F0F-4B6D-8268-CF71C21F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957-5A86-403A-B1C4-EC454B19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B40-B8DC-4EE0-B317-A2AE46D7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84BD-339E-4D84-A779-FDDE9D94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6AD7-CD5E-4624-89F7-3EE16F53BA1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1472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74312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45:45Z</dcterms:created>
  <dc:creator/>
  <dc:description/>
  <dc:language>en-US</dc:language>
  <cp:lastModifiedBy/>
  <dcterms:modified xsi:type="dcterms:W3CDTF">2014-08-29T09:45:4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