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A8C-0B0E-488B-B7AF-4DC9D852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926-51B8-47DA-B321-957BDB69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A85-E3AA-4B83-A1DC-2563BFFE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46C-F016-4B01-A91A-8C086F91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8D3-2EE6-4B44-815B-35788A7D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09A-455E-478B-9335-0F465100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F8D-04F2-4782-8532-6A7B8B67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3F2-220C-46C8-95EF-2ABC7F47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48B-8DEB-407A-A7C8-4A9C7E3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645-610A-4EBE-8E98-52B7274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B83-A328-450A-BCC8-12C0D83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AA5-B8C5-4550-870C-9F132F3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71AC2853-D49C-4D87-8A78-D76142BD9C0D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887640" y="1155600"/>
            <a:ext cx="9160200" cy="10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822240" y="1512720"/>
            <a:ext cx="1549728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50960" y="1512720"/>
            <a:ext cx="15789240" cy="95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942840" y="1655640"/>
            <a:ext cx="15405120" cy="9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5"/>
          <p:cNvSpPr/>
          <p:nvPr/>
        </p:nvSpPr>
        <p:spPr>
          <a:xfrm>
            <a:off x="4608360" y="6697800"/>
            <a:ext cx="64800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8"/>
          <a:stretch/>
        </p:blipFill>
        <p:spPr>
          <a:xfrm>
            <a:off x="749160" y="1512720"/>
            <a:ext cx="15854400" cy="9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710160" y="792000"/>
            <a:ext cx="9285120" cy="108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887640" y="1155600"/>
            <a:ext cx="9160200" cy="10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710160" y="792000"/>
            <a:ext cx="9285120" cy="108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28480" y="1584360"/>
            <a:ext cx="16224480" cy="97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855720" y="1584360"/>
            <a:ext cx="159354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717480" y="1512720"/>
            <a:ext cx="158562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611280" y="1512720"/>
            <a:ext cx="16068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798480" y="1584360"/>
            <a:ext cx="156942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50960" y="1584360"/>
            <a:ext cx="15789240" cy="95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0:41Z</dcterms:created>
  <dc:creator>新教育</dc:creator>
  <dc:description/>
  <dc:language>en-US</dc:language>
  <cp:lastModifiedBy>Sky123.Org</cp:lastModifiedBy>
  <dcterms:modified xsi:type="dcterms:W3CDTF">2015-07-30T09:47:43Z</dcterms:modified>
  <cp:revision>9</cp:revision>
  <dc:subject/>
  <dc:title>幻灯片 1</dc:title>
</cp:coreProperties>
</file>