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D44-2C82-4FFC-9D07-8D82FF4D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273-FAF1-43B3-ACF5-3DC18CC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31A-914F-42FB-BEFA-4ED5006C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BDA-BFBF-4E7B-AAE1-E4C1E0BA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505-D317-450B-82C0-83E03D8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ACC-147B-4A74-BFF3-2274B8B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3EE-9846-4E43-9EDC-E98D1B7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2D8-2525-4902-B9B3-4A1C870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E84-A024-4102-8751-87E19CE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E75-CDE4-4C4A-91B1-5460758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6A6-31CE-4F7F-B5C3-98BAF57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DE9-309F-4DBB-8E44-75D6F44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DD15-2C1F-44AA-8D36-5919D96E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3623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生科院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宣传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11520" y="4054320"/>
            <a:ext cx="28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又名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SKY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宣传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29200" y="5257800"/>
            <a:ext cx="3657600" cy="1371600"/>
          </a:xfrm>
          <a:prstGeom prst="horizont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371600"/>
            <a:ext cx="8381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一、 配合学校党、团委中心工作，宣传党的路线、方针和新时期的工作重点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二、 负责系内各部主办的各类活动的宣传、策划工作和其他设计，确实落实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三、 定期征集同学关于系生活、活动的作品，报道系内动态，及时反映广大同学思想状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四、 培养多能实干的宣传干部，充实和壮大宣传队伍，同时抓好各班的宣传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五、 负责系专项墙报的宣传工作和宣传栏的管理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六、 推广学生会、团委务实进取、勇于开拓的良好形象，促进学生会、团委与社会经济实体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七、 制作并管理本系网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生科院团委宣传部日常事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48640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官方版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609480"/>
            <a:ext cx="6858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不喜欢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官方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会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3399"/>
                </a:solidFill>
                <a:latin typeface="Impact"/>
                <a:ea typeface="新宋体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传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拒绝呆板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371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其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的工作就两个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514600"/>
            <a:ext cx="61722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宣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各种宣传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择手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04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81280" y="1600200"/>
            <a:ext cx="5410440" cy="405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52280" y="259092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523880" y="129528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57200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571500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黑体"/>
                <a:ea typeface="黑体"/>
              </a:rPr>
              <a:t>部门精神 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</a:t>
            </a:r>
            <a:r>
              <a:rPr b="0" lang="zh-CN" sz="3200" spc="-1" strike="noStrike">
                <a:solidFill>
                  <a:srgbClr val="9999ff"/>
                </a:solidFill>
                <a:latin typeface="Arial"/>
                <a:ea typeface="黑体"/>
              </a:rPr>
              <a:t>这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瑞士军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可以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257800" cy="503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495288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求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品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不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次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创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没有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部门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像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  <a:ea typeface="黑体"/>
              </a:rPr>
              <a:t>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什么</a:t>
            </a:r>
            <a:r>
              <a:rPr b="0" lang="zh-CN" sz="2400" spc="-1" strike="noStrike">
                <a:solidFill>
                  <a:srgbClr val="9933ff"/>
                </a:solidFill>
                <a:latin typeface="Arial"/>
                <a:ea typeface="黑体"/>
              </a:rPr>
              <a:t>酱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都能打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5791320" cy="381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4648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者像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样，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突破常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富有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内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1295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虽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我们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希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0:56:29Z</dcterms:created>
  <dc:creator>麦子</dc:creator>
  <dc:description/>
  <dc:language>en-US</dc:language>
  <cp:lastModifiedBy>hp</cp:lastModifiedBy>
  <dcterms:modified xsi:type="dcterms:W3CDTF">2011-09-22T04:33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