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100"/>
                            </p:stCondLst>
                            <p:childTnLst>
                              <p:par>
                                <p:cTn id="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"/>
                            </p:stCondLst>
                            <p:childTnLst>
                              <p:par>
                                <p:cTn id="3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900"/>
                            </p:stCondLst>
                            <p:childTnLst>
                              <p:par>
                                <p:cTn id="3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4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7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100"/>
                            </p:stCondLst>
                            <p:childTnLst>
                              <p:par>
                                <p:cTn id="3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600"/>
                            </p:stCondLst>
                            <p:childTnLst>
                              <p:par>
                                <p:cTn id="3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081080" y="2073240"/>
            <a:ext cx="69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7580160" y="-8424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93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97" name="Group 7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98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02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06" name="Group 16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07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13"/>
          <p:cNvSpPr/>
          <p:nvPr/>
        </p:nvSpPr>
        <p:spPr>
          <a:xfrm>
            <a:off x="7580160" y="-8424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6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6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6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6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13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3"/>
          <p:cNvSpPr/>
          <p:nvPr/>
        </p:nvSpPr>
        <p:spPr>
          <a:xfrm>
            <a:off x="7580160" y="-8424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17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10368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1036636" y="519065"/>
                  </a:moveTo>
                  <a:lnTo>
                    <a:pt x="1036636" y="519065"/>
                  </a:lnTo>
                  <a:cubicBezTo>
                    <a:pt x="1036224" y="805032"/>
                    <a:pt x="804286" y="1036637"/>
                    <a:pt x="518318" y="1036637"/>
                  </a:cubicBezTo>
                  <a:cubicBezTo>
                    <a:pt x="232058" y="1036637"/>
                    <a:pt x="-1" y="804577"/>
                    <a:pt x="-1" y="518318"/>
                  </a:cubicBezTo>
                  <a:cubicBezTo>
                    <a:pt x="-1" y="232134"/>
                    <a:pt x="231940" y="106"/>
                    <a:pt x="518124" y="-1"/>
                  </a:cubicBezTo>
                  <a:lnTo>
                    <a:pt x="518222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5" y="660417"/>
                    <a:pt x="376218" y="775611"/>
                    <a:pt x="518318" y="775611"/>
                  </a:cubicBezTo>
                  <a:cubicBezTo>
                    <a:pt x="660272" y="775611"/>
                    <a:pt x="775406" y="660642"/>
                    <a:pt x="775610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5184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3" y="1"/>
                  </a:lnTo>
                  <a:cubicBezTo>
                    <a:pt x="805330" y="682"/>
                    <a:pt x="1036637" y="232541"/>
                    <a:pt x="1036637" y="518319"/>
                  </a:cubicBezTo>
                  <a:cubicBezTo>
                    <a:pt x="1036637" y="518319"/>
                    <a:pt x="1036636" y="518319"/>
                    <a:pt x="1036636" y="518320"/>
                  </a:cubicBezTo>
                  <a:lnTo>
                    <a:pt x="777478" y="518319"/>
                  </a:lnTo>
                  <a:cubicBezTo>
                    <a:pt x="777478" y="375430"/>
                    <a:pt x="661824" y="259500"/>
                    <a:pt x="518936" y="259160"/>
                  </a:cubicBezTo>
                  <a:lnTo>
                    <a:pt x="519554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121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7825" y="1036637"/>
                  </a:moveTo>
                  <a:lnTo>
                    <a:pt x="517825" y="1036636"/>
                  </a:lnTo>
                  <a:cubicBezTo>
                    <a:pt x="231758" y="1036364"/>
                    <a:pt x="0" y="804384"/>
                    <a:pt x="0" y="518318"/>
                  </a:cubicBezTo>
                  <a:cubicBezTo>
                    <a:pt x="0" y="232134"/>
                    <a:pt x="231941" y="106"/>
                    <a:pt x="518125" y="-1"/>
                  </a:cubicBezTo>
                  <a:lnTo>
                    <a:pt x="518222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5" y="660321"/>
                    <a:pt x="376069" y="775475"/>
                    <a:pt x="518073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103644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3" y="1"/>
                  </a:lnTo>
                  <a:cubicBezTo>
                    <a:pt x="805330" y="682"/>
                    <a:pt x="1036637" y="232541"/>
                    <a:pt x="1036637" y="518319"/>
                  </a:cubicBezTo>
                  <a:cubicBezTo>
                    <a:pt x="1036637" y="803881"/>
                    <a:pt x="805664" y="1035651"/>
                    <a:pt x="520103" y="1036634"/>
                  </a:cubicBezTo>
                  <a:lnTo>
                    <a:pt x="519201" y="774314"/>
                  </a:lnTo>
                  <a:cubicBezTo>
                    <a:pt x="660239" y="773828"/>
                    <a:pt x="774317" y="659357"/>
                    <a:pt x="774317" y="518318"/>
                  </a:cubicBezTo>
                  <a:cubicBezTo>
                    <a:pt x="774317" y="377172"/>
                    <a:pt x="660074" y="262657"/>
                    <a:pt x="518928" y="262320"/>
                  </a:cubicBezTo>
                  <a:lnTo>
                    <a:pt x="519554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0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125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51948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1" y="519418"/>
                  </a:moveTo>
                  <a:lnTo>
                    <a:pt x="1" y="519417"/>
                  </a:lnTo>
                  <a:cubicBezTo>
                    <a:pt x="0" y="519051"/>
                    <a:pt x="0" y="518685"/>
                    <a:pt x="0" y="518319"/>
                  </a:cubicBezTo>
                  <a:cubicBezTo>
                    <a:pt x="0" y="232135"/>
                    <a:pt x="231941" y="107"/>
                    <a:pt x="518125" y="0"/>
                  </a:cubicBezTo>
                  <a:lnTo>
                    <a:pt x="518223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5" y="518500"/>
                    <a:pt x="261025" y="518682"/>
                    <a:pt x="261025" y="518864"/>
                  </a:cubicBezTo>
                  <a:lnTo>
                    <a:pt x="1" y="51941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519555" y="1"/>
                  </a:moveTo>
                  <a:lnTo>
                    <a:pt x="519554" y="1"/>
                  </a:lnTo>
                  <a:cubicBezTo>
                    <a:pt x="805331" y="682"/>
                    <a:pt x="1036638" y="232541"/>
                    <a:pt x="1036638" y="518319"/>
                  </a:cubicBezTo>
                  <a:cubicBezTo>
                    <a:pt x="1036638" y="804578"/>
                    <a:pt x="804578" y="1036638"/>
                    <a:pt x="518319" y="1036638"/>
                  </a:cubicBezTo>
                  <a:cubicBezTo>
                    <a:pt x="232059" y="1036638"/>
                    <a:pt x="0" y="804578"/>
                    <a:pt x="0" y="518319"/>
                  </a:cubicBezTo>
                  <a:cubicBezTo>
                    <a:pt x="0" y="518318"/>
                    <a:pt x="0" y="518317"/>
                    <a:pt x="0" y="518317"/>
                  </a:cubicBezTo>
                  <a:lnTo>
                    <a:pt x="260922" y="518318"/>
                  </a:lnTo>
                  <a:cubicBezTo>
                    <a:pt x="260922" y="660474"/>
                    <a:pt x="376162" y="775715"/>
                    <a:pt x="518319" y="775715"/>
                  </a:cubicBezTo>
                  <a:cubicBezTo>
                    <a:pt x="660475" y="775715"/>
                    <a:pt x="775716" y="660474"/>
                    <a:pt x="775716" y="518318"/>
                  </a:cubicBezTo>
                  <a:cubicBezTo>
                    <a:pt x="775716" y="376400"/>
                    <a:pt x="660848" y="261259"/>
                    <a:pt x="518932" y="26092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129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>
                <a:gd name="textAreaLeft" fmla="*/ 151560 w 1036800"/>
                <a:gd name="textAreaRight" fmla="*/ 885240 w 1036800"/>
                <a:gd name="textAreaTop" fmla="*/ 151560 h 1036440"/>
                <a:gd name="textAreaBottom" fmla="*/ 88488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0" y="518319"/>
                  </a:moveTo>
                  <a:lnTo>
                    <a:pt x="0" y="518319"/>
                  </a:lnTo>
                  <a:cubicBezTo>
                    <a:pt x="0" y="232059"/>
                    <a:pt x="232059" y="1"/>
                    <a:pt x="518319" y="1"/>
                  </a:cubicBezTo>
                  <a:cubicBezTo>
                    <a:pt x="518319" y="1"/>
                    <a:pt x="518319" y="1"/>
                    <a:pt x="518319" y="1"/>
                  </a:cubicBezTo>
                  <a:cubicBezTo>
                    <a:pt x="804579" y="1"/>
                    <a:pt x="1036638" y="232060"/>
                    <a:pt x="1036638" y="518320"/>
                  </a:cubicBezTo>
                  <a:cubicBezTo>
                    <a:pt x="1036638" y="518320"/>
                    <a:pt x="1036637" y="518320"/>
                    <a:pt x="1036637" y="518321"/>
                  </a:cubicBezTo>
                  <a:lnTo>
                    <a:pt x="1036638" y="518321"/>
                  </a:lnTo>
                  <a:cubicBezTo>
                    <a:pt x="1036638" y="804580"/>
                    <a:pt x="804578" y="1036640"/>
                    <a:pt x="518319" y="1036640"/>
                  </a:cubicBezTo>
                  <a:cubicBezTo>
                    <a:pt x="232059" y="1036640"/>
                    <a:pt x="0" y="804580"/>
                    <a:pt x="0" y="518321"/>
                  </a:cubicBezTo>
                  <a:cubicBezTo>
                    <a:pt x="0" y="518320"/>
                    <a:pt x="0" y="518320"/>
                    <a:pt x="0" y="518320"/>
                  </a:cubicBezTo>
                  <a:lnTo>
                    <a:pt x="0" y="518319"/>
                  </a:lnTo>
                  <a:close/>
                  <a:moveTo>
                    <a:pt x="259159" y="518319"/>
                  </a:moveTo>
                  <a:lnTo>
                    <a:pt x="259159" y="518319"/>
                  </a:lnTo>
                  <a:cubicBezTo>
                    <a:pt x="259159" y="661448"/>
                    <a:pt x="375188" y="777478"/>
                    <a:pt x="518319" y="777478"/>
                  </a:cubicBezTo>
                  <a:cubicBezTo>
                    <a:pt x="661449" y="777478"/>
                    <a:pt x="777479" y="661448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lnTo>
                    <a:pt x="518318" y="259160"/>
                  </a:lnTo>
                  <a:cubicBezTo>
                    <a:pt x="375188" y="259160"/>
                    <a:pt x="259159" y="375189"/>
                    <a:pt x="259159" y="518318"/>
                  </a:cubicBezTo>
                  <a:lnTo>
                    <a:pt x="259159" y="518319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132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135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3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138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6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141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9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144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4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149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39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154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44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159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13"/>
          <p:cNvSpPr/>
          <p:nvPr/>
        </p:nvSpPr>
        <p:spPr>
          <a:xfrm>
            <a:off x="5214960" y="-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"/>
                            </p:stCondLst>
                            <p:childTnLst>
                              <p:par>
                                <p:cTn id="1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165" name="Group 3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166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170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174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5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178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9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182" name="Group 2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183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4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187" name="Group 25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188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9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192" name="Group 30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193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3"/>
          <p:cNvSpPr/>
          <p:nvPr/>
        </p:nvSpPr>
        <p:spPr>
          <a:xfrm>
            <a:off x="5214960" y="-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1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600"/>
                            </p:stCondLst>
                            <p:childTnLst>
                              <p:par>
                                <p:cTn id="2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198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4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00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3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09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27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223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52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248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>
                <a:gd name="textAreaLeft" fmla="*/ 0 w 2716200"/>
                <a:gd name="textAreaRight" fmla="*/ 2716560 w 27162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13"/>
          <p:cNvSpPr/>
          <p:nvPr/>
        </p:nvSpPr>
        <p:spPr>
          <a:xfrm>
            <a:off x="5214960" y="-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268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1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277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284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527673" y="692190"/>
                  </a:moveTo>
                  <a:lnTo>
                    <a:pt x="2527673" y="692189"/>
                  </a:lnTo>
                  <a:cubicBezTo>
                    <a:pt x="2639417" y="892535"/>
                    <a:pt x="2698294" y="1118068"/>
                    <a:pt x="2698747" y="1347501"/>
                  </a:cubicBezTo>
                  <a:lnTo>
                    <a:pt x="1349375" y="1350169"/>
                  </a:lnTo>
                  <a:lnTo>
                    <a:pt x="2527673" y="692190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698748" y="1347766"/>
                  </a:moveTo>
                  <a:lnTo>
                    <a:pt x="2698747" y="1347766"/>
                  </a:lnTo>
                  <a:cubicBezTo>
                    <a:pt x="2698749" y="1348566"/>
                    <a:pt x="2698750" y="1349367"/>
                    <a:pt x="2698750" y="1350168"/>
                  </a:cubicBezTo>
                  <a:cubicBezTo>
                    <a:pt x="2698750" y="1669353"/>
                    <a:pt x="2585736" y="1978217"/>
                    <a:pt x="2379764" y="2221949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379817" y="2221888"/>
                  </a:moveTo>
                  <a:lnTo>
                    <a:pt x="2379816" y="2221887"/>
                  </a:lnTo>
                  <a:cubicBezTo>
                    <a:pt x="2123429" y="2525315"/>
                    <a:pt x="1746482" y="2700337"/>
                    <a:pt x="1349375" y="2700337"/>
                  </a:cubicBezTo>
                  <a:cubicBezTo>
                    <a:pt x="1346256" y="2700337"/>
                    <a:pt x="1343137" y="2700326"/>
                    <a:pt x="1340019" y="2700304"/>
                  </a:cubicBezTo>
                  <a:lnTo>
                    <a:pt x="1349375" y="1350169"/>
                  </a:ln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1343158" y="2700323"/>
                  </a:moveTo>
                  <a:lnTo>
                    <a:pt x="1343158" y="2700322"/>
                  </a:lnTo>
                  <a:cubicBezTo>
                    <a:pt x="917761" y="2698361"/>
                    <a:pt x="518197" y="2495797"/>
                    <a:pt x="265013" y="2153743"/>
                  </a:cubicBezTo>
                  <a:lnTo>
                    <a:pt x="1349375" y="1350169"/>
                  </a:lnTo>
                  <a:lnTo>
                    <a:pt x="1343158" y="2700323"/>
                  </a:ln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68727" y="2158736"/>
                  </a:moveTo>
                  <a:lnTo>
                    <a:pt x="268726" y="2158736"/>
                  </a:lnTo>
                  <a:cubicBezTo>
                    <a:pt x="94272" y="1925303"/>
                    <a:pt x="0" y="1641649"/>
                    <a:pt x="0" y="1350169"/>
                  </a:cubicBezTo>
                  <a:cubicBezTo>
                    <a:pt x="0" y="1217120"/>
                    <a:pt x="19654" y="1084803"/>
                    <a:pt x="58325" y="957506"/>
                  </a:cubicBezTo>
                  <a:lnTo>
                    <a:pt x="1349375" y="1350169"/>
                  </a:lnTo>
                  <a:lnTo>
                    <a:pt x="268727" y="2158736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59938" y="952236"/>
                  </a:moveTo>
                  <a:lnTo>
                    <a:pt x="59937" y="952235"/>
                  </a:lnTo>
                  <a:cubicBezTo>
                    <a:pt x="234430" y="386154"/>
                    <a:pt x="757327" y="0"/>
                    <a:pt x="1349375" y="0"/>
                  </a:cubicBezTo>
                  <a:cubicBezTo>
                    <a:pt x="1349375" y="0"/>
                    <a:pt x="1349376" y="0"/>
                    <a:pt x="1349377" y="0"/>
                  </a:cubicBezTo>
                  <a:lnTo>
                    <a:pt x="1349375" y="1350169"/>
                  </a:ln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1348135" y="1"/>
                  </a:moveTo>
                  <a:lnTo>
                    <a:pt x="1348134" y="0"/>
                  </a:lnTo>
                  <a:cubicBezTo>
                    <a:pt x="1348548" y="0"/>
                    <a:pt x="1348961" y="0"/>
                    <a:pt x="1349375" y="0"/>
                  </a:cubicBezTo>
                  <a:cubicBezTo>
                    <a:pt x="1839900" y="0"/>
                    <a:pt x="2291789" y="266350"/>
                    <a:pt x="2529586" y="695633"/>
                  </a:cubicBezTo>
                  <a:lnTo>
                    <a:pt x="1349375" y="1350169"/>
                  </a:lnTo>
                  <a:lnTo>
                    <a:pt x="1348135" y="1"/>
                  </a:ln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214960" y="-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"/>
                            </p:stCondLst>
                            <p:childTnLst>
                              <p:par>
                                <p:cTn id="2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grpSp>
        <p:nvGrpSpPr>
          <p:cNvPr id="295" name="Group 3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296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>
              <a:off x="3500280" y="3513240"/>
              <a:ext cx="5144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5214960" y="-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Chris</dc:creator>
  <dc:description/>
  <dc:language>en-US</dc:language>
  <cp:lastModifiedBy>Bella </cp:lastModifiedBy>
  <dcterms:modified xsi:type="dcterms:W3CDTF">2015-08-14T03:34:3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