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258-D196-401A-B8BA-6C2E37FC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38F-8DEB-4C6B-8606-BCCD85D9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195-B5BA-45E9-BA52-D88C7CA0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6B5-1082-4105-A9E8-E82CE66F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11A6-A2AD-4018-9BE3-94D6FC78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FA8B-FE13-4B26-A40C-82C3D23E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B173-B98F-46E5-917D-FDE46984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0E56-E06F-46FE-9D1D-B6D8127F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7355-EFAC-45C9-8A7D-3C9D6719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FA13-EC1F-4F99-9F75-EDA8A0C3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CBDB-A9AC-4665-9AB6-37EB6278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569-F957-4FA2-A5AE-38C951C0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8254-6C34-4B4A-8441-0340832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231F-8819-4A35-A587-F58B987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46AD-5B9C-48BA-8E66-8AC6C8F7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5FC5-45C7-41EC-8BB9-258EED98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3C0A-7A96-426E-A8C2-30EA8DE0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C418F-165B-4962-8318-E479B4EC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EFCD-D26F-4B7E-9770-41C0BF98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CCC30-E80B-4DB6-BD4C-08FC3BEF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0B060-97B3-499A-AD3A-DC84FF33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5D85-C2EF-4414-8160-2496D6E1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5F1-4C87-458E-A2A6-D5718611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CBB3-657C-4013-8833-E3BE1A2E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9327-22D7-48D3-93CF-44176362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24CB-BB5F-45C6-9654-11F2B035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2630-DEAA-4CAE-9AB8-2094BCC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D09A-A385-4DE0-9451-EA774C38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37FF-1C28-4F96-83B6-060FA463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DBFF-7898-4A02-A7FF-13C2D4F1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215A-F7AB-47E1-936F-9A07616B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AF041-7668-469B-A98B-D57826CD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6B9BD-4412-4023-8588-A4B1D2C8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CEE-C78C-484A-8669-15B13951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498C6-B221-4458-B1E7-BB253546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87FC6-EB57-43E0-9A9C-6ED5198E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D44A5-17FE-4B1D-A4AF-4BCC0B9C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284F-A476-475B-8D11-0E8B0ADD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DD76-F18D-421A-95DF-5EE9ED0F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E38D-FF9B-4AD0-B29D-AE83906F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7352-01FB-4D7B-A37B-7984AB7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C277-BE9F-464F-A5E8-C5DE1A5B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86F2F-0AF6-4253-B283-4A2A2E18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AB8-9FF4-4561-BBAB-3133FE19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D3A-AEFB-46CF-A620-73F4BFD9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398-031A-435A-8E86-7E35F950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CE0-972D-4B13-8552-4183578F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D54-802C-471F-98AD-DEF94970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E711-A719-45DE-A103-01A1B5FEB318}" type="slidenum"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797960" y="7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76320" y="-3816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1905120"/>
            <a:ext cx="6934320" cy="2743200"/>
            <a:chOff x="0" y="1905120"/>
            <a:chExt cx="6934320" cy="2743200"/>
          </a:xfrm>
        </p:grpSpPr>
        <p:sp>
          <p:nvSpPr>
            <p:cNvPr id="46" name=""/>
            <p:cNvSpPr/>
            <p:nvPr/>
          </p:nvSpPr>
          <p:spPr>
            <a:xfrm>
              <a:off x="0" y="1905120"/>
              <a:ext cx="419112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280" y="1905120"/>
              <a:ext cx="6782040" cy="2743200"/>
            </a:xfrm>
            <a:prstGeom prst="flowChartAlternate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64008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5715000"/>
            <a:ext cx="2133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ffffff"/>
                </a:solidFill>
                <a:latin typeface="Times New Roman"/>
                <a:ea typeface="Gulim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5715000"/>
            <a:ext cx="28958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ffffff"/>
                </a:solidFill>
                <a:latin typeface="Times New Roman"/>
                <a:ea typeface="Gulim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5715000"/>
            <a:ext cx="2133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C817-4C47-4F5B-84B5-8B7905753D60}" type="slidenum">
              <a:rPr b="0" lang="zh-TW" sz="11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28255" t="39380" r="47658" b="23779"/>
          <a:stretch/>
        </p:blipFill>
        <p:spPr>
          <a:xfrm rot="2737200">
            <a:off x="2673360" y="755280"/>
            <a:ext cx="234936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28255" t="39380" r="60809" b="30911"/>
          <a:stretch/>
        </p:blipFill>
        <p:spPr>
          <a:xfrm rot="2395200">
            <a:off x="926640" y="4038480"/>
            <a:ext cx="106704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28255" t="59587" r="47658" b="23779"/>
          <a:stretch/>
        </p:blipFill>
        <p:spPr>
          <a:xfrm rot="10489800">
            <a:off x="3504960" y="152280"/>
            <a:ext cx="2349360" cy="106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1034400">
            <a:off x="5522760" y="28479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505320" y="1905120"/>
            <a:ext cx="2028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543800" y="22860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69080" y="67320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76212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425960"/>
            <a:ext cx="822924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682A-8908-42E1-8A96-EC54AFEB8935}" type="slidenum"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899480" y="21600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76320" y="-7632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34CE-E614-4A85-B168-65DFEBC6B8E5}" type="slidenum"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rcRect l="26151" t="28126" r="42945" b="55469"/>
          <a:stretch/>
        </p:blipFill>
        <p:spPr>
          <a:xfrm>
            <a:off x="-76320" y="-7632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 rot="850200">
            <a:off x="7608960" y="28908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aike.baidu.com/view/1384847.htm" TargetMode="External"/><Relationship Id="rId2" Type="http://schemas.openxmlformats.org/officeDocument/2006/relationships/hyperlink" Target="http://baike.baidu.com/view/820145.htm" TargetMode="External"/><Relationship Id="rId3" Type="http://schemas.openxmlformats.org/officeDocument/2006/relationships/hyperlink" Target="http://baike.baidu.com/view/472421.htm" TargetMode="External"/><Relationship Id="rId4" Type="http://schemas.openxmlformats.org/officeDocument/2006/relationships/hyperlink" Target="http://baike.baidu.com/view/3895693.htm" TargetMode="External"/><Relationship Id="rId5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88802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343362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view/343362.htm" TargetMode="External"/><Relationship Id="rId2" Type="http://schemas.openxmlformats.org/officeDocument/2006/relationships/hyperlink" Target="http://baike.baidu.com/view/343362.htm" TargetMode="External"/><Relationship Id="rId3" Type="http://schemas.openxmlformats.org/officeDocument/2006/relationships/hyperlink" Target="http://baike.baidu.com/view/91489.htm" TargetMode="External"/><Relationship Id="rId4" Type="http://schemas.openxmlformats.org/officeDocument/2006/relationships/hyperlink" Target="http://baike.baidu.com/view/343362.htm" TargetMode="External"/><Relationship Id="rId5" Type="http://schemas.openxmlformats.org/officeDocument/2006/relationships/hyperlink" Target="http://baike.baidu.com/view/343362.htm" TargetMode="External"/><Relationship Id="rId6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ike.baidu.com/view/343362.htm" TargetMode="External"/><Relationship Id="rId2" Type="http://schemas.openxmlformats.org/officeDocument/2006/relationships/hyperlink" Target="http://baike.baidu.com/view/2456677.htm" TargetMode="External"/><Relationship Id="rId3" Type="http://schemas.openxmlformats.org/officeDocument/2006/relationships/hyperlink" Target="http://baike.baidu.com/view/359120.htm" TargetMode="External"/><Relationship Id="rId4" Type="http://schemas.openxmlformats.org/officeDocument/2006/relationships/hyperlink" Target="http://baike.baidu.com/view/40167.htm" TargetMode="External"/><Relationship Id="rId5" Type="http://schemas.openxmlformats.org/officeDocument/2006/relationships/hyperlink" Target="http://baike.baidu.com/view/343362.htm" TargetMode="External"/><Relationship Id="rId6" Type="http://schemas.openxmlformats.org/officeDocument/2006/relationships/hyperlink" Target="http://baike.baidu.com/view/343362.htm" TargetMode="External"/><Relationship Id="rId7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aike.baidu.com/view/128426.htm" TargetMode="External"/><Relationship Id="rId2" Type="http://schemas.openxmlformats.org/officeDocument/2006/relationships/hyperlink" Target="http://baike.baidu.com/view/343362.htm" TargetMode="External"/><Relationship Id="rId3" Type="http://schemas.openxmlformats.org/officeDocument/2006/relationships/hyperlink" Target="http://baike.baidu.com/view/343362.htm" TargetMode="External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aike.baidu.com/view/747373.htm" TargetMode="External"/><Relationship Id="rId2" Type="http://schemas.openxmlformats.org/officeDocument/2006/relationships/hyperlink" Target="http://baike.baidu.com/view/1035806.htm" TargetMode="External"/><Relationship Id="rId3" Type="http://schemas.openxmlformats.org/officeDocument/2006/relationships/hyperlink" Target="http://baike.baidu.com/view/1337473.htm" TargetMode="External"/><Relationship Id="rId4" Type="http://schemas.openxmlformats.org/officeDocument/2006/relationships/hyperlink" Target="http://baike.baidu.com/view/201078.htm" TargetMode="External"/><Relationship Id="rId5" Type="http://schemas.openxmlformats.org/officeDocument/2006/relationships/hyperlink" Target="http://baike.baidu.com/view/21113.htm" TargetMode="External"/><Relationship Id="rId6" Type="http://schemas.openxmlformats.org/officeDocument/2006/relationships/hyperlink" Target="http://baike.baidu.com/view/244473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64008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迷你简瘦金书"/>
              </a:rPr>
              <a:t>薛宝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宝钗</a:t>
            </a:r>
            <a:r>
              <a:rPr b="0" lang="en-US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------</a:t>
            </a: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诗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：忆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怅望西风抱闷思，蓼红苇白断肠时。 空篱旧圃秋无迹，瘦月清霜梦有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念念心随归雁远，寥寥坐听晚砧痴。 谁怜为我黄花病，慰语重阳会有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：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画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余戏笔不知狂，岂是丹青费较量。聚叶泼成千点墨，攒花染出几霜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浓神会风前影，跳脱秋生腕底香。莫认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东篱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闲采掇，粘屏聊以慰重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：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螃蟹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桂霭桐阴坐举觞，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长安涎口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重阳。眼前道路无经纬，皮里春秋空黑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未敌腥还用菊，性防积冷定需姜。于今落釜成何益？月浦空余禾黍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：临江仙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玉堂前春解舞，东风卷得均匀。 蜂团蝶阵乱纷纷。 几曾随逝水，岂必委芳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缕千丝终不改，任他随聚随分。韶华休笑本无根， 好风凭借力，送我上青云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宝钗</a:t>
            </a:r>
            <a:r>
              <a:rPr b="0" lang="en-US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------</a:t>
            </a: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诗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：山门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生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漫揾英雄泪，相离处士家。谢慈悲剃度在莲台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缘法转眼分离乍。赤条条来去无牵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里讨烟蓑雨笠卷单行？一任俺芒鞋破钵随缘化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：此曲为宝钗所最爱。宝钗在自己生日这天，将此曲推荐给宝玉，也是宝钗本人的一种禅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：邯郸梦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扫花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赏花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凤毛翎扎帚叉，闲为仙人扫落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看那风起玉尘沙。猛可的那一层云下，抵多少门外即天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再休要剑斩黄龙一线儿差，再休向东老贫穷卖酒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与俺眼向云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洞宾呵，您得了人可便早些儿回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迟呵，错教人留恨碧桃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：此曲被作者巧妙地穿插在宝钗抽取花名签的一段文字当中。作者巧借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邯郸梦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彰显宝钗对老庄、禅宗方面的博知及宝钗博学多识的一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102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066680" y="23623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迷你简瘦金书"/>
                <a:ea typeface="迷你简瘦金书"/>
              </a:rPr>
              <a:t>谢谢观赏</a:t>
            </a:r>
            <a:r>
              <a:rPr b="0" lang="en-US" sz="8800" spc="-1" strike="noStrike">
                <a:solidFill>
                  <a:srgbClr val="000000"/>
                </a:solidFill>
                <a:latin typeface="迷你简瘦金书"/>
                <a:ea typeface="迷你简瘦金书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宝钗</a:t>
            </a:r>
            <a:r>
              <a:rPr b="0" lang="en-US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------</a:t>
            </a: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博学多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1896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在“大观园试才题匾额”（第十七回、十八回）中虽屡受贾政喝斥，却未能吓阻住他的旁征博引，侃侃而谈，他的出口成章给人留下了极深刻的印象。只是一到薛林二位高人特别是宝钗面前，宝玉的学问就大为逊色了。像元妃归省时，她对宝玉诗中“绿玉”改“绿蜡”的指点，以及回答湘云关于“桰树”的解释等，都显豁出其学识的渊博。在“大观园试才题匾额”（第十七回、十八回）中虽屡受贾政喝斥，却未能吓阻住他的旁征博引，侃侃而谈，他的出口成章给人留下了极深刻的印象。只是一到薛林二位高人特别是宝钗面前，宝玉的学问就大为逊色了。像元妃归省时，她对宝玉诗中“绿玉”改“绿蜡”的指点，以及回答湘云关于“桰树”的解释等，都显豁出其学识的渊博。再有，贾母给宝钗过生日，叫大家点戏，宝钗点了一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鲁智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醉闹五台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宝玉不以为然，立刻受到“教训”：“你白听了这几年的戏，那里知道这出戏的好处，排场又好，辞藻更妙。”宝玉道：“我从来怕这些热闹。”宝钗笑道：“要说这一出热闹。你还算不知戏呢。你过来，我告诉你，这一出戏热闹不热闹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是一套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点绛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铿锵顿挫，韵律不用说是好的了，只那词藻中有一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寄生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填的极妙，你何曾知道。”宝玉见说的这般好，便凑近来央告：“好姐姐，念与我听听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宝钗</a:t>
            </a:r>
            <a:r>
              <a:rPr b="0" lang="en-US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------</a:t>
            </a: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博学多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宝钗便念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漫揾英雄泪，相离处士家。谢慈悲剃度在莲台下。没缘法转眼分离乍。赤条条来去无牵挂。那里讨烟蓑雨笠卷单行？一任俺芒鞋破钵随缘化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宝玉听了，喜的拍膝画圈，称赏不已，又赞宝钗无书不知，林黛玉道：“安静看戏罢，还没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山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你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妆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了。说的湘云也笑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段情节，充分表现出薛宝钗品戏的趣味之高，而林黛玉含酸的讥讽，也点染出她对戏文的顺手拈来般的熟悉，反衬出贾宝玉只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西厢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牡丹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是好戏的视野的局限。随后，由看戏引发了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黛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湘云的一点纠纷，宝玉好意想掩盖化解，却两头不讨好，想起了“赤条条来去无牵挂”，自觉心有顿悟，就提笔写了一偈：你证我证，心证意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是无有证，斯可云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无可云证，是立足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又填了一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寄生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无我原非你，从他不解伊。肆行无碍凭来去。茫茫着甚悲愁喜，纷纷说甚亲疏密。从前碌碌却因何，到如今回头试想真无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419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薛宝钗</a:t>
            </a:r>
            <a:r>
              <a:rPr b="0" lang="en-US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------</a:t>
            </a: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金玉良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薛宝钗在宝、黛、钗爱情婚姻中的态度和作用，历来是分析宝钗这一形像的重要内容。在一般读者的心目中，钗、黛是一对情敌，有人甚至认为，宝钗为了争夺“宝二奶奶”的宝座费尽了心机；是她“欺骗了宝玉，害死了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黛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，爬上了宝二奶奶的宝座。她简直成了破坏宝黛爱情的元凶和杀害林黛玉的刽子手了。但也有读者认为薛宝钗比林黛玉更有资格做贾宝玉的妻子，毕竟当时是封建社会，而薛宝钗比林黛玉更恪守妇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从作品的描写中，得不出这样的结论；我们看到的是生活的和艺术的真实。在二人关系的开始阶段；她们之间确实是颇为紧张的；在宝黛青梅竹马，情甜蜜意之时，突然来了一个“品格端方，容貌美丽”的薛宝钗，这对林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黛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来说不能不是一个威胁；特别是当有了“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金玉良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之说后，黛玉更感到宝钗是她的一个实力雄厚的竞争者。所以，为维护爱情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黛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对宝钗是颇有敌意的。相反，宝钗对宝、黛的亲近，倒是采取了明智的回避做法。关于这，书中有多次明确的描写。说宝钗为争夺“宝二奶奶”的宝座，处处监视宝、黛，陷害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/>
              </a:rPr>
              <a:t>黛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是不符合书中描写的实际情况的，是没有任何根据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薛宝钗</a:t>
            </a:r>
            <a:r>
              <a:rPr b="0" lang="en-US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------</a:t>
            </a: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金玉良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并不是说宝钗对宝玉毫无感情，她对宝玉是有爱憎之意的；且时有流露。但由于封建道德观念的严重束缚，使她连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黛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那样痛苦曲折地表达自己伤感情的勇气也没有，在她看来，婚姻大事完全决定于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父母之命，媒妁之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如果表现出任何一点主动的意图和行动，都是伤风败俗的可耻行为。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薛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说她爱上宝玉的话，因太伤了她的廉耻；气得她“整哭了一夜”。事实上，宝钗对宝、黛二人的亲厚，往往表现出一种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局外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超然态度。当宝钗听到有人开他们二人的玩笑时，常常添上几句凑趣；有时自己也开他们的玩笑，并未表现出拈酸吃醋的形景。这就是钗黛和好前、她们在爱情问题上的态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出乎一些人的意料，这一对“情场冤家”终于和解了，而且是以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/>
              </a:rPr>
              <a:t>黛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主动认错，承认“往日竟是我错了”而导致和解的。有人认为，这是阴谋家薛宝钗的胜利，幼稚的林黛玉上了当。果真是这样吗？请读渎“秋雨夕闷制秋雨词，金兰契互剖金兰语”那一回吧。宝钗确实征服了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6"/>
              </a:rPr>
              <a:t>黛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但那不是用的阴谋诡计，而是用她忠诚信奉的封建礼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薛宝钗</a:t>
            </a:r>
            <a:r>
              <a:rPr b="0" lang="en-US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------</a:t>
            </a: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金玉良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从这件事中，黛玉看出宝钗并未拿她的“行为失检”作话柄，到处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张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大作文章，而是真心地劝说她，开导她，因而消除了“疑癖”，主动作了和解的姿态，此后，通过“薛姨妈爱语慰痴颦”等章回，进一步描写了她们友情的发展。她们的关系亲密到“竟比别人好十倍”的程度，连宝玉都感到奇怪，“暗暗纳罕”。作者写出了二人友情的建立和发展，就十分明确地排除了对宝钗形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同时也即对作者的艺术构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误解，宝钗不是拨乱其间的小丑，更不是破坏宝黛爱情的元凶。她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黛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都是封建礼教的牺牲品。这样，就把批判的锋芒指向了扼杀宝、黛爱情的真正元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封建统治者。此外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黛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花签是“莫怨东风当自嗟”，因此有很多人认为宝钗实际上并未介入到木石前盟中去，而是宝黛姻缘已经得到贾府上层的普遍认可，但是贾家事败，元春失宠，宝玉获罪流落狱神庙，黛玉日夜忧心宝玉，最终泪尽而亡，宝玉回来后，因为黛玉已逝，在家里安排下宝钗嫁给宝玉。如果说木石前盟表现的是命运无常的悲剧，那么金玉良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个在众人眼中门当户对的美好姻缘，却是不顾人的个性差异，把世界观、价值观完全冲突的两个人强行拉在一起，表现了人为制造的悲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宝钗</a:t>
            </a:r>
            <a:r>
              <a:rPr b="0" lang="en-US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------</a:t>
            </a:r>
            <a:r>
              <a:rPr b="0" lang="zh-CN" sz="4400" spc="-1" strike="noStrike">
                <a:solidFill>
                  <a:srgbClr val="ffffff"/>
                </a:solidFill>
                <a:latin typeface="迷你简瘦金书"/>
                <a:ea typeface="迷你简瘦金书"/>
              </a:rPr>
              <a:t>诗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24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：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凝晖钟瑞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匾额）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庚辰双行夹批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便又含蓄。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芳园筑向帝城西，华日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祥云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笼罩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柳喜迁莺出谷，修篁时待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凤来仪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庚辰双行夹批：恰极！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风已着宸游夕，孝化应隆遍省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睿藻仙才盈彩笔，自惭何敢再为辞？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庚辰双行夹批：好诗！此不过颂圣应酬耳，未见长，以后渐知。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庚辰双行夹批：末二首是应制诗。余谓宝林二作未见长，何也？该后文别有惊人之句也。在宝卿有不屑为此，在黛卿实不足一为。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：白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海棠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重芳姿昼掩门，自携手瓮灌苔盆。 胭脂洗出秋阶影，冰雪招来露砌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极始知花更艳，愁多焉得玉无痕。 欲偿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/>
              </a:rPr>
              <a:t>白帝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凭清洁，不语婷婷日又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句评语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庚辰双行夹批：宝钗诗全是自写身份，讽刺时事。只以品行为先，才技为末。纤巧流荡之词，绮靡秾艳之语，一洗皆尽。非不能也，屑而不为也。最恨小说中一百美人诗词语气只得一个艳稿。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庚辰双行夹批：看他清洁自厉，终不肯作一轻浮语。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庚辰双行夹批：好极！高情巨眼能几人哉！正“鸟鸣山更幽”也。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庚辰双行夹批：看他收到自己身上来，是何等身份。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3-05-03T14:46:04Z</dcterms:modified>
  <cp:revision>37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