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</p:sldMasterIdLst>
  <p:sldIdLst>
    <p:sldId id="256" r:id="rId74"/>
    <p:sldId id="257" r:id="rId75"/>
    <p:sldId id="258" r:id="rId76"/>
    <p:sldId id="259" r:id="rId77"/>
    <p:sldId id="260" r:id="rId78"/>
    <p:sldId id="261" r:id="rId79"/>
    <p:sldId id="26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" Target="slides/slide1.xml"/><Relationship Id="rId75" Type="http://schemas.openxmlformats.org/officeDocument/2006/relationships/slide" Target="slides/slide2.xml"/><Relationship Id="rId76" Type="http://schemas.openxmlformats.org/officeDocument/2006/relationships/slide" Target="slides/slide3.xml"/><Relationship Id="rId77" Type="http://schemas.openxmlformats.org/officeDocument/2006/relationships/slide" Target="slides/slide4.xml"/><Relationship Id="rId78" Type="http://schemas.openxmlformats.org/officeDocument/2006/relationships/slide" Target="slides/slide5.xml"/><Relationship Id="rId79" Type="http://schemas.openxmlformats.org/officeDocument/2006/relationships/slide" Target="slides/slide6.xml"/><Relationship Id="rId80" Type="http://schemas.openxmlformats.org/officeDocument/2006/relationships/slide" Target="slides/slide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8AF-50B5-4AA9-B83A-0B123116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E59-BCB1-4025-9CC3-C6132AC1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E5B17-4110-4CDA-B3B1-4BA33DCE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266E7-5542-44B3-8149-07CEA745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D15FB-28CB-4454-B3D5-C8083B07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E6D11-70A4-4260-8C3F-1B674D30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21414-CFF5-4A61-B19F-4349BBBB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6B921-3999-4AC8-AB43-747C4356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83362-62E2-49D3-8E75-7CBFDAB2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CA678-E333-48D0-8F5B-69F692CE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5A734-9CE5-43AC-981D-F3EA642E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DEC75-009D-4193-8690-828678C4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CC4-EA98-4903-8680-91200C08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7EC4C-7F78-44F8-9C4F-2BB0BD62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9043A-AB7F-4E65-93BC-CBB1A687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41A18-AD06-493F-8FED-8F69E8F2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382F5-A2EC-439F-AD93-0B164A3E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84023-9099-429F-AFA0-ECC66167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F8EF4-3A67-464A-A51B-5847D244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C9B55-BA2A-4429-8A41-4FDBAD21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77AC0-2D08-4C35-AEC7-E1D126EB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53272-0F8B-4351-82B6-3D701FD9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3AB7C-5A73-4F5D-837C-36EA9E3D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08C-6A1E-4D29-8850-1557F1F4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04878-F85A-473B-A920-71A86F20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B1A20-2C64-4185-9E73-6B87BFF4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A8DBC-4015-49A9-A768-30E4D058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880AF-CEBA-4E34-BE97-793C835F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4706D-46A6-42C7-846E-95E8BC14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3BED7-0725-4166-B678-289FFE31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65C3B-C585-4C61-882A-B45F9AB9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9D2E6-AC6A-4DD0-A00F-4D0B6F8C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AEAF1-7E76-4E4A-9517-FF44BE86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4EC67-5FC2-45CF-823D-5114B4F6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446C-809A-4DB8-9A53-98C7CEFD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3EC89-8E1B-4289-94F6-821F9301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331D1-D31C-4FB9-96B5-6F323207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76D83-DB39-4604-89A4-EBCFDB85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4B056-94DD-47C5-85B0-277515B4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097ED-DC62-4A57-9345-140E64E6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80F64-03F1-4A2B-9804-C4AC5DCD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BA19F-536E-4B4B-ABDB-CAF89349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7E3E4-D094-499E-A0FA-60D90532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37B17-2A87-4153-9BB0-27FEF93B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59049-9251-4CA5-8EF3-CDFC452B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B3D0-812D-4A76-947E-DC4199CF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53148-44A9-4449-A392-ADB860E5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93705-FF16-4C29-8CE1-1517CCF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8A141-FDC8-4C06-9C1E-DF124E24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05FE2-4151-414B-B9A0-7ADD39A8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09B1C-CB1B-4411-A9DE-44BB2D7B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2A7E5-0FC1-475F-95C6-851B87AE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4ECE0-E6AB-4290-BA69-D8971D18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437AA-1FF9-46CD-AB73-9503EDB6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36184-0CA9-49FA-9CE3-E572DB0E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FAC51-6142-432E-BE02-45C9026E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E9F8-1B19-4522-8B88-2102A99D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55837-FB39-4309-BD51-3271CC6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C1834-AA43-4283-931D-D12AD4C8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CF3CF-38F6-4959-8AFE-9032C491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12CA4-F4C1-4389-AA7E-FBA02755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1EB77-231E-487E-BFFF-ACF74DC9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D8F93-A100-44B6-8346-590237CD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5C53A-641D-4E88-8A21-2C2BD11C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68553-14BA-4636-B510-62FC7A20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A633E-E30E-45D6-B191-AFEB151A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6CAF2-0C0C-4AF0-AB95-42412AFD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6F2B-5343-43F2-A0A0-A19545AE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AA8BA-0A86-4E79-A940-B3DFCC3E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F8B25-8EEF-44B0-B0B7-8B0FD68C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87D20-9C50-47AE-B22F-A8DB92DE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37FD9-4033-45F1-AD69-E07BFCA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05127-6A55-45AA-8E26-BA538183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152E6-7417-4706-8068-E2468107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6F5B7-A097-4855-A102-865F4B6B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91EF4-33FA-4ABB-8403-CA240213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1872D-6CAA-4134-8009-392F02D5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49EED6-532B-48BF-B724-E5708C46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50CE-0B6D-4F4B-9FA0-49100E2A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980221-8055-4AB1-A4CE-46D5C0F6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F52D9-6F55-4C4B-913B-1ACDA5D0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55B7B-C9B3-450E-A67F-B2AA69E6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687BE-DF11-44DE-995E-8853D91E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5993F-82EA-46C0-AEDB-03CE6506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3AC59-4B25-4B95-A534-1F4C3EB6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D06C3-AEDD-4F0D-B06F-1F5E42DE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5C49E-A5FA-4F89-8556-5A13B4C8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78433-662F-4839-BB5D-CD946409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107D96-19F4-4E47-9DF1-D8146E99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C6AF-ED31-48AE-B478-DD7FF4C0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299B9-F1D1-4C6A-BB09-2F9000B5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3C03E-750D-4ADE-96B4-3B881B27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90650-F0D6-4639-8909-C4E72420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33354-BAE3-49BC-8F3C-FC7132B4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9A4574-D8D5-4157-9F87-F96C7CA9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C0975-100F-45A6-A1FB-E5935D54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D266F-5217-49A7-BF12-60018AF0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3A29D-92E6-4376-AF8E-C01B6A24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5921D-CAE9-4154-8367-D04B3B0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F8F1E-C224-4E4E-B644-879052FE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47BE-5913-4F71-BDC2-E026FDAF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4398A-9774-40D5-BE3C-556B2BE6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5951F-EB5A-4E21-973E-EC1F027B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7146B-B640-4400-913D-8ABEDCC0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08078-ECC0-4EC2-9A52-D2DC5C08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DF567-A19E-49DB-8C95-4C9F2D96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222F8-EA68-4BEB-9720-6F3918C9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AE50AA-7C9E-436A-BD4B-B323F20D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28190-EDDF-45D8-882E-9212D4E6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9ADDC-DBF1-4E05-A6A5-13C0EAB8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A454F-731C-4AC7-806B-F3A60511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5C3-C8E1-436C-B9D4-45312BAB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102C-8664-46DE-8FA1-AD5343D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EE155E-3144-4DF6-83EE-06DC503C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F1CC0-C9F9-413E-803F-DF004F1E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F3E0D-C27E-453C-9F54-5A3A3C20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495E6-AB59-4272-AE5B-B955C218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E71E8-05CC-44F5-A1F4-6A7FF0EA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76E9C-C5C6-4B0C-A8E9-492524FB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3DFCE4-0182-4C22-94F6-E84154C8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5A5C1D-6333-4036-B686-00E4B8BE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709EC-2284-4CC3-951B-4AD32F1A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FA367-2E54-4F24-803A-CAB04C23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14AC-65FE-4BF7-9198-BE7E0BFB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312B34-2B7A-4642-A49A-AB78AF16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13D41-DE05-4C60-B5FA-5A3240FD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54170-3F95-4138-A850-E976E13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751C7-83EE-4C34-AB6E-1F5C4D08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E9856-3E31-4BEA-BE1F-838D611D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886B3-9B57-4FA2-A9CD-369421B8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CF7DE-4A7E-400A-8A4D-21728ECA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78172-109F-435A-AF5F-8461B740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FE731-5487-423A-9B0D-01F7C53B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F23690-2FA5-4477-9CA5-2FD19975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1B90-651E-4EBF-A572-2F2E44C8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8E92D-B9A9-4F8C-B6D6-4D1DFCAD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DC915-FAD3-433E-AEB9-DC87B761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1170F5-9F51-4C9D-9FB1-3B484DFC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425061-6B21-4EC7-914D-FC3165FE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558C12-3241-4E97-ABCB-B6CC637D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4CCF1-8A77-4741-96AD-D2195C6B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EA3D9D-CD81-4EF6-9DC3-CE310EEF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EDE69-2949-4C6D-976B-38695D77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C5BBB7-F163-4093-8609-AD9F1CE9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5FB159-17B5-44B9-BB32-54CC50CA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61E0-4CC1-439B-B2ED-A5616AFA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6276E6-E3D4-4492-AF8D-24C2B90B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8317FA-891E-4021-9E81-F8C129A9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D382C8-B5A0-4F6F-BD40-5E016C25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C51D2-27CA-45AD-9274-7F4CFD1F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F3947-F2C3-4F75-8EB9-FCB3C3A0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F575A2-F498-4375-A28B-C5F52CCB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447A8-55FB-4F3E-8D12-71898F9B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BB54D-163E-4237-9549-4030F7D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20A591-A45C-4EDF-BD21-6B9839E9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A328C2-3C0F-4A36-A73A-F00FE162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3AD4-4E4C-4718-83C3-0EFD5ECA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2F10C4-3061-4AD8-B8E7-025F5807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9CB3BB-A876-40E3-A0DD-BAB42922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CEBF4F-AB73-4AAF-BA1E-B033BC53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B42223-F8E2-4639-9D84-457BC313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1D8CB3-F681-4AA9-8F9E-BAC28CED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955F1C-F334-4915-9C06-4084F16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C6E419-C5B6-4382-BB17-1D412697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794DBC-7DBF-4448-B736-41DE4375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48928-C60A-4642-AF37-C1FAFF45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26431-0008-4A52-ADFC-4F38EE1A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628B-158A-4619-A8F1-E0B6F932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90B09F-739C-451F-AFE7-62F78437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28F1BB-8868-4F44-9C8E-8625D23E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521746-4546-45C6-951A-E3109FE1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96C08E-110D-4176-863D-60652EA3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D0D4BB-7562-49E9-9575-A498FBCF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268304-D95F-4CDC-9140-1FDA13C3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8F899E-EC65-438B-9D01-9684C960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91526E-4BDE-4A4A-B9AB-D73E467B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DE90A8-6BBE-4166-BB8E-332C8BB1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024516-9A17-42F7-8841-D5E2D99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58B9-B22E-4CD3-BE96-FD69C1C5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4AF926-4CD6-455E-9D80-42F48A00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88AC6-FEAD-4168-AC77-F440B909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F54039-9441-41C0-AC4F-31268408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50E000-9E3F-4FAD-BD49-EE4EA01A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73FC85-BCE4-4535-89DC-6D505A9A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3BC14C-C087-4F51-9B68-5F19DAA6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F17463-2AF6-408F-ADA0-E48C69A8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7C1379-AA5A-41FF-AB81-DACCD51A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7654A6-B226-437F-AC52-C4822CBE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2B5342-535F-44B0-B4E7-131DA48D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8604-9E4D-4E3B-82F1-BE337659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9ADB5C-9A95-480E-B7D7-7609B137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67AA8F-B417-4B75-8F9D-331ED0CD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9E9EA9-8B32-4BE9-9293-6C4822CD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D3A5EA-FA75-46CD-91F9-0BC7AEEE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97143D-6675-4C1D-A228-A5A368FA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BE47B1-82CE-4D5C-BEEC-6DA1E5E8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4959D4-8318-40BC-8F20-9AE8DE75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A8E8F8-6002-41CC-B22A-79BA5505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1657BE-83E3-4F41-AE2C-0389931A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4F4951-917B-4835-B21C-C83D3526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D0B8-A706-4697-81D3-6929E533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BE8C38-EBFA-4C63-A132-2E0C9E2F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45AF26-97BE-454C-AEF2-8ADD0105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67E2AE-6E2B-4BFF-8502-0BE09EF8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CE438B-AD47-4111-B9FF-480793EA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69C29D-5CB1-4993-8352-E0BD9F9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4ABAAB-2D01-43CD-BDD1-2441C7F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BB9535-E260-4FF2-A976-47B55188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1FD6C6-CDBD-47B6-89B7-C24518CD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FD7848-E348-4075-AD2D-7994A418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B1C9A7-4842-407B-95D2-6C9F954A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8A99B-F412-4CC6-B7D4-84F57C5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C08549-7F8D-41BA-BF19-1598D1A0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295AC3-9C97-4A5D-9F4E-40EA723F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2B18F0-1B6D-42BB-A6CD-C464AA1B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FAF3A4-CC0E-4D39-B241-3EA3D9A4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699549-DE9A-402B-A9D4-ECB7FF8C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CE7B82-8BF1-4732-A4C9-C0EDA8A2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583E93-07BA-4F5E-A82A-6EC69351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8B356F-31DE-42B8-8C52-3D7A3D5E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D1DAB7-131A-42CD-9D1A-B63889EB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0EF77A-12D0-44C1-A076-B004F1F2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825-BF90-4DB8-9D9E-6AB11AD4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59A6-F36A-4E56-A826-C2BF0621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CA6AD7-618E-4598-989F-E171FCE9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296DEE-FCEF-4C80-B37C-FF3F086D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32B957-A1B6-4803-9D5B-E85C29DE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FFB3DE-1E79-49CC-9C04-A4439184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CA7C54-1CF9-4854-B333-33A5A113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272BAF-7FD9-402A-9E9D-9A60D566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5668A9-7339-4BA1-A392-9B6D99DE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3180DC-9C36-40F2-877B-7C7C9564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7A26F5-8C46-4EAF-8CA6-DCB314C4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B7EC76-677E-4B6E-B0DB-6C83818B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723D6-20FE-41EE-AB63-CA9678D5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463DAF-1441-4394-8D8B-3BD01C13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27A0C3-A5BD-4DC8-A97C-B94CEA9E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18F81B-D785-4A6F-BB53-5419BBCB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7F1B1F-CAF1-44EC-BBCE-55216CE7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09E62C-12E7-49F4-AE5B-C811610B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173DCD-0767-4568-BBDB-685F21DA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A6DEDF-7FBA-49D8-A401-F102538B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559D0F-0F52-45F8-BA36-A47819CA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CBEC22-C0FD-4C56-93A9-9E7DFB92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2EA27E-F4DF-4959-A334-29943886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0164-5D29-44D9-8297-37F21FDF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8A8558-3EC3-4D79-BE62-2D0C6B06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B4C3F4-A635-440C-8DCB-4155E11E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326345-91FA-4B2D-8D23-18147B64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5550A5-3E62-42ED-A7E4-DE4C32A5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67A0EE-053F-4AC7-87C3-876CDB75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A22015-E295-4B7C-BABB-657D92E1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A6E152-2887-43B0-8F6C-69B28288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5A8B18-F8B1-44E4-A2B0-C8EE03B7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84907D-8DDB-491A-8F85-BBA36153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12992E-38C5-4989-9C9F-C856634F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E04E-DE85-4667-946F-570D2950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8E63D4-6059-4BF2-89D3-7DA24E3E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8E1C89-D92E-4E0C-838E-4A05888E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70C0EA-1EB0-4BB9-B3B1-EDF2DEEB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24ABA5-D2B2-48CE-B348-3B28E41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2E5260-53D9-47F9-B9E6-843A985D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7F3507-D8C9-44B8-A8F8-9C4F5F34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CEF5E1-7C25-4D05-B935-2F09457F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D7951D-D3B3-4F72-9A88-2DA9A0DA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095188-9F37-47B4-99E4-D278CB9B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64ADA5-94FB-4D4F-AC26-4919A88C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881D-B6CE-4B5B-B28E-845A6B13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E5891C-46D3-42F2-8310-E4016A9E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D8D53F-EAAD-46F6-8D98-8E471568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9318E1-1611-4414-A445-96EA46AF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553CCB-7763-47DB-997C-52EBCBC0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37C765-2FDD-488B-A9E1-B8D3287C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0217C9-60F5-45EB-8D4E-9FD3428D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BD80DC-C80C-4157-847E-E584C1B5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BA047F-168D-4F6B-AFC6-3250E6C3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22DD2F-AAD0-470F-9339-3950AB62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CB19C7-3ED1-4131-B9FB-BEA5D79C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4C9C-E54E-4F07-8535-5889B953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6A5357-EE4E-4F82-9083-36E87DCB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4D3445-4045-4E36-B47A-DD5112A8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99EA61-F2FF-48FD-9169-E2C2F9E2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18E616-1367-4C3A-A750-30CA145E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182C23-B532-4AD7-8DBF-8EC06BA2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9A670B-65D6-47B2-9A0E-FD35B7ED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C8AF76-D738-4D3D-8C07-324521BD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0FA5CF-E6C9-469A-8142-20FD041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E09980-2D20-473E-92FB-C4048CFA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FBD618-20B6-43F6-8156-88D3BBA5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5F70-DC82-4BCE-B538-0E9150C7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EAE47F-96D6-4341-A34A-83CB52B0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CAA6BE-9902-4571-877C-8B58CAFC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AFF07F-A197-4878-9396-E0163CE6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8AB33A-0AC0-4051-B107-FA36130D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BB154E-A2E0-40C3-9E47-D42F6F21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E82210-CA52-47E6-9167-07B6832A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AC2312-70C5-44CB-ADBE-19250AB6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83B7FF-EF85-4CD3-A314-D2AF2F2F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7DA1B7-D7B0-4E42-9042-B9350ACA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BFF0D9-81E7-4F29-AC95-32679AB2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0E0A8-F5FD-4C30-9574-EB5B74E4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519DBC-59D8-4A3C-9863-813B2E52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A27C95-915E-4965-BA8F-F2900359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0A6A93-F825-4260-A3F3-FDA9A49A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3ADDAC-140E-46AE-BF7A-9B7CE637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0CA26A-8EEC-4205-B771-AFC3C7B1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D872D0-11DA-454D-BDDF-C18ED9EE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85C7D1-21BC-45F5-832E-3474C5FD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3BF302-6BBA-4C7E-9243-97E071B6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942F37-7C9F-4BC7-A2E5-5C02B814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43AA0B-3657-4F06-B920-518F86B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1D529-4105-4265-A65B-18E8624B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31FE5C-5B30-45DE-8E54-B28683B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D828DB-37B8-482A-9FAA-61E6B970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640B68-CD1A-4D1E-BDE0-93DA6271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235A2C-CD9F-4DFE-9A9C-A33C4678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61303B-263D-41EF-A271-D2FF9E64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3574F1-7388-47EE-B75B-E83B033E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ADC12D-B09E-4B9D-8708-ACC91268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610974-AED7-487C-B58D-0E86E558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A8E4B3-93CC-4607-9FE0-B7A558E4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CB10CC-5654-4359-9C6B-E6454D86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DCA1B-6B39-48DD-BF22-D14AED60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373300-8F39-4A0E-8714-FBB2CF60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D0228E-FEE6-4C18-B28C-109552D1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EDEB67-03CE-4B2B-B1D4-FD7783A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38098E-8B70-41A2-862A-8E09391A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1709DB-78BE-415D-BEE6-230A7F48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C2542A-1D69-4ECE-89C2-53BC01D6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937232-67D8-493D-BC02-33A9091F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3E57D2-6189-4CAF-A27B-C03FF5D8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DF0FC6-3913-43D4-B4DD-1B0282EE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65CE1C-8CE5-4B5D-8F3E-84388995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A22-CF39-46A6-90E9-045C0731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BCEB-9189-4894-89F7-5512DDCC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9CBC56-6AF8-45E9-A94C-B2D8E04E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A89E6B-8346-4DA6-BF15-1C8F0413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03513E-CED8-4520-AFFB-73EB8716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32E80E-FBF6-4F08-931B-6F497BA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9F773A-1D5C-43B8-A92C-D82AB459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B48D30-3A62-4BF6-8413-E7272A1C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F372EE-56A6-4E79-A79C-4F02E8C6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F113E5-9152-4FCE-B331-04543D8B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223E7B-A097-4C3B-9BF7-87CEB12B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C92CE1-9A70-4C3D-BF56-F04B1E7E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1BE5B-D8C5-4B28-ABB5-FECFAF30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6B0285-2E65-4CB2-B723-AA630861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81FD89-DBFB-458F-8B0E-5C2AD8DB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CD9293-B6EF-453B-BCC3-274A5033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D0159A-1686-449F-A2B9-EAF53795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F1856D-0324-4700-BCFB-665F945A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3666C1-BCE6-4500-8CA7-BFCBE5E0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20FBAE-57E7-4114-861B-650A16F4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D25BA8-E64F-417A-8A7F-D390AC67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E3318D-D3CE-4FBA-80C3-271C47E0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DF1FDD-E2EB-44F6-BAE7-7BF52960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E4CB-4F98-465E-95CF-584DB165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1529ED-477F-45CF-AC2E-5DF34A38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00B75D-7044-4756-903D-BAA8813A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621A5D-8804-44DB-A124-B82A8E69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897859-FD37-40B1-B640-6F510153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52291E-6EFF-4D7E-9C5F-AE17915D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E89F62-2EE8-4009-9EC0-0340E296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A6E5C2-2914-42C1-96C7-F7D64CA8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05BE4C-9D2F-4A18-8061-B34AEFF7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51D3D4-66E5-49DB-88B8-93490939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F44F87-D034-4650-8958-76597A9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6063-31D2-4BFF-8FCC-B91C4BD8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CD8F6E-0639-40E0-9CB9-A3AA9B3D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C684A8-4626-465E-9FE4-C8FC3EB1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77A2D5-984F-42A6-A40A-4FFA5014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A35E975-C301-40D6-BC47-7443CB5B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6F05F0-A47A-4A1C-A35B-0E0BE442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6D9696-616D-4B20-9E57-8539982D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A90CA60-4D02-48ED-8CFD-D02F4CB6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13EDD8-68AA-451B-91AF-8A6897DB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75EFD0E-65D3-401E-8DF6-525BC6D9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FEB6E4-75DE-472B-A001-B74715E4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6B227-F62F-4776-AF04-CADB3AE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58D147-A4B2-4240-B0AC-F2E78E01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911EFBD-4B0F-49B5-8B14-8192BADF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5CF753-159D-43BF-AD33-4C49DDE1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E67E33-C7C9-4864-87CD-F1BBEB49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DF59AB-00DF-4600-918F-99B8A93B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CE5B22-3A02-40E9-A36B-56B31A8A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8B71D7-1499-49E0-95E7-23E0045B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3CA996-116C-4A36-A7BA-1D5194F6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7233D1-6BBA-4B87-B12E-FB200B55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94F2BD-C9E8-4AA5-9791-C0FFE008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A33D3-5DF3-4A91-B1BE-89371FF4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7E1BB8-C724-4AD2-91B4-40D91D6E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F8B72E-DA00-4E0C-ACD1-2FF0127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FB692C3-8400-4B16-BBD8-7E4C0C46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99C887-2970-41B9-A4D2-E08C8EAC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F4046E-9C37-45A4-9194-F67B3947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B6FB63-D3FF-4674-BC0F-F529A646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D5E9C8-A6EB-46AF-B682-C0F792D5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8982BF-72BF-4320-AA64-28FD599F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699C686-FB1A-4142-BEF2-E437BC38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BEAE97-E006-456E-BED1-7AE2674D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44C0-C142-485F-B69A-CEC22A55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692A132-1774-4B37-9A02-29E34697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DC09073-EAE2-4AFE-8334-4902C5B6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0E1A7B-51D3-4B64-AB97-967E7F11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D49631-9ECD-457E-BF3A-0245E58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4D4E193-46E0-4B3E-8D51-5C5B3A7B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4E0344-D8ED-451C-99DF-CDA45CD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529C27-9871-4801-B822-F5246718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22207D7-2912-4B2C-8C46-6BC314B4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20DC1C-AABD-451C-B7B5-3604A7E9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6E9983-A5B5-4C89-96E1-C37D356F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989E0-DD5E-472B-9EA5-0CD850F0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A42992-F832-45B1-8DB6-80469C86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F883F5-EC9A-4209-9886-C87E1D11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E3AF76-F344-4102-BDCC-7C54041A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FF4A84B-AA85-47C5-8C98-349824E0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F96043-E821-4BCD-AA01-9AC5CDFD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BA6196-5721-4393-906C-DCD60580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E7D376-64FF-4297-A43E-C42458E2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06570E-C69D-46D0-A5ED-E82A8545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A0AD5A-6274-4A43-8067-9C5C7B10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6E0CE10-31EA-4AB4-AAC0-3231C62C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2B482-E231-403A-8142-68B74318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C034BD-96C5-43FA-8456-4CF8E905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8431EA-922F-4846-86D2-392D3F04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71545FE-0C4A-4E79-A985-F0C6DE7E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0991F3-75EB-477F-80CA-B994031C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49089E9-B8C2-47AE-9A37-2EE16F35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30F9C2C-45AD-4E8D-9501-0FB236FD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F7DA80-70CC-47D1-9100-17534773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226422-C03B-49F3-9519-1CD71E44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CAEC20-5A0A-414A-A505-4D43A5E4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BFE5A5-7854-42E9-BBC9-0449A90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887A5-E1A7-474B-BE50-6FD0F1DE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6051C2-71EE-4F5E-BED7-3A069A7C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313E4A-F4EA-4F28-B10A-562F2772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804A4B-699C-48AD-84B4-73555670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98FCED-AC38-4671-B05E-77ED3B04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92F9AF-CDDB-4DC5-8655-8DC6F58A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FFC3316-E845-4719-BA7C-AD8953E7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3B5267-CF36-4A75-AE4D-041CF421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B0C57F-9D76-4291-83B4-0143E880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FB4717D-B671-4DF5-B65C-484640CC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CF728B-343F-4CAC-AF5C-BDFD9EB7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0D6-3918-4F4D-977F-E8B33065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B1CAD-4796-4DF0-B0EF-F990C859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6BB3EDD-1859-40FA-9987-A39CA5C4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DDB466E-97BF-4282-8A47-1203B3E5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5E1E47-E6E8-4F62-AE8C-E00C25C1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325878-AB71-4C32-97BE-29F53B2A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C3511E-F3BF-44F1-81B9-5A6C557A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C4B4388-12CA-405C-A870-3E7285E7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88C3940-9ADF-44F0-B005-2DE59F8F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5264257-52B1-4648-834C-392619C4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C10350-D4FB-464E-BB6E-A1A91164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A28FA64-FBF0-4210-9BAB-399C1BED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43DB8-124C-4BC4-8A2F-53CD591A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32A58F4-1A2A-463C-9D7B-9BFAF60F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903CCBD-9DE0-4382-8C0E-4C02D610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3581CF-5EA0-4F21-8D1F-C0A3D573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7317F63-F047-4D7C-9853-AE4EC690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0073C52-0249-41E5-B689-82F19082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E50C47A-B86F-4423-803A-836513FD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CB3226-0341-470E-8AE9-F3E5D8E2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897E11-BE26-4D73-90B8-F7C8220B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3ADB3B-8682-4549-ACB9-409BCBFE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6618C25-A15E-4E65-A935-50DC7F6B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EDDB2-C637-47EB-9AF7-3DB85123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89948E-932B-4FA3-8928-6408B525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955E12A-0AF0-4F1D-83BD-57023F37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89F913D-0C16-4E90-AB97-ED48BE88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05C042B-91BC-4902-850B-8456D40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2AEA604-D1FF-4958-BB56-AA1CBF9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E53C764-64AA-4FEC-B2E3-07BB4A07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D319EB-AB3D-4548-8595-93586768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2E2F4BA-4FA4-45E9-B5ED-BE5778F7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5049FC-9C90-444F-B6D4-71A16531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B95BCD3-09E8-403F-847B-3DCDED7F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765D8-F423-46ED-90D5-18B87A55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606AC89-BEF9-4103-93DA-E5B7C5FC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5985B16-F830-4286-8269-16FB647E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D937A45-F34F-408D-8889-22AE4EEE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48073F6-BCF6-48AC-89A9-3119A4BF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50CE6B-CB69-4DFE-8752-DAC08B8A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B0FB93D-08E3-4633-B589-EB6D110F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4F32E7E-7879-464F-861A-BB60642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639FA9-E0C1-4E77-867B-B07E26E9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19E576B-E3EE-4004-9951-2EA3F002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A821AAC-7E4F-4153-B831-435A6C96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F170D-8236-41C5-89E9-90FADC2C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CA09D10-419C-4207-A116-A0F05CC1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89BFF3C-7CF5-437E-A953-9FE6DF88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F4508A8-F090-4E07-BFE1-A70D12CD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98A6A1-66C3-4079-8584-3C69ECFF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0E6A693-6F0E-41EA-B73A-1196825C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C40E30-0AFA-4130-B1AD-B4D23A00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70874B-FEC3-43E4-AC29-203B9AAF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858E68C-7D79-4B80-8A2D-8818AF2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1A062C-AEA7-4541-B23B-12F7D41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00AFE1-A35D-47E9-B810-EE2C3F48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0080-6DD0-42EB-86FD-B64D03F1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48983D7-E887-4612-816A-C0F9D1AA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DF7202-6C05-4FCD-9AD0-4143EABD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E18EF6-D170-4025-9C93-AC99ECA7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D75FACE-26E1-412E-A939-7A6A2CE7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CC3CDB-B49D-4CCB-831E-585BBB9E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3421A8E-2C19-4EFC-8795-FA69213A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858B1F-D2D0-4CD9-AB73-E2A4D0A7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09DD7F-492D-4FB1-9A89-7603F089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C49C18F-0317-460D-A542-D8442A37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3C67619-BACA-42BD-8AA7-9BCD83F2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F199C-5D48-48DA-BBB8-49CC05F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7B1856-5730-46C5-BD58-8741CDA6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27A340-03A7-4E7C-9581-5A0670FF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3D3625-04AC-4771-95E8-6FB875AA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1D7685A-547A-44B4-BA6E-80C38F5A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012FC02-B10E-4E95-B21C-11F2FFC5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E8AB9A0-29AA-4474-B4FD-74DF5B5D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82FDA8A-263F-4C80-8ED3-8547A438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318587-9BD5-4B9F-951C-A918065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F0F256-9427-4295-9861-577F107D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91262B-0D38-4B96-83A3-7DDA07DE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FB2D2-D6FC-42B1-8030-0125DD28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FE51286-B5C0-4BF6-A068-10552B88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ABE270-E67A-442D-83AC-D708D1B0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BFA4203-0F2A-47B7-8DBE-CC350961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38C3AAC-057B-43DB-B106-3D6A1BCD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1ABCF4-10C0-4B84-AD0B-0D024DB6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562CCE6-B007-404D-8F8C-2FC73F91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C1328B6-4EED-4C9D-A3AB-49468F97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5B67AB-C824-4B53-9FF6-4EB5EE51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FA05E95-791C-49C7-AA0B-41F843BA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487963E-67F4-4B1E-AD0F-695A5B83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E845A-B4DD-4D3F-A6F4-414EFEF3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134C435-1FD5-4C4B-9B99-ED36949B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263E2F3-3DA6-4C2D-B027-7209F40C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9F8817-69F6-4CAB-B6C4-F5A22915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0801196-D589-4B68-A797-B8A35162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6838F1-58D8-409B-8227-036A04C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F0AE43F-B3EF-4D0A-83C4-69CA6378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F7991F-A86C-41FD-9B6E-5A612C9A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455D06A-7DCD-4ABC-94A9-D5388C0E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8E684C-AB0B-4D38-BDA4-3AB0DF21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E60FC5D-78C9-478D-8ACE-C3748B1E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37E78-4ACD-4977-A638-238537AE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1D8F2CF-37A0-48E6-ACEF-EEF192E2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A37EEFD-D425-45BC-B3A3-67617710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237F181-225B-425A-89B3-CADAC0B8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763C00-B8BB-4DF2-BBAF-E98DDE3D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88B9F7F-DA9F-4376-A8B7-F36B2409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C139313-AEDB-4DD8-8072-0F4E4C46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93973D4-4344-4280-AF57-29D34FBB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20BC812-DFB9-41E3-A733-256BD323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2857890-84B5-4A22-AA9C-CED610ED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D2B242C-29C1-47D5-824D-8273EE95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F68-F774-49EA-AACE-67A1EFFF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B4BBB-26B4-4031-A2D7-4E7CA3C8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90E1DF-D965-45C7-ACB4-126935A8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A1398D6-49E8-436B-82C2-2BC726EE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357C25-AF12-4A91-A55C-4744726D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368D963-AA35-4B7D-97A4-18AAE897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3D3620D-DD93-4638-B451-A25A5725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9467853-5D91-48DE-8155-8D9C201C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546E0AD-ADBF-483D-BCEC-E0B99E4F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151570F-4E5B-4EE1-95BE-AC1422F2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E799F1D-55A5-414B-83B3-3CB329F7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DBB9B11-E1B1-47BD-B5CC-1A379B1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D23E3-8777-4B32-84A4-551C9EC4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0E63A97-C32C-416E-9CBC-E9CFB947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1BC4384-F010-4178-9355-E6E1AF13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428515B-63D9-4E6C-95B3-019F7CB8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A6C45AC-103F-425B-BAE9-2891083A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95EA423-56C3-4A5E-9586-B3796977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91440F2-90B2-4BD6-8C78-CC402524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9C34E17-818E-4B3E-A260-88B51471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74941E2-B7FE-4822-9FCD-2C2987BD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4EF12C1-1055-4D6C-B92D-69920D39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CF9F679-75AA-410D-B7BB-E1826360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5F8D4-607A-4D63-8A69-4BF41C1A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1DA1D65-1D32-4FC9-93CF-4CC437F7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79FB1C9-D494-4F8D-83B8-6F1646C7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7F81D14-D4DA-4F3B-80C7-A272CB90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F1B8053-BF04-49D1-AC8F-C7DBEF60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C896C78-0B8C-49BD-983A-8B0EED0C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EC86428-D802-4480-89C8-9B56F8BB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6EDF00A-9A93-4F25-A2AB-B11DEC18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74668DB-6450-4FCB-AE18-E4D6A792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9E1F508-3A13-4733-81FE-A80FD1D7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231357-8200-48DB-926A-27AC8545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6E647-E94D-42E8-90E0-EC51564F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6F232F1-985B-4443-8267-007BC896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1399422-98D6-4F06-8172-44C65746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E39391-559B-4D31-9613-51344384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2BAD929-5EC1-41E3-AF7F-E65EF022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29FF60F-20BD-4B51-9D35-B5AE506A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F1F7591-BA6F-4F71-BDBC-856048D5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8AEFE30-0032-41F6-812A-6D0569B0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24AA13B-92C8-4456-8251-D7FCB8E5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795617F-098E-4FEA-B0E0-B3F63A80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6F75730-E1A4-49FB-A76B-BBE2E680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CC76B-0E8C-47F8-AA52-0EE96C15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80E5C2D-9EE5-4D43-80CF-A5D605BE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C29F6A6-4C3D-4006-AF10-C3275934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128A50F-E92B-4F9C-9A1D-B5E4B10B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C0E7DE4-6FC2-419F-9F0A-CBE12A6E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61DC494-AF68-4111-BCCD-4FC6077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223E07-2C58-4F5D-90E2-E64CD6A8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1315291-D3DB-4130-BC04-D9048679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8B1D140-57F8-4C33-BC20-69EEFAC4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3D24669-19B1-4187-8FE1-C5E78F56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8DFE97F-9FFF-4065-BAF6-C38BE3F3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13640-AF73-4D43-9874-6C996A9E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972F9B1-EE9B-4A1C-905F-5513EF2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F484C90-40EA-4618-8FFF-2089B370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17DC43B-2D7E-4EA0-B5FB-A2D797AF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E8F12D3-A47E-4625-9366-0600231A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B6CD247-84B3-45EE-AFD4-841164EF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C415226-D6A0-409D-B4D2-2D5056E9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0F561AE-FAFE-4E0C-88A9-B0D5D98B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C43894A-CB8D-4F50-B7DF-F4B891E1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6FBF66E-DF81-4C8D-A67C-A5343E34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300920C-E808-4710-9AC4-14444C95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62A78-0EA1-462E-8DDA-B407D987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AE55063-920C-4008-9A4C-393DCD36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91A543D-D942-49EE-ABA7-726D0E81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FD625F3-3CC8-40D1-A6CF-E52D91D7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C8409B4-9B3E-42FA-8684-44D67337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4D10B86-A19B-4BFF-B61E-92456525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6BAE871-DC04-4F54-9E14-97651455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36B39B5-D63A-44AD-83DD-BDD3BE7E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4E45513-2048-4500-9A34-594D5451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41A8C6-3EB8-477F-8162-1546C884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8679B1C-0476-4E50-8322-534D6056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58BFD-6FAC-4176-989E-E90F8B7A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79FAA36-FF8E-4F38-B539-D1A8B10C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B08D795-3EE3-4B6C-9730-E85A913A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D6F23CC-578A-4AD1-BCA8-A73B89D6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4AB5CB2-3D78-4B06-85ED-A8DD786E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B4951F0-5997-43BB-9FFC-FFF6AD4A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28870CB-4EF6-4D94-AD75-6E2DB789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029536E-C4E8-46F9-9F82-7AEED564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D9196EC-E0EF-400A-8105-6A1085CF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AAD4D0E-BECE-4551-9844-1E00E16E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D52E5FB-7D35-49A7-8F1F-84777970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956C-FB06-4CD1-8335-486AEECD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829BEA0-63BB-497A-B487-DFB901CC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1C2CBFC-E6CA-4444-8BB3-00558906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D5F87B5-A554-4D59-8BB1-C7CC1CF0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8C48E6C-5226-421A-AE86-BD0C2956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099258E-3C00-4BAD-8CAF-3F4A1300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D34E0B0-B037-47A6-9232-4830774F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B1C05B6-3CA1-4C89-9AFE-312777B5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342A075-1460-4F24-B644-1C29F68A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5282AEE-1C07-41AC-AD8F-BB54557A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C31667F-E3DA-47A5-90DA-1BD8D832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5263B-D107-48E1-B26F-818FFC7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26AF337-E83D-4C6C-8259-1070FACE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52403A0-BF08-4A15-844D-84A8290C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9FAA0E3-9647-4D08-B0FA-29BB813F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1C97CF5-F1D1-4296-AF79-13E8A94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3EB0193-BDF7-446E-9467-754E187A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B6ADC16-8DF1-4852-8CF5-EBDCAB72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427BC01-348F-4840-A09B-52EDFBE9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4A066BE-5C2C-40A9-B91B-2221CFEB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2460159-C7F4-4010-A172-1D6A1356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80141DB-2E9F-4CF0-9860-DB79AA8B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10ED-2D1A-475C-B62D-BFAD8B13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2C225-A940-4C52-8120-0EA9D39A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738638C-5444-4C5B-A069-7E580586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2B4ACD9-9701-4798-837E-AD46BA77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43FFB2B-9249-4E7F-9531-450E9720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06C60E3-0EEE-4479-AE2D-CF24EBE8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7343DAD-E688-429E-BB6D-D356ADEC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9A0FD50-5CD7-4961-8435-B40C8108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C20DF6E-7AF9-40EC-ABFA-7294B063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59D53CD-1647-4DB6-AB6E-D6B355B9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2616EF6-88F7-4595-A469-263569A1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B008790-A682-443E-AA3D-2A3223DC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B95ED-EDCA-4676-B4C0-B995F827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83690DA-0544-474F-9560-0AAA1824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06F4133-3E7E-4F24-A3C2-C9EEF021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1F62784-771C-4860-B8CA-294F6AB1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BF72105-4ABC-4F98-BAFD-C976F460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E1ED13A-FCA3-4C62-B402-8077998B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E1CA4C2-9538-4FBC-921D-AB79D005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B45F168-6A06-4895-BD84-FE0C4BF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DF72D8B-5953-4AA8-8FAD-069804DD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839FDB2-3D5C-4D50-856D-94F6F541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D22CD75-D0C8-4930-9793-753C66AF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C3F60-7443-438B-8B30-343760C9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434CE22-9475-486A-BA50-FF8531E3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F828BFA-2EFB-4469-942B-EDAA278A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B42D140-8E64-4D25-A6FF-76563082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D5DFDB1-5235-439D-869A-C715A012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1464036-501A-42D4-9082-59FAF24E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B375AC4-AF55-466B-A8F5-2BBC444A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AD19D71-D7B2-468F-B6F4-987AB3B8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DC9D374-7D39-452F-9E16-6C765D20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780CE09-0FFA-4139-ACE5-410D09E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1F260DE-50EF-4817-BBA9-03D9D676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F4153-1780-4EFC-AE50-769AA2B8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788BD7F-CB70-4CB1-82B0-57154467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3AF7414-D3AF-42ED-8864-C95D9891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3ABF129-5FE7-4B9D-BFE7-1632D9AB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0751579-25F0-4484-B419-D68906F7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A32079A-E1AE-4E8C-8CE7-5B53FC49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7BED661-88FC-4BB4-9D8D-95198FFF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CC3A258-2300-493A-982D-DFCA9B49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D704761-491D-4F0C-B074-30B0E1ED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37188A3-9803-4A18-9CCC-3A7C3EC1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6D96928-0ECA-4570-81E6-58480810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B889D-BF17-40BA-BE4F-2E3040DC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69E779B-07D1-4591-AB8F-A789289C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89F726B-DE27-4DAC-940A-CD53708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57EAF61-6359-4FFB-8FBD-B31EAD99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C918C44-88AD-4B72-A95A-E73E4CDF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2DDF719-6EA0-4F1A-B574-F738756B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D1E09A0-EBC3-4F38-A745-350F7B2B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370CC49-128C-4AEF-95D9-30C63589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4C875B9-2E30-4100-83D2-7BBB25FC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7F33CF1-B4E1-454A-ACAE-24E863EE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778F9CD-B3EC-4449-B999-0BFAA157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53EA2-A9F5-4E76-B018-6333D430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123AF56-44B9-485D-9D4F-2BC22BA3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1208AB5-9D8C-4A77-8279-CA351021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CD178C5-37F7-458F-A819-A55625E1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F83F662-78F2-4303-86AA-5CCDD75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37FB511-7470-43F1-B161-E87E8A35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47A5CFB-379D-4F9E-80C4-0C726B0F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40F36FD-18E3-42B6-88E4-730901BE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C32B7E3-CADB-4A77-A7BD-94195343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23C12F4-DDC6-406E-ACCF-2576626C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1A1A628-D4C6-4EAE-8391-DFCE373F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B4D81-EC7B-4A36-B628-4C223079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8BC34E2-B690-43FD-B540-67E3C77A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80C39B4-D4A7-4E3E-97BC-2C8D779B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23714DF-CB2B-4C24-9E58-A2D5EE60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D8A1E31-69B2-4C88-9BB5-E3612E5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A2FF805-2D51-489B-8E2B-408E2FE1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C24F9BD-C2FA-432D-8367-CC24EEF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E3180D6-6BF2-4A2D-A326-463D89F8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41C3FB0-6090-4863-A86B-456497F7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8367B6D-5E92-45F6-B181-98A6332B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1E9C121-9B0D-4740-81F1-19918BAA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628E9-147D-4735-8D2B-1D02AFB6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579BC01-9BF2-4129-B415-FD8D4B0C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E7BC685-6C23-4529-807E-D06A45AA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0F4302F-F53A-45CF-95B9-729558F7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D5CD015-4DE1-4221-8FCE-3AE35259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3207D83-9A71-4AC2-A8EB-E3F7A1CF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D3A1D9F-467F-4245-8782-CF32AB31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2E2DAAA-1FC5-4DC3-9268-64285E9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A81A31E-DF56-413D-A331-B1501A1D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8D60036-C0DD-4032-B2DA-90C1A203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82F5EBB-07A5-408F-8350-CF1F7CE7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CE0F0-AD0A-4A8B-B1A7-E8E918C5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06426B7-BE51-436F-869C-44924E02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542E6A6-ADC3-47BE-8DD7-F9D64072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A7C4CE4-0CEE-4A2D-A93C-49117B76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47101F5-B76A-4B3F-9FB1-93986A6D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B678729-6081-4094-B3A8-ADE878C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EE4A247-C04F-4AFE-8206-A1064F5C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837508B-7E98-4C4B-9EC9-8F10162E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59ABE8F-7394-4E5C-BCE5-5F6623C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E99D0C6-664F-48D1-9E5E-AA54223E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BAC4BB2-D9BF-4ED0-AA8D-47F2800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E1E81-B3EF-478A-BF73-9EEAAC0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4087D25-7FB2-4837-BC94-3768B938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DE838FD-9500-42C8-A53E-130E30DA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B40289E-FFC4-48A4-B9C7-D7B5AA92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072713E-AED4-47D8-9E7D-E81C3123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17373CA-4523-4FC0-BC0E-5CEBCC2C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668E607-9EC1-4413-930B-08693E37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2E8CAEC-CB10-420B-BACE-EF99E532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452E0AD-29BC-4EE1-956F-27061720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FC1549B-E08C-4538-A4E9-B8D010BC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1D7344F-623E-40FD-B8A7-E17AB6D8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E25-1BD8-437E-A3F6-28C5A657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C2A3D-8295-41B0-98E3-ECF06BB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4A70A7F-ACB2-4020-88E0-2C923408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CF2692D-8B12-4717-B259-1E272067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874A092-DD05-4849-B38D-882B6CCC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6816052-A9A2-4CBA-AEEF-6FBD515F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26A0002-1472-401A-8F98-EAC5069A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998179B-1712-4151-86D3-F9576A60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61AB1EF-7F73-476E-A43F-58024346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5057654-373B-4C2F-B96A-D569F0D1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25C8C27-67E7-416C-90FB-BBEB7443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7DC6E58-5FA0-4868-8941-5DF909F2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6AF4F-9070-4C54-BA51-793AAF4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4FF0E56-33EB-4D1D-960E-0E991012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1BE39DC-A9D3-432E-925C-F9A61C58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985839C-0328-464C-AB8C-49C959F6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453CDED-5003-421F-8458-0B2597C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5981933-4397-491D-A58B-D267F499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26420AE-D775-4E32-9E11-C85391B3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A871AB0-EEAE-4A40-8F6E-1CB9B142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0B95743-C02B-408C-A145-B383AEB9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F79ED46-0FFB-4674-A8DA-FA268E57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C6B4197-4F98-40BE-8A94-CB93D671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7D2BF-7F6C-4D85-8A3F-491422B7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AFB3ABD-969A-42B4-9AA4-883E883A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38F366F-DF5B-436E-A729-2469FB97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9724F3C-E177-4F8B-A0EA-73875F81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A2C8098-C767-4AFF-ACE4-45DF49AE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2DE0D6B-5022-4AFC-B738-80A78E93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EAF8DD8-EB69-4A69-B29D-5954B054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E246C97-0406-496C-8ED1-5A3AF8F3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6F4B470-21CB-4E11-991E-2A5DF9A0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023978D-9EB4-46F4-8094-43DA5305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AC286B8-993C-43E5-B2C3-C7B3E612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6348D-19EF-4C64-A76A-FF404755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C91263D-00A6-495B-AF90-557BDEDD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96007DA-CC22-4886-B704-38F9322C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4BAA324-CC04-4A43-8A2C-E2BEFAFF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6F2BBEA-6539-4100-911C-778CDFFF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3534DE5-3CB4-4120-92BF-C922FDF1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CF5C87C-F26D-4F34-BC94-E278CDE8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D07924C-F90F-4986-8344-0F98463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33C1B23-FD07-4A08-A02A-78A19011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E3B1CCF-5EE3-4477-AB24-5A0678B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A9172D8-EEAC-421B-8D81-C44798C0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3A938-B608-47A7-9BEC-5524DA39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E2F9EE8-7426-4AEC-A5E8-27604226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A63CAD1-297C-4EA7-AA28-8FB263DC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2E6A254-F4D7-4E4D-9445-FE5BDB8E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05FEC47-954E-4DA8-9399-44571091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B8B95E4-E482-40BA-8621-615FA589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B4D9D45-479E-479F-BE9D-24501452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A45EC3E-B1CD-4B7E-B635-F515F3A2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328C771-3C76-4530-A6B9-989A7FC3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69F138B-9B98-4D4B-AF1E-3F17DE87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6C62697-FA78-428F-A145-6F0BD0ED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80164-0EB9-4BA7-A5E6-AFC7101D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73EDEED-C5DD-40A8-8863-80D36D1B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82BAAC5-D5AC-4569-9D90-C06BC705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0092ABA-42C3-4E0D-9469-4A355EAF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CDB4BEE-E7A8-4142-B82C-E9883A77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6830B91-7A75-43CA-A40F-9A99BD5F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2D60C48-A0F6-4375-9BB9-2574AC92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ADB081C-26E4-4235-B23B-A2DAAE2C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E2C2367-03B6-4658-9008-33CB5E9F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2CF8550-CC9E-4ADF-9FC1-B99F8EE4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28E4811-D5FA-455D-B3CE-B8B55A2C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DE4A4-2973-452B-A0F9-A28666D8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8066BA7-9F28-491F-97C0-1D7E7BA6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7F464C4-E43E-4830-8D51-90E4E49D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C28152B-6CC3-46F1-9AE9-55459DC9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F1DA6D1-2616-41AA-9266-04E0C30B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E1C829E-87C9-480B-BE14-9D6DE403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67A19-594D-47AA-A2E6-881EFFD4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54FBB-F335-493D-9F8A-357514B6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CAC37-79C8-4CDE-A304-40CD73C8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357-D1FD-4119-A5A7-2D337EDA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987FD-987C-40EB-909C-ECBCB824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46289-83FE-44BC-B6B3-D6646ED9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AEEBB-8BDD-44BE-8C2F-84BF1980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E3ED4-336F-4263-ACC9-4E3E9834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CF9B7-AC86-44A1-BB36-4ACF3141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A8F2A-372E-4C18-9183-A5A0A080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CD5C0-9A1F-4B6E-82D4-C7DC6AFC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E7869-06FB-471E-BCE2-ECF3662F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B1ACD-82F4-420C-A07F-F08C1864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99FDE-2AA5-42E1-B1D3-BCB14F05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542D-B707-4309-BFEF-9E8D123E24D2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7FF5-1CD4-4A11-B67F-BFD105DD236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C5FE-B2BA-4AFE-9F5C-7FD3D8A4D722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D32C-2FE9-401B-A9B2-E3D50116FD0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08C7-6246-4D01-90E6-D13AA478358A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9C3D-9AB6-4537-995A-BE086387422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B6D8-C9DB-480A-8483-9DB0EBA0DE91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F69D-6D23-4DB9-9483-30678467324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6081-10C4-44B4-BA88-19BD1A820BB3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EE8E-6EDF-4793-8FEE-F5DF361FC57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CE1F-98E4-427E-A0F5-DD750A4DA1D0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8B53-4A79-4CBB-9FDB-D671ED9B8A1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C096-8A0A-455B-90F7-620C06B61303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1EEA-2DD6-4625-B341-2E66909FC56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631C-5E6E-4BD9-9D06-121587B05A25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AB1D-413D-4823-84AE-3B1EEA877CF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24BE-CB79-44DC-B799-D14A93DA691D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27DE-333F-4A1D-B4C2-BC61838C01E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50F5-621D-4AF4-A850-165E53C228AF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BF24-9B97-4E09-BD41-E6FAB19BE11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3410-4223-4F81-9A2A-F9C03EC10505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83A5-AF15-4E11-A0EE-7AD2AB5AD82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9018-34E9-48AF-B467-7C8910047CD7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8956-B1D1-472E-AA21-BF317562152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10D1-C9BB-47DA-A892-7B8CC1BE298C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8AC3-F783-4B98-A724-B19DD7B175C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D7B1-FE64-4106-82CA-8C4BC65E2D01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4CAD-0CBE-4EFD-BED2-5D566ECBE43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4B9B-453E-40AA-9ADB-487D686DC456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C121-EE05-41AA-B18F-40CE5310EAC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660A-32D6-418B-B2D1-B0E677735A63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541B-F8D8-433C-B4B6-56D7293312F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724A-1879-4E13-9481-0CC982F3CEEA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77EE-D115-4EDC-9ECE-1920376D399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6E04-42AB-4D42-9439-B9317AFBE243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0F78-3541-4CD9-BB92-67B16F11F4F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A2DF-AE38-4BE3-B183-E8CAA095A39F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F28E-3EA0-4C21-BF84-14CF4CB6357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69BF-DF48-4288-8C24-366E133ED1CC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0DAA-450E-4B85-AB50-653002E03F7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1C74-21B6-40A3-9BD8-7CCC6FB585BC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5409-95D8-4909-8CA8-35D23A9D79B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0B52-8020-4AE2-9ED2-8F0954127D36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1FEB-8D21-4CA7-8E11-B4F9040236B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195F-170E-4B24-AEC5-F20FC7D85DA0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EA51-04D7-4949-87E2-FBD70C86C7D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E1B4-C19D-4069-97F6-E8225784903C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212C-9497-4767-8962-E132E1CAAE6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E9C0-CEC0-4982-9A3D-8473DE0A3BD4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5924-90F2-4B04-BEBF-599393D5A52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B3BF-EC46-46CD-91E4-EF9F0C06FA54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246C-984E-4AF0-8BB2-736D1D06EE2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4325-D8AB-46DA-9A15-A74371B5EA4B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9F7D-AB45-44AD-A964-3966CA87251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F9A8-45B2-4F22-BCA3-63910F7A4CAA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BBDA-4C24-4776-B6CD-753596D83DD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E544-A61A-4226-8F79-6220644A5917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343A-C2F2-4A9B-A16F-86A3C8CBFCA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3BCF-FFE0-44BE-AD0F-54AA8C2D26E3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5F88-F8C6-48E6-9E72-738F4BBEFE3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09E6-CE94-4E9E-BAFC-4C875C86011E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9143-9B3C-4A0D-BF6C-108744EDA65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396A-CAF2-417E-B7F9-5EF8ECE88103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6B47-40ED-4FBE-8AE6-8492A458A8F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B24B-CB3E-40C2-9E1F-86000FFB5E0D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70B6-4D2C-4C11-B60E-E286E3E29D0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8954-0B34-4727-98A3-ECD3E07062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2368-6D8E-40A7-AEB5-453A319589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BE7A-0AEB-4374-9EDE-39CE96BBDEE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0FC9-48E1-4D0E-841C-742FB05FCE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0FDC-816E-4286-AF05-F32C590A31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66AE-D371-489B-8B08-F2D91E20D2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AEFE-6C75-4491-BFA6-25B09A437C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3B82-8D37-4FE4-B93C-D2AE569A34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0C20-EA9F-4A00-9FA8-B5FC51162F9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B4E2-E015-4F98-9CBA-C87511AA58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0C21-0962-4CC1-BCDD-E8EDE1C3BD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93D9-9164-4A95-A83B-CF4D64AB42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F4DA-B5EA-4BDE-AAE2-B01400EA8EB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122B-1A71-499D-B1F0-081E18AA89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7B66-BA8D-413D-840E-78CAAE211AD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4DB0-D333-4E22-852D-947982C67A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30B7-3DE7-4658-81E5-C77C77864B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E4A0-D5C8-481A-889E-C94ED63C45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5661-1A32-443E-82A3-AE2C4BE0EB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D777-F481-48AB-B7E5-D02AE08CBB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E653-92F8-4D33-A684-B851FCEF1B0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B276-1ACC-4DF9-8F52-A50446C9C8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A089-3110-4140-91DD-7BD83F8540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C38D-9494-47D9-87B0-E5384993D3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7251-387C-46F5-9E30-E38C5F53BE5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C8EA-AF61-48A9-A72B-C906F3B4A7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64BA-39FE-4A59-AEA9-C38CDEF8698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69D1-A454-4E8C-9BBB-9CB38E131E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12C1-E05B-4999-812C-9546649D048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8081-77FF-42C0-92DE-1E2E77412A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31A0-2620-4B59-84C0-24804412B49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0499-AE37-4E73-974E-2E1BB03A72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7ED6-FBA3-4201-8A16-8C9483B796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8109-5FDE-41CD-9925-493A6053CB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64FE-E191-44AF-BDC5-2481527646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5DFB-070D-478C-9182-98AD4A9257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89C5-38DF-413D-8703-0ED7326D9B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A75D-5C6F-4915-B9F4-F1D697F6CA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0AB7-4036-48F3-BFD5-C9CF407054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9EA1-961E-4BEB-B49D-DA8E43A784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8387-A802-4970-8874-0AA6B2EE0A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345D-15F0-44EF-B89E-0535C1A6CE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4E14-E95A-4046-A2D7-9D303EDD6B0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53F1-E823-4276-BF3B-8AA7D19431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43F9-6DF7-4DA6-B0C3-7A9BE16C867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443E-A968-41A5-B0AD-62242A2DCA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4E58-EE7F-49DA-BE5F-134D5DF71F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D434-4572-409B-A5B7-B2FBAF9524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6685-DAA7-4C59-8FC8-3B6EE164BCA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3191-0C1C-4442-A68A-C7734EE586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2C7A-371A-4E9A-A840-E7179F6C024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8794-8A41-436B-A1D0-65DB485292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4404-A6B2-4B69-8057-12A6FF476C2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A601-6DB6-4A25-8640-2CB399FF7C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67B2-D063-4000-BCA4-6F254CC80C8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403A-7C34-4D6D-92AF-5F8D9EA1B7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2819-2A4C-493A-A9D0-06EA645915B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6B45-3ABC-4975-889B-F47CA2193C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D4BE-FAC2-4278-8D3F-72685E1AEC5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8E44-812E-4901-99F4-709A820E5C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C202-2EFB-4FB4-8819-079DDB0354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021D-6CEF-4E93-B4FE-E1A66A93D1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B61D-F23E-4AC7-924C-C537ED2222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08F1-6233-44E0-ADFB-29EDDD8F53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5134-C14F-4D20-A15F-29403CEA4EC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8C6E-A362-4CC9-ACEC-0282509576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6209-DFED-4919-AB8A-B0A195370BA9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19D5-35D0-43A8-8136-254CC21CD99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8B8C-D11F-4580-B1FD-1ED4073B20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AFF9-C902-44E8-9137-5EBF3CAB08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FAD4-1023-43EB-BFDA-2D2587C74B1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25B7-650A-4232-900E-17BF53D1C7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A10C-357D-4BF8-8FC4-08B2C8EBA7F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CDCC-B584-4371-953C-43F10E4C8D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12FE-2788-4B94-B7DC-861017CB7AA7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C3D8-796C-4577-8525-A4B6000D142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3A3D-4CF4-41CE-92D9-66451DDCF51B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A492-1434-42FF-B8D8-A80BF41E2E5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0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矩形​​ 2"/>
          <p:cNvSpPr/>
          <p:nvPr/>
        </p:nvSpPr>
        <p:spPr>
          <a:xfrm>
            <a:off x="19080" y="-6480"/>
            <a:ext cx="9144000" cy="6864480"/>
          </a:xfrm>
          <a:prstGeom prst="rect">
            <a:avLst/>
          </a:prstGeom>
          <a:gradFill rotWithShape="0">
            <a:gsLst>
              <a:gs pos="0">
                <a:srgbClr val="0c0c0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五角星 4"/>
          <p:cNvSpPr/>
          <p:nvPr/>
        </p:nvSpPr>
        <p:spPr>
          <a:xfrm rot="19800000">
            <a:off x="4430880" y="3684240"/>
            <a:ext cx="2663640" cy="2884320"/>
          </a:xfrm>
          <a:custGeom>
            <a:avLst/>
            <a:gdLst/>
            <a:ahLst/>
            <a:rect l="l" t="t" r="r" b="b"/>
            <a:pathLst>
              <a:path w="2663825" h="2884487">
                <a:moveTo>
                  <a:pt x="3" y="1101773"/>
                </a:moveTo>
                <a:lnTo>
                  <a:pt x="1017496" y="1101781"/>
                </a:lnTo>
                <a:lnTo>
                  <a:pt x="1331913" y="0"/>
                </a:lnTo>
                <a:lnTo>
                  <a:pt x="1646329" y="1101781"/>
                </a:lnTo>
                <a:lnTo>
                  <a:pt x="2663822" y="1101773"/>
                </a:lnTo>
                <a:lnTo>
                  <a:pt x="1840649" y="1782704"/>
                </a:lnTo>
                <a:lnTo>
                  <a:pt x="2155078" y="2884480"/>
                </a:lnTo>
                <a:lnTo>
                  <a:pt x="1331913" y="2203537"/>
                </a:lnTo>
                <a:lnTo>
                  <a:pt x="508747" y="2884480"/>
                </a:lnTo>
                <a:lnTo>
                  <a:pt x="823176" y="1782704"/>
                </a:lnTo>
                <a:lnTo>
                  <a:pt x="3" y="110177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五角星 11"/>
          <p:cNvSpPr/>
          <p:nvPr/>
        </p:nvSpPr>
        <p:spPr>
          <a:xfrm rot="19800000">
            <a:off x="914400" y="5694120"/>
            <a:ext cx="826920" cy="855720"/>
          </a:xfrm>
          <a:custGeom>
            <a:avLst/>
            <a:gdLst/>
            <a:ahLst/>
            <a:rect l="l" t="t" r="r" b="b"/>
            <a:pathLst>
              <a:path w="827088" h="855662">
                <a:moveTo>
                  <a:pt x="1" y="326833"/>
                </a:moveTo>
                <a:lnTo>
                  <a:pt x="315921" y="326835"/>
                </a:lnTo>
                <a:lnTo>
                  <a:pt x="413544" y="0"/>
                </a:lnTo>
                <a:lnTo>
                  <a:pt x="511167" y="326835"/>
                </a:lnTo>
                <a:lnTo>
                  <a:pt x="827087" y="326833"/>
                </a:lnTo>
                <a:lnTo>
                  <a:pt x="571501" y="528826"/>
                </a:lnTo>
                <a:lnTo>
                  <a:pt x="669128" y="855660"/>
                </a:lnTo>
                <a:lnTo>
                  <a:pt x="413544" y="653663"/>
                </a:lnTo>
                <a:lnTo>
                  <a:pt x="157960" y="855660"/>
                </a:lnTo>
                <a:lnTo>
                  <a:pt x="255587" y="528826"/>
                </a:lnTo>
                <a:lnTo>
                  <a:pt x="1" y="3268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5" name="TextBox 35"/>
          <p:cNvSpPr/>
          <p:nvPr/>
        </p:nvSpPr>
        <p:spPr>
          <a:xfrm>
            <a:off x="7600320" y="506736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By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乌素淖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6" name="Group 19"/>
          <p:cNvGrpSpPr/>
          <p:nvPr/>
        </p:nvGrpSpPr>
        <p:grpSpPr>
          <a:xfrm>
            <a:off x="509400" y="426960"/>
            <a:ext cx="7008120" cy="2244960"/>
            <a:chOff x="509400" y="426960"/>
            <a:chExt cx="7008120" cy="2244960"/>
          </a:xfrm>
        </p:grpSpPr>
        <p:sp>
          <p:nvSpPr>
            <p:cNvPr id="2957" name="TextBox 21"/>
            <p:cNvSpPr/>
            <p:nvPr/>
          </p:nvSpPr>
          <p:spPr>
            <a:xfrm>
              <a:off x="509400" y="426960"/>
              <a:ext cx="38440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20</a:t>
              </a:r>
              <a:r>
                <a:rPr b="0" lang="zh-CN" sz="12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</a:t>
              </a:r>
              <a:r>
                <a:rPr b="0" lang="en-US" sz="12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</a:t>
              </a:r>
              <a:endParaRPr b="0" lang="en-US" sz="1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8" name="TextBox 30"/>
            <p:cNvSpPr/>
            <p:nvPr/>
          </p:nvSpPr>
          <p:spPr>
            <a:xfrm>
              <a:off x="5142240" y="1531800"/>
              <a:ext cx="237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dae5f1"/>
                  </a:solidFill>
                  <a:latin typeface="微软雅黑"/>
                  <a:ea typeface="微软雅黑"/>
                </a:rPr>
                <a:t>学期回顾答辩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9" name="TextBox 23"/>
            <p:cNvSpPr/>
            <p:nvPr/>
          </p:nvSpPr>
          <p:spPr>
            <a:xfrm>
              <a:off x="4731840" y="460080"/>
              <a:ext cx="2171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6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社团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0" name="矩形 24"/>
            <p:cNvSpPr/>
            <p:nvPr/>
          </p:nvSpPr>
          <p:spPr>
            <a:xfrm>
              <a:off x="4092480" y="577800"/>
              <a:ext cx="117360" cy="20941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61" name="五角星 25"/>
          <p:cNvSpPr/>
          <p:nvPr/>
        </p:nvSpPr>
        <p:spPr>
          <a:xfrm>
            <a:off x="2486160" y="4911840"/>
            <a:ext cx="907920" cy="1209600"/>
          </a:xfrm>
          <a:custGeom>
            <a:avLst/>
            <a:gdLst/>
            <a:ahLst/>
            <a:rect l="l" t="t" r="r" b="b"/>
            <a:pathLst>
              <a:path w="908050" h="1209675">
                <a:moveTo>
                  <a:pt x="1" y="462054"/>
                </a:moveTo>
                <a:lnTo>
                  <a:pt x="346846" y="462057"/>
                </a:lnTo>
                <a:lnTo>
                  <a:pt x="454025" y="0"/>
                </a:lnTo>
                <a:lnTo>
                  <a:pt x="561204" y="462057"/>
                </a:lnTo>
                <a:lnTo>
                  <a:pt x="908049" y="462054"/>
                </a:lnTo>
                <a:lnTo>
                  <a:pt x="627444" y="747617"/>
                </a:lnTo>
                <a:lnTo>
                  <a:pt x="734627" y="1209672"/>
                </a:lnTo>
                <a:lnTo>
                  <a:pt x="454025" y="924103"/>
                </a:lnTo>
                <a:lnTo>
                  <a:pt x="173423" y="1209672"/>
                </a:lnTo>
                <a:lnTo>
                  <a:pt x="280606" y="747617"/>
                </a:lnTo>
                <a:lnTo>
                  <a:pt x="1" y="4620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2" name="Group 2"/>
          <p:cNvGrpSpPr/>
          <p:nvPr/>
        </p:nvGrpSpPr>
        <p:grpSpPr>
          <a:xfrm>
            <a:off x="-930600" y="593640"/>
            <a:ext cx="8039160" cy="5754960"/>
            <a:chOff x="-930600" y="593640"/>
            <a:chExt cx="8039160" cy="5754960"/>
          </a:xfrm>
        </p:grpSpPr>
        <p:sp>
          <p:nvSpPr>
            <p:cNvPr id="2963" name="矩形 3"/>
            <p:cNvSpPr/>
            <p:nvPr/>
          </p:nvSpPr>
          <p:spPr>
            <a:xfrm rot="3313800">
              <a:off x="-758880" y="1580400"/>
              <a:ext cx="1276200" cy="108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4" name="矩形 4"/>
            <p:cNvSpPr/>
            <p:nvPr/>
          </p:nvSpPr>
          <p:spPr>
            <a:xfrm rot="3313800">
              <a:off x="195840" y="983880"/>
              <a:ext cx="1276200" cy="92484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5" name="矩形 6"/>
            <p:cNvSpPr/>
            <p:nvPr/>
          </p:nvSpPr>
          <p:spPr>
            <a:xfrm rot="3313800">
              <a:off x="528840" y="2945520"/>
              <a:ext cx="1273680" cy="1199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6" name="矩形 7"/>
            <p:cNvSpPr/>
            <p:nvPr/>
          </p:nvSpPr>
          <p:spPr>
            <a:xfrm rot="3313800">
              <a:off x="1666080" y="2068920"/>
              <a:ext cx="1276200" cy="1339920"/>
            </a:xfrm>
            <a:prstGeom prst="rect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7" name="矩形 9"/>
            <p:cNvSpPr/>
            <p:nvPr/>
          </p:nvSpPr>
          <p:spPr>
            <a:xfrm rot="3313800">
              <a:off x="2654280" y="3796200"/>
              <a:ext cx="1273680" cy="1216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8" name="矩形 10"/>
            <p:cNvSpPr/>
            <p:nvPr/>
          </p:nvSpPr>
          <p:spPr>
            <a:xfrm rot="3313800">
              <a:off x="3744720" y="3005640"/>
              <a:ext cx="1273680" cy="119304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9" name="矩形 12"/>
            <p:cNvSpPr/>
            <p:nvPr/>
          </p:nvSpPr>
          <p:spPr>
            <a:xfrm rot="3313800">
              <a:off x="4362840" y="4925880"/>
              <a:ext cx="1273680" cy="1145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0" name="矩形 13"/>
            <p:cNvSpPr/>
            <p:nvPr/>
          </p:nvSpPr>
          <p:spPr>
            <a:xfrm rot="3313800">
              <a:off x="5523120" y="3966120"/>
              <a:ext cx="1276200" cy="1420200"/>
            </a:xfrm>
            <a:prstGeom prst="rect">
              <a:avLst/>
            </a:prstGeom>
            <a:solidFill>
              <a:srgbClr val="205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1" name="TextBox 16"/>
            <p:cNvSpPr/>
            <p:nvPr/>
          </p:nvSpPr>
          <p:spPr>
            <a:xfrm rot="3313800">
              <a:off x="578520" y="894240"/>
              <a:ext cx="103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2" name="TextBox 17"/>
            <p:cNvSpPr/>
            <p:nvPr/>
          </p:nvSpPr>
          <p:spPr>
            <a:xfrm rot="3313800">
              <a:off x="2079000" y="2200680"/>
              <a:ext cx="103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3" name="TextBox 18"/>
            <p:cNvSpPr/>
            <p:nvPr/>
          </p:nvSpPr>
          <p:spPr>
            <a:xfrm rot="3313800">
              <a:off x="4114440" y="3137400"/>
              <a:ext cx="103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4" name="TextBox 19"/>
            <p:cNvSpPr/>
            <p:nvPr/>
          </p:nvSpPr>
          <p:spPr>
            <a:xfrm rot="3313800">
              <a:off x="6027120" y="4116960"/>
              <a:ext cx="103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75" name="World Of Warcraft - 亡灵序曲.mp3" descr=""/>
          <p:cNvPicPr/>
          <p:nvPr/>
        </p:nvPicPr>
        <p:blipFill>
          <a:blip r:embed="rId5"/>
          <a:stretch/>
        </p:blipFill>
        <p:spPr>
          <a:xfrm>
            <a:off x="7985160" y="54039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五角星 5"/>
          <p:cNvSpPr/>
          <p:nvPr/>
        </p:nvSpPr>
        <p:spPr>
          <a:xfrm rot="19800000">
            <a:off x="3057480" y="-88560"/>
            <a:ext cx="1565280" cy="1562040"/>
          </a:xfrm>
          <a:custGeom>
            <a:avLst/>
            <a:gdLst/>
            <a:ahLst/>
            <a:rect l="l" t="t" r="r" b="b"/>
            <a:pathLst>
              <a:path w="1565275" h="1562100">
                <a:moveTo>
                  <a:pt x="2" y="596668"/>
                </a:moveTo>
                <a:lnTo>
                  <a:pt x="597885" y="596672"/>
                </a:lnTo>
                <a:lnTo>
                  <a:pt x="782638" y="0"/>
                </a:lnTo>
                <a:lnTo>
                  <a:pt x="967390" y="596672"/>
                </a:lnTo>
                <a:lnTo>
                  <a:pt x="1565273" y="596668"/>
                </a:lnTo>
                <a:lnTo>
                  <a:pt x="1081573" y="965427"/>
                </a:lnTo>
                <a:lnTo>
                  <a:pt x="1266333" y="1562096"/>
                </a:lnTo>
                <a:lnTo>
                  <a:pt x="782638" y="1193330"/>
                </a:lnTo>
                <a:lnTo>
                  <a:pt x="298942" y="1562096"/>
                </a:lnTo>
                <a:lnTo>
                  <a:pt x="483702" y="965427"/>
                </a:lnTo>
                <a:lnTo>
                  <a:pt x="2" y="59666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Rectangle 5"/>
          <p:cNvSpPr/>
          <p:nvPr/>
        </p:nvSpPr>
        <p:spPr>
          <a:xfrm>
            <a:off x="378000" y="1300320"/>
            <a:ext cx="7434000" cy="4649760"/>
          </a:xfrm>
          <a:prstGeom prst="rect">
            <a:avLst/>
          </a:prstGeom>
          <a:solidFill>
            <a:srgbClr val="20586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8" name="TextBox 1"/>
          <p:cNvSpPr/>
          <p:nvPr/>
        </p:nvSpPr>
        <p:spPr>
          <a:xfrm>
            <a:off x="503280" y="40464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到场的嘉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TextBox 2"/>
          <p:cNvSpPr/>
          <p:nvPr/>
        </p:nvSpPr>
        <p:spPr>
          <a:xfrm>
            <a:off x="539640" y="162864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校学生处  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王某  </a:t>
            </a: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处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校学生处  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王某  </a:t>
            </a: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处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校学生处  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王某  </a:t>
            </a: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处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校学生处  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王某  </a:t>
            </a: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处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校学生处  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王某  </a:t>
            </a: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处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校学生处  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王某  </a:t>
            </a: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处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校学生处  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王某  </a:t>
            </a: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处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校学生处  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王某  </a:t>
            </a: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处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校学生处  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王某  </a:t>
            </a:r>
            <a:r>
              <a:rPr b="1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处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3185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矩形 7"/>
          <p:cNvSpPr/>
          <p:nvPr/>
        </p:nvSpPr>
        <p:spPr>
          <a:xfrm>
            <a:off x="1876680" y="765000"/>
            <a:ext cx="507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仿宋"/>
              </a:rPr>
              <a:t>&gt;&gt;&gt;</a:t>
            </a:r>
            <a:r>
              <a:rPr b="1" lang="zh-CN" sz="5400" spc="-1" strike="noStrike">
                <a:solidFill>
                  <a:srgbClr val="002060"/>
                </a:solidFill>
                <a:latin typeface="幼圆"/>
                <a:ea typeface="幼圆"/>
              </a:rPr>
              <a:t>本学期活动展开情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TextBox 8"/>
          <p:cNvSpPr/>
          <p:nvPr/>
        </p:nvSpPr>
        <p:spPr>
          <a:xfrm>
            <a:off x="1260360" y="270828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244061"/>
                </a:solidFill>
                <a:latin typeface="微软雅黑"/>
                <a:ea typeface="微软雅黑"/>
              </a:rPr>
              <a:t>精彩即将开始</a:t>
            </a:r>
            <a:r>
              <a:rPr b="0" lang="en-US" sz="8000" spc="-1" strike="noStrike">
                <a:solidFill>
                  <a:srgbClr val="244061"/>
                </a:solidFill>
                <a:latin typeface="微软雅黑"/>
                <a:ea typeface="微软雅黑"/>
              </a:rPr>
              <a:t>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3185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2" name="图片 5" descr=""/>
          <p:cNvPicPr/>
          <p:nvPr/>
        </p:nvPicPr>
        <p:blipFill>
          <a:blip r:embed="rId1"/>
          <a:srcRect l="1994" t="3931" r="3935" b="3931"/>
          <a:stretch/>
        </p:blipFill>
        <p:spPr>
          <a:xfrm rot="954600">
            <a:off x="4682880" y="423720"/>
            <a:ext cx="4248000" cy="3121200"/>
          </a:xfrm>
          <a:prstGeom prst="rect">
            <a:avLst/>
          </a:prstGeom>
          <a:ln w="0">
            <a:noFill/>
          </a:ln>
        </p:spPr>
      </p:pic>
      <p:pic>
        <p:nvPicPr>
          <p:cNvPr id="2983" name="图片 7" descr=""/>
          <p:cNvPicPr/>
          <p:nvPr/>
        </p:nvPicPr>
        <p:blipFill>
          <a:blip r:embed="rId2"/>
          <a:stretch/>
        </p:blipFill>
        <p:spPr>
          <a:xfrm rot="21080400">
            <a:off x="5246280" y="3561840"/>
            <a:ext cx="3871800" cy="2419560"/>
          </a:xfrm>
          <a:prstGeom prst="rect">
            <a:avLst/>
          </a:prstGeom>
          <a:ln w="0">
            <a:noFill/>
          </a:ln>
        </p:spPr>
      </p:pic>
      <p:sp>
        <p:nvSpPr>
          <p:cNvPr id="2984" name=""/>
          <p:cNvSpPr txBox="1"/>
          <p:nvPr/>
        </p:nvSpPr>
        <p:spPr>
          <a:xfrm>
            <a:off x="4395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时间：</a:t>
            </a:r>
            <a:r>
              <a:rPr b="0" lang="en-US" sz="3200" spc="-1" strike="noStrike">
                <a:solidFill>
                  <a:srgbClr val="014d67"/>
                </a:solidFill>
                <a:latin typeface="微软雅黑"/>
                <a:ea typeface="微软雅黑"/>
              </a:rPr>
              <a:t>2012</a:t>
            </a:r>
            <a:r>
              <a:rPr b="0" lang="zh-CN" sz="3200" spc="-1" strike="noStrike">
                <a:solidFill>
                  <a:srgbClr val="014d67"/>
                </a:solidFill>
                <a:latin typeface="微软雅黑"/>
                <a:ea typeface="微软雅黑"/>
              </a:rPr>
              <a:t>年</a:t>
            </a:r>
            <a:r>
              <a:rPr b="0" lang="en-US" sz="3200" spc="-1" strike="noStrike">
                <a:solidFill>
                  <a:srgbClr val="014d67"/>
                </a:solidFill>
                <a:latin typeface="微软雅黑"/>
                <a:ea typeface="微软雅黑"/>
              </a:rPr>
              <a:t>X</a:t>
            </a:r>
            <a:r>
              <a:rPr b="0" lang="zh-CN" sz="3200" spc="-1" strike="noStrike">
                <a:solidFill>
                  <a:srgbClr val="014d67"/>
                </a:solidFill>
                <a:latin typeface="微软雅黑"/>
                <a:ea typeface="微软雅黑"/>
              </a:rPr>
              <a:t>月</a:t>
            </a:r>
            <a:r>
              <a:rPr b="0" lang="en-US" sz="3200" spc="-1" strike="noStrike">
                <a:solidFill>
                  <a:srgbClr val="014d67"/>
                </a:solidFill>
                <a:latin typeface="微软雅黑"/>
                <a:ea typeface="微软雅黑"/>
              </a:rPr>
              <a:t>X</a:t>
            </a:r>
            <a:r>
              <a:rPr b="0" lang="zh-CN" sz="3200" spc="-1" strike="noStrike">
                <a:solidFill>
                  <a:srgbClr val="014d67"/>
                </a:solidFill>
                <a:latin typeface="微软雅黑"/>
                <a:ea typeface="微软雅黑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地点：</a:t>
            </a:r>
            <a:r>
              <a:rPr b="0" lang="en-US" sz="3200" spc="-1" strike="noStrike">
                <a:solidFill>
                  <a:srgbClr val="014d67"/>
                </a:solidFill>
                <a:latin typeface="微软雅黑"/>
                <a:ea typeface="微软雅黑"/>
              </a:rPr>
              <a:t>X</a:t>
            </a:r>
            <a:r>
              <a:rPr b="0" lang="zh-CN" sz="3200" spc="-1" strike="noStrike">
                <a:solidFill>
                  <a:srgbClr val="014d67"/>
                </a:solidFill>
                <a:latin typeface="微软雅黑"/>
                <a:ea typeface="微软雅黑"/>
              </a:rPr>
              <a:t>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简介：</a:t>
            </a:r>
            <a:r>
              <a:rPr b="0" lang="en-US" sz="3200" spc="-1" strike="noStrike">
                <a:solidFill>
                  <a:srgbClr val="014d67"/>
                </a:solidFill>
                <a:latin typeface="微软雅黑"/>
                <a:ea typeface="微软雅黑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矩形 3"/>
          <p:cNvSpPr/>
          <p:nvPr/>
        </p:nvSpPr>
        <p:spPr>
          <a:xfrm>
            <a:off x="2711880" y="579600"/>
            <a:ext cx="301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仿宋"/>
              </a:rPr>
              <a:t>&gt;&gt;&gt;</a:t>
            </a:r>
            <a:r>
              <a:rPr b="1" lang="zh-CN" sz="5400" spc="-1" strike="noStrike">
                <a:solidFill>
                  <a:srgbClr val="002060"/>
                </a:solidFill>
                <a:latin typeface="幼圆"/>
                <a:ea typeface="幼圆"/>
              </a:rPr>
              <a:t>活动名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6" name="Rectangle 6"/>
          <p:cNvSpPr/>
          <p:nvPr/>
        </p:nvSpPr>
        <p:spPr>
          <a:xfrm>
            <a:off x="1511280" y="4113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2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2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2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3185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7" name="Group 2"/>
          <p:cNvGrpSpPr/>
          <p:nvPr/>
        </p:nvGrpSpPr>
        <p:grpSpPr>
          <a:xfrm>
            <a:off x="4390920" y="359280"/>
            <a:ext cx="4729320" cy="2011320"/>
            <a:chOff x="4390920" y="359280"/>
            <a:chExt cx="4729320" cy="2011320"/>
          </a:xfrm>
        </p:grpSpPr>
        <p:sp>
          <p:nvSpPr>
            <p:cNvPr id="2988" name="TextBox 10"/>
            <p:cNvSpPr/>
            <p:nvPr/>
          </p:nvSpPr>
          <p:spPr>
            <a:xfrm rot="20460000">
              <a:off x="4333680" y="1135080"/>
              <a:ext cx="48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延续精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9" name="TextBox 14"/>
          <p:cNvSpPr/>
          <p:nvPr/>
        </p:nvSpPr>
        <p:spPr>
          <a:xfrm rot="20460000">
            <a:off x="5142960" y="588600"/>
            <a:ext cx="39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第二届 </a:t>
            </a: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VOL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0" name="Group 10"/>
          <p:cNvGrpSpPr/>
          <p:nvPr/>
        </p:nvGrpSpPr>
        <p:grpSpPr>
          <a:xfrm>
            <a:off x="289080" y="2637000"/>
            <a:ext cx="4066920" cy="4201920"/>
            <a:chOff x="289080" y="2637000"/>
            <a:chExt cx="4066920" cy="4201920"/>
          </a:xfrm>
        </p:grpSpPr>
        <p:grpSp>
          <p:nvGrpSpPr>
            <p:cNvPr id="2991" name="Group 11"/>
            <p:cNvGrpSpPr/>
            <p:nvPr/>
          </p:nvGrpSpPr>
          <p:grpSpPr>
            <a:xfrm>
              <a:off x="289080" y="4380120"/>
              <a:ext cx="737640" cy="2458800"/>
              <a:chOff x="289080" y="4380120"/>
              <a:chExt cx="737640" cy="2458800"/>
            </a:xfrm>
          </p:grpSpPr>
          <p:sp>
            <p:nvSpPr>
              <p:cNvPr id="2992" name="矩形 36"/>
              <p:cNvSpPr/>
              <p:nvPr/>
            </p:nvSpPr>
            <p:spPr>
              <a:xfrm>
                <a:off x="289080" y="5794560"/>
                <a:ext cx="737640" cy="1044360"/>
              </a:xfrm>
              <a:prstGeom prst="rect">
                <a:avLst/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7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长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议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3" name="矩形 37"/>
              <p:cNvSpPr/>
              <p:nvPr/>
            </p:nvSpPr>
            <p:spPr>
              <a:xfrm>
                <a:off x="289080" y="5038920"/>
                <a:ext cx="737640" cy="6602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4" name="矩形 38"/>
              <p:cNvSpPr/>
              <p:nvPr/>
            </p:nvSpPr>
            <p:spPr>
              <a:xfrm>
                <a:off x="289080" y="4380120"/>
                <a:ext cx="737640" cy="561960"/>
              </a:xfrm>
              <a:prstGeom prst="rect">
                <a:avLst/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5" name="Group 15"/>
            <p:cNvGrpSpPr/>
            <p:nvPr/>
          </p:nvGrpSpPr>
          <p:grpSpPr>
            <a:xfrm>
              <a:off x="1398600" y="3958560"/>
              <a:ext cx="737640" cy="2880360"/>
              <a:chOff x="1398600" y="3958560"/>
              <a:chExt cx="737640" cy="2880360"/>
            </a:xfrm>
          </p:grpSpPr>
          <p:grpSp>
            <p:nvGrpSpPr>
              <p:cNvPr id="2996" name="Group 16"/>
              <p:cNvGrpSpPr/>
              <p:nvPr/>
            </p:nvGrpSpPr>
            <p:grpSpPr>
              <a:xfrm>
                <a:off x="1398600" y="4844160"/>
                <a:ext cx="737640" cy="1994760"/>
                <a:chOff x="1398600" y="4844160"/>
                <a:chExt cx="737640" cy="1994760"/>
              </a:xfrm>
            </p:grpSpPr>
            <p:sp>
              <p:nvSpPr>
                <p:cNvPr id="2997" name="矩形 34"/>
                <p:cNvSpPr/>
                <p:nvPr/>
              </p:nvSpPr>
              <p:spPr>
                <a:xfrm>
                  <a:off x="1398600" y="5650920"/>
                  <a:ext cx="737640" cy="1188000"/>
                </a:xfrm>
                <a:prstGeom prst="rect">
                  <a:avLst/>
                </a:prstGeom>
                <a:solidFill>
                  <a:srgbClr val="9748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彩排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暨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动员大会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98" name="矩形 35"/>
                <p:cNvSpPr/>
                <p:nvPr/>
              </p:nvSpPr>
              <p:spPr>
                <a:xfrm>
                  <a:off x="1398600" y="4844160"/>
                  <a:ext cx="737640" cy="729000"/>
                </a:xfrm>
                <a:prstGeom prst="rect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99" name="矩形 33"/>
              <p:cNvSpPr/>
              <p:nvPr/>
            </p:nvSpPr>
            <p:spPr>
              <a:xfrm>
                <a:off x="1398600" y="3958560"/>
                <a:ext cx="737640" cy="814320"/>
              </a:xfrm>
              <a:prstGeom prst="rect">
                <a:avLst/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00" name="Group 20"/>
            <p:cNvGrpSpPr/>
            <p:nvPr/>
          </p:nvGrpSpPr>
          <p:grpSpPr>
            <a:xfrm>
              <a:off x="2508480" y="3260160"/>
              <a:ext cx="752400" cy="3578760"/>
              <a:chOff x="2508480" y="3260160"/>
              <a:chExt cx="752400" cy="3578760"/>
            </a:xfrm>
          </p:grpSpPr>
          <p:grpSp>
            <p:nvGrpSpPr>
              <p:cNvPr id="3001" name="Group 21"/>
              <p:cNvGrpSpPr/>
              <p:nvPr/>
            </p:nvGrpSpPr>
            <p:grpSpPr>
              <a:xfrm>
                <a:off x="2508480" y="4069800"/>
                <a:ext cx="752400" cy="2769120"/>
                <a:chOff x="2508480" y="4069800"/>
                <a:chExt cx="752400" cy="2769120"/>
              </a:xfrm>
            </p:grpSpPr>
            <p:sp>
              <p:nvSpPr>
                <p:cNvPr id="3002" name="矩形 30"/>
                <p:cNvSpPr/>
                <p:nvPr/>
              </p:nvSpPr>
              <p:spPr>
                <a:xfrm>
                  <a:off x="2508480" y="4879440"/>
                  <a:ext cx="738360" cy="1959480"/>
                </a:xfrm>
                <a:prstGeom prst="rect">
                  <a:avLst/>
                </a:prstGeom>
                <a:solidFill>
                  <a:srgbClr val="318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带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妆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彩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排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03" name="矩形 31"/>
                <p:cNvSpPr/>
                <p:nvPr/>
              </p:nvSpPr>
              <p:spPr>
                <a:xfrm>
                  <a:off x="2522520" y="4069800"/>
                  <a:ext cx="738360" cy="739800"/>
                </a:xfrm>
                <a:prstGeom prst="rect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04" name="矩形 29"/>
              <p:cNvSpPr/>
              <p:nvPr/>
            </p:nvSpPr>
            <p:spPr>
              <a:xfrm>
                <a:off x="2508480" y="3260160"/>
                <a:ext cx="738000" cy="723960"/>
              </a:xfrm>
              <a:prstGeom prst="rect">
                <a:avLst/>
              </a:prstGeom>
              <a:solidFill>
                <a:srgbClr val="3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05" name="Group 25"/>
            <p:cNvGrpSpPr/>
            <p:nvPr/>
          </p:nvGrpSpPr>
          <p:grpSpPr>
            <a:xfrm>
              <a:off x="3618360" y="2666160"/>
              <a:ext cx="737640" cy="4172760"/>
              <a:chOff x="3618360" y="2666160"/>
              <a:chExt cx="737640" cy="4172760"/>
            </a:xfrm>
          </p:grpSpPr>
          <p:grpSp>
            <p:nvGrpSpPr>
              <p:cNvPr id="3006" name="Group 26"/>
              <p:cNvGrpSpPr/>
              <p:nvPr/>
            </p:nvGrpSpPr>
            <p:grpSpPr>
              <a:xfrm>
                <a:off x="3618360" y="3609360"/>
                <a:ext cx="737640" cy="3229560"/>
                <a:chOff x="3618360" y="3609360"/>
                <a:chExt cx="737640" cy="3229560"/>
              </a:xfrm>
            </p:grpSpPr>
            <p:sp>
              <p:nvSpPr>
                <p:cNvPr id="3007" name="矩形 26"/>
                <p:cNvSpPr/>
                <p:nvPr/>
              </p:nvSpPr>
              <p:spPr>
                <a:xfrm>
                  <a:off x="3618360" y="4379400"/>
                  <a:ext cx="737640" cy="2459520"/>
                </a:xfrm>
                <a:prstGeom prst="rect">
                  <a:avLst/>
                </a:prstGeom>
                <a:solidFill>
                  <a:srgbClr val="2058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心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理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剧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大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赛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决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赛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08" name="矩形 27"/>
                <p:cNvSpPr/>
                <p:nvPr/>
              </p:nvSpPr>
              <p:spPr>
                <a:xfrm>
                  <a:off x="3618360" y="3609360"/>
                  <a:ext cx="737640" cy="696960"/>
                </a:xfrm>
                <a:prstGeom prst="rect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09" name="矩形 25"/>
              <p:cNvSpPr/>
              <p:nvPr/>
            </p:nvSpPr>
            <p:spPr>
              <a:xfrm>
                <a:off x="3618360" y="2666160"/>
                <a:ext cx="737640" cy="863640"/>
              </a:xfrm>
              <a:prstGeom prst="rect">
                <a:avLst/>
              </a:prstGeom>
              <a:solidFill>
                <a:srgbClr val="2058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10" name="TextBox 20"/>
            <p:cNvSpPr/>
            <p:nvPr/>
          </p:nvSpPr>
          <p:spPr>
            <a:xfrm>
              <a:off x="320400" y="4263480"/>
              <a:ext cx="59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1" name="TextBox 21"/>
            <p:cNvSpPr/>
            <p:nvPr/>
          </p:nvSpPr>
          <p:spPr>
            <a:xfrm>
              <a:off x="1446840" y="3957840"/>
              <a:ext cx="59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2" name="TextBox 22"/>
            <p:cNvSpPr/>
            <p:nvPr/>
          </p:nvSpPr>
          <p:spPr>
            <a:xfrm>
              <a:off x="2577600" y="3259440"/>
              <a:ext cx="59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3" name="TextBox 23"/>
            <p:cNvSpPr/>
            <p:nvPr/>
          </p:nvSpPr>
          <p:spPr>
            <a:xfrm>
              <a:off x="3687480" y="2637000"/>
              <a:ext cx="59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4" name="TextBox 6"/>
          <p:cNvSpPr/>
          <p:nvPr/>
        </p:nvSpPr>
        <p:spPr>
          <a:xfrm>
            <a:off x="0" y="1676520"/>
            <a:ext cx="51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①</a:t>
            </a:r>
            <a:r>
              <a:rPr b="1" lang="en-US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11</a:t>
            </a:r>
            <a:r>
              <a:rPr b="1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5</a:t>
            </a:r>
            <a:r>
              <a:rPr b="1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日 心协办公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TextBox 39"/>
          <p:cNvSpPr/>
          <p:nvPr/>
        </p:nvSpPr>
        <p:spPr>
          <a:xfrm>
            <a:off x="0" y="2046240"/>
            <a:ext cx="42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74806"/>
                </a:solidFill>
                <a:latin typeface="微软雅黑"/>
                <a:ea typeface="微软雅黑"/>
              </a:rPr>
              <a:t>②</a:t>
            </a:r>
            <a:r>
              <a:rPr b="1" lang="en-US" sz="3200" spc="-1" strike="noStrike">
                <a:solidFill>
                  <a:srgbClr val="974806"/>
                </a:solidFill>
                <a:latin typeface="微软雅黑"/>
                <a:ea typeface="微软雅黑"/>
              </a:rPr>
              <a:t>11</a:t>
            </a:r>
            <a:r>
              <a:rPr b="1" lang="zh-CN" sz="3200" spc="-1" strike="noStrike">
                <a:solidFill>
                  <a:srgbClr val="974806"/>
                </a:solidFill>
                <a:latin typeface="微软雅黑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974806"/>
                </a:solidFill>
                <a:latin typeface="微软雅黑"/>
                <a:ea typeface="微软雅黑"/>
              </a:rPr>
              <a:t>27</a:t>
            </a:r>
            <a:r>
              <a:rPr b="1" lang="zh-CN" sz="3200" spc="-1" strike="noStrike">
                <a:solidFill>
                  <a:srgbClr val="974806"/>
                </a:solidFill>
                <a:latin typeface="微软雅黑"/>
                <a:ea typeface="微软雅黑"/>
              </a:rPr>
              <a:t>日 食堂</a:t>
            </a:r>
            <a:r>
              <a:rPr b="1" lang="en-US" sz="3200" spc="-1" strike="noStrike">
                <a:solidFill>
                  <a:srgbClr val="974806"/>
                </a:solidFill>
                <a:latin typeface="微软雅黑"/>
                <a:ea typeface="微软雅黑"/>
              </a:rPr>
              <a:t>5</a:t>
            </a:r>
            <a:r>
              <a:rPr b="1" lang="zh-CN" sz="3200" spc="-1" strike="noStrike">
                <a:solidFill>
                  <a:srgbClr val="974806"/>
                </a:solidFill>
                <a:latin typeface="微软雅黑"/>
                <a:ea typeface="微软雅黑"/>
              </a:rPr>
              <a:t>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TextBox 40"/>
          <p:cNvSpPr/>
          <p:nvPr/>
        </p:nvSpPr>
        <p:spPr>
          <a:xfrm>
            <a:off x="0" y="2416320"/>
            <a:ext cx="548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859b"/>
                </a:solidFill>
                <a:latin typeface="微软雅黑"/>
                <a:ea typeface="微软雅黑"/>
              </a:rPr>
              <a:t>③</a:t>
            </a:r>
            <a:r>
              <a:rPr b="1" lang="en-US" sz="3200" spc="-1" strike="noStrike">
                <a:solidFill>
                  <a:srgbClr val="31859b"/>
                </a:solidFill>
                <a:latin typeface="微软雅黑"/>
                <a:ea typeface="微软雅黑"/>
              </a:rPr>
              <a:t>12</a:t>
            </a:r>
            <a:r>
              <a:rPr b="1" lang="zh-CN" sz="3200" spc="-1" strike="noStrike">
                <a:solidFill>
                  <a:srgbClr val="31859b"/>
                </a:solidFill>
                <a:latin typeface="微软雅黑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31859b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31859b"/>
                </a:solidFill>
                <a:latin typeface="微软雅黑"/>
                <a:ea typeface="微软雅黑"/>
              </a:rPr>
              <a:t>日</a:t>
            </a:r>
            <a:r>
              <a:rPr b="1" lang="en-US" sz="3200" spc="-1" strike="noStrike">
                <a:solidFill>
                  <a:srgbClr val="31859b"/>
                </a:solidFill>
                <a:latin typeface="微软雅黑"/>
                <a:ea typeface="微软雅黑"/>
              </a:rPr>
              <a:t>9:00 </a:t>
            </a:r>
            <a:r>
              <a:rPr b="1" lang="zh-CN" sz="3200" spc="-1" strike="noStrike">
                <a:solidFill>
                  <a:srgbClr val="31859b"/>
                </a:solidFill>
                <a:latin typeface="微软雅黑"/>
                <a:ea typeface="微软雅黑"/>
              </a:rPr>
              <a:t>实验馆</a:t>
            </a:r>
            <a:r>
              <a:rPr b="1" lang="en-US" sz="3200" spc="-1" strike="noStrike">
                <a:solidFill>
                  <a:srgbClr val="31859b"/>
                </a:solidFill>
                <a:latin typeface="微软雅黑"/>
                <a:ea typeface="微软雅黑"/>
              </a:rPr>
              <a:t>4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TextBox 45"/>
          <p:cNvSpPr/>
          <p:nvPr/>
        </p:nvSpPr>
        <p:spPr>
          <a:xfrm>
            <a:off x="0" y="2770200"/>
            <a:ext cx="548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④</a:t>
            </a:r>
            <a:r>
              <a:rPr b="1" lang="en-US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12</a:t>
            </a:r>
            <a:r>
              <a:rPr b="1" lang="zh-CN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日</a:t>
            </a:r>
            <a:r>
              <a:rPr b="1" lang="en-US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18:00 </a:t>
            </a:r>
            <a:r>
              <a:rPr b="1" lang="zh-CN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实验馆</a:t>
            </a:r>
            <a:r>
              <a:rPr b="1" lang="en-US" sz="3200" spc="-1" strike="noStrike">
                <a:solidFill>
                  <a:srgbClr val="205867"/>
                </a:solidFill>
                <a:latin typeface="微软雅黑"/>
                <a:ea typeface="微软雅黑"/>
              </a:rPr>
              <a:t>4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59" dur="250" fill="hold"/>
                                        <p:tgtEl>
                                          <p:spTgt spid="29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6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9500" fill="hold"/>
                                        <p:tgtEl>
                                          <p:spTgt spid="3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500" fill="hold"/>
                                        <p:tgtEl>
                                          <p:spTgt spid="3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5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5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1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1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2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2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16CA-0FB9-424B-A5BD-08FBE142A4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9" name="矩形​​ 2"/>
          <p:cNvSpPr/>
          <p:nvPr/>
        </p:nvSpPr>
        <p:spPr>
          <a:xfrm>
            <a:off x="0" y="-6480"/>
            <a:ext cx="9144000" cy="6864480"/>
          </a:xfrm>
          <a:prstGeom prst="rect">
            <a:avLst/>
          </a:prstGeom>
          <a:gradFill rotWithShape="0">
            <a:gsLst>
              <a:gs pos="0">
                <a:srgbClr val="0c0c0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TextBox 35"/>
          <p:cNvSpPr/>
          <p:nvPr/>
        </p:nvSpPr>
        <p:spPr>
          <a:xfrm>
            <a:off x="1878120" y="5616720"/>
            <a:ext cx="450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理协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TextBox 1"/>
          <p:cNvSpPr/>
          <p:nvPr/>
        </p:nvSpPr>
        <p:spPr>
          <a:xfrm>
            <a:off x="847800" y="1989000"/>
            <a:ext cx="733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nk you for watch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3:43:00Z</dcterms:created>
  <dc:creator>wang jiaxian</dc:creator>
  <dc:description/>
  <cp:keywords/>
  <dc:language>en-US</dc:language>
  <cp:lastModifiedBy>Sky123.Org</cp:lastModifiedBy>
  <cp:lastPrinted>1899-12-30T00:00:00Z</cp:lastPrinted>
  <dcterms:modified xsi:type="dcterms:W3CDTF">2015-08-13T06:49:32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