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0B727-C762-44BC-9697-22B396D9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17F47-5114-4F95-91D6-5A151550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C619E-ED24-409C-83A2-E33CFA34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03256-6701-4CF4-842A-7D10790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E5EF1-7236-4566-836F-6324F53B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6281C-6791-41C6-9255-8DED415B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42EB6-CCB0-47DF-B5BF-81CCFE36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BA5B6-3E07-4C1E-8191-FB72C818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1D0B4-7B6C-4DCC-85CC-B43A071E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E565A-EE29-43B5-A899-B2429B43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1CBE6-62DB-4A35-899E-DF91E84D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E94C6-35C9-4E72-963E-A909CBD0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96581-0F4E-43B7-97BA-047854CA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0ED63-FBE8-4C0B-81E7-E90310EB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D816C-6008-4ACF-A2B6-A25C1062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4551A-1854-4F89-953F-7045CD9C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2D8E6-6DCB-40C9-9A3C-FDF0B25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8E946-D33E-4A7A-B174-326ABCAB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839C8-BA83-4D77-8CF4-35D093A2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B93DC-D1D2-47A6-A1BF-7177980C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4D2A7-3694-4F54-8BEC-C09CA74B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1AD1B-9885-4024-BDE3-242052F3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37F86-583C-48AD-8051-3EBA3C0C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E062A-32F3-4F9A-BC54-4F88FBE6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2AAEE-9A1B-4694-9952-5E04FE9E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39135-683F-46B8-8B6F-90ECFEAC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638AE-1CB9-4EBF-B60E-0203A040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D9227-6872-48BC-A429-C90875C8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1944E-A963-4626-890D-D764246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1A5CD-2D53-40E9-B961-16CFABE6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BC2-A8A5-4A6B-BB17-4C54326B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EAFD0-D47E-4714-A40C-F0BA58F2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E0F2B-7925-4F41-96FD-279462AA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53195-2CB1-4DFC-A876-5DBA2CF1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3B553-2220-425C-9764-19E71A31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B17CD-02FD-4B24-AA52-CD0F1C9F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D3D9B-5A39-4DF7-B498-B0DEDE32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EB1A2-FBDE-483D-A453-29183C4A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3AAC2-CB33-4616-AFE8-D690B4F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98816-C985-483D-ABE0-27851FE5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CDE44-AA57-4380-ADE1-A343FD9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3A2-309E-4722-A122-8E1CF404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37FF7-630A-4262-A833-1B5F5B39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76C45-6852-4577-819D-DA573F8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3B32C-112C-4658-B48F-6CB0A5DA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6E31A-638E-4757-A06A-5007E529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32D62-15C0-4A59-AFF0-009884DF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1A44D-F68D-4B47-AC53-4B926775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31540-E4D7-4671-ABC9-CC18D489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71E52-8BCA-440F-A5A0-48A33B54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53455-68CE-4858-9E86-E1B502CA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32862-2B3E-4F2E-85F0-D1BDEC9B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5CB-B002-46DB-844C-F4B62E1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57CD2-95FD-4023-9E16-9F7A5B74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03F6A-3689-42B7-8091-E5CA535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C0BF3-28FA-4F90-8DA9-BD16055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ED63F-00C3-432E-AACC-019EC582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CF5A9-A198-472B-878A-CCA6AFC5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C6EFF-647B-4839-B720-2752F35F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8161B-34EB-4AE7-AEA3-87CC4785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DC6C6-F07E-47FC-B38B-E9D15065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9BFC8-B438-46FD-B0C6-25089E70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0D7F9-9EC1-4FE2-9A41-B99BE090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FC0-1FF7-4EE0-8A8B-25272C84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28EDF-479B-4F39-8161-B1892E77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1BFE6-35F2-4B00-93F6-C3DCEC1C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62A13-3742-40E1-8AD7-EEEDB57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D3BE3-5FCB-425D-9126-03E86512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EAFCC-BBE7-4A7F-BF0A-6DF55DA5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8FD76-8850-4E50-9EAF-BB4103DA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F6FE1-7C3F-444E-B731-E9324330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F197C-EEA7-4F88-899D-46B7E3A8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57C02-10E4-4D05-97C4-FFB1939F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BA186-A770-4F5A-B410-C26B8B76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8EF-0E15-42D2-8E21-1E2FBB86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1DC01-C290-4595-B967-E3467967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29145-35CE-4D21-894F-22672A9B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0FB6B-38AB-4630-ABFB-FD69BA15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D0433-0F67-4683-9D51-2781549E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FD17C-69E6-4D66-A1FF-6B5A12CA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7B3CC-CB73-4E61-AC48-95F03327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9DFC2-0153-40FE-9ECA-59FFA83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EB3E0-476E-42AC-B2A1-99439B9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C6772-18CF-4C51-9950-545A7578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9BB37-FA51-4503-99D9-1F56B3CA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46B-2007-4C49-83AF-2718B8B5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853EE-F667-4B09-8130-5BCFF552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7D8A6-1EBB-47A5-9E3C-060A9991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51446-8331-4160-80FA-EC0B159F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B414A-29A4-4422-B660-46FEFD11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E48FD-4C03-4087-AA06-3CCC49F1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5EFD0-A723-4B5E-9397-5554AB15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7AEA2-2F4E-4668-A9B9-4A54E2F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AB7D5-2EE0-4FEF-824C-F9EE682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BD35F-9394-4169-8D4F-4A16F5B2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7DB7E3-F413-4AA9-809E-8C4C027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510-2DA0-4AB6-9C0E-91C402F5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D7C59-BE07-4769-B68F-F8E5B627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55F61-FA0A-4BB7-B7D0-45F1BBD2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DA7DB-3EC7-4BF1-9AE4-1766924B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25EA7-6A83-4CF7-861C-71F95D6E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56269-5726-4E79-98B6-18E3D812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C62AD-38A3-4255-BA1D-1E883614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304EC-C257-4084-B070-9D85BA08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93BF4-7867-4A32-8B21-F84C4CB9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492CA-6F98-4943-9BB6-28B73283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D7C0D-632E-4FD4-A88D-79399DD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A3B-AF20-4711-9D25-04E33E7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BB0E7-0DE5-4784-A8DE-61490C8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4B1A8-3883-4CB8-9F71-500AE04C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ABA89-4C03-405B-9E82-7017EF76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412AA-C977-449B-82AE-BBCBE914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41FF8-8DED-411A-964A-9D6F4EFB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6EC6D-95C0-4080-B571-EC42559E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AE582-B4A7-4AFD-902C-FBFF13D2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A566B-A31F-49F4-AE7F-FEA1F697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FB0FEA-B5DD-4D48-8F86-EA12EBD4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FAF76-FE4C-442D-88A2-EAD405A6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3EF-F544-4AF1-BD07-3C0CF648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245B3-F2A1-46ED-AB32-CB41764D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523C0-374F-4285-B56F-396E21D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E266D6-7458-4512-8A18-6383A95A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B12E3-6B7E-43AF-8533-6EFBE3F5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2E3879-77F3-454D-8065-4ECCB1F0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20F0A-1C10-424C-923E-93E7C89A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77683-4BB5-4F46-A91C-34D3DC6C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430B0-3668-4642-9940-E00D6A19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F45EA-9DB0-45EB-B90E-308E0D1C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DDACF-5FE7-4D2E-9E88-1EACEB9C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EB7-BB24-4E22-94E6-5375CD4D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EA03A-74FF-41E3-B8BC-335667A3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74397-3ACD-4E06-BD6C-81399375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D5A47-B2F4-47D8-9274-3A3BD79B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D9553-AB49-480D-A4C3-C81F20B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31A4D-9DCE-4BD5-9E12-43E6A772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71E52-FF99-4935-B6D8-86C62CF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00C02-1BBC-4870-BBDB-1A95F3CF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14B9E9-6AE4-4542-820A-91B7101C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D5A78-B0B4-4E26-B195-A62FF2FF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B92531-8D1D-4043-910F-993064F7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805-A315-435F-B2DC-FA5397ED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6C7A2-3385-4094-BFC7-DD449244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45471-053D-4E70-A083-D86C6A41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2D959-E6B2-4D86-AEC6-57F7E07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2A677-2936-4E49-88C1-DCFA3850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92B6A-C9B7-4427-9111-5A09647B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535DD-5E66-4CF6-B0CB-4990C4B2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D1F319-25AE-457D-AB1B-9FF5169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449527-CDD7-438A-BFCF-E870006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528BD-79A1-4EB6-992C-888AECAD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30C995-8FF8-460E-B465-6D2782D9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960-3288-4230-A111-10F368D0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47ACF-90F1-4CF2-920A-95121DAB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D0B990-E18E-4AAC-B196-4C4BFD10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0E703-4E76-4F18-B77E-3037AA91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7A2DF-2BCF-41BA-B989-1BDE5E15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24E8B-6CCE-4115-B692-8B68250C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4CB39-7CBA-4A5A-91B2-FEC98A49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174BB-D3EC-421E-A628-489B8D1D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F1688-80E1-4295-9625-4E1D56B9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F23DF-4494-44BA-95DF-F79326A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4E239-0FF2-4C16-9961-C89036E8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1036-61E5-4DE3-A001-BE68D1B6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DCC8A-BDCC-4BD2-B81A-128FD3DC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E69007-1D3E-480E-846A-F4F7B4C8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671E94-582F-486E-869D-4F563DA5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5AA0D2-1397-43D0-9B78-69145F0D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8BE9C-58C5-4401-99D9-88F98FD1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0635E-C491-4D84-AB49-EE0546E2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583BC-EFDF-47B7-ADD5-77C0CBFF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FFBD1F-9B44-4F49-815A-B9388239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EDBC8-DB1E-4DA1-9988-FF62C3C6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4C7DBC-D45C-4295-A77C-2DE3E18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A64A-86BA-4DC2-AEC7-7ABD7432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F86E0-5092-4C19-8887-70420D78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BBC98-1AE8-498D-BDA8-E3CC321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560AE-BA0E-494D-A60E-64C1CC1F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75F40-0816-4E81-BDA9-D4B20C9A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8AC3A2-EBDC-46B0-8744-0DB567BC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ABE498-1E99-4409-BF36-FC49A290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7C58ED-BC53-46AF-8AFC-9329A0DA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7AFAA9-27D4-4F66-883B-CA410F11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6ACB04-715E-4506-822B-724B75DE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9156C-15BD-47D2-A627-A6DCFD58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2087-033C-4E8E-AC0A-4C9E4131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57D2F4-4894-435A-A814-D773B6D0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42FC09-242C-4963-9855-7B6035E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FA4742-07FD-465E-B700-C387ABBA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86345F-560D-428E-8983-58BDCA43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5503D-68CE-4983-8FB6-D5CB168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49C449-805B-4061-A5F4-B23B2C3E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94DCEE-074F-428E-83AF-FEEAAB36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44B657-55C5-422B-BC0C-F134A4CB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F90478-6C41-4ECD-9C48-65BD9B57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323809-D9E8-4924-8E87-E0C00A4D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4B01-11C3-4ECA-A0B8-2CAE37C1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23D2C4-F1D5-453B-840C-B722467C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89EDA-4A98-401C-99E5-08456AD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417C1D-BF0B-4998-AEC0-D3E99E48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61E145-D626-462F-AAD4-72C3EC79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1262F3-CDB7-4878-8158-49DA5373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9DB0E3-2579-4DAA-AC81-D5637C7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3F7172-B074-4F6E-A9D3-8DE90C7A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BF2B8-A57F-4ACD-A5B5-6996668B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7F4CB4-920D-483A-9277-BD86187F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B962-8C36-4EAB-AAEC-1436CD7E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15F2-CA52-46DB-9E42-2B303B61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D7D8-64E5-4DAD-BC0F-705B75FE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035B-20B5-4C76-98F7-A9A53C2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1550-7346-4042-A27E-80867B1A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8700-493F-4025-A3F5-2F2951A4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3952-B430-4363-83C4-C337EAA9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1AC5-50FE-42C4-B481-E8B9268D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AB36-6438-4F8F-9772-53E90D0D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CF33-6693-4016-95EC-DC450BD9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25C0-378B-4883-A640-36EBA171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F12D-BAAA-4ADA-8E14-A87492CE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FD09-C984-4EA0-9A15-64D55917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0EAE-601F-43D4-9D0D-83655B49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8F20-00FD-428A-9D91-937F4AD3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9E81-E1E2-4E70-8640-8C336A4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1B80-F361-4D0C-8E32-AFB16FB1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CFF6-D91B-4767-8D05-C2138DA4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127B-3D24-4ED8-B020-48903E88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3A76-0841-4F2C-A1EA-B35B8634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1A96-89FD-4FDC-8EC9-37173A91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3E174-F4E2-495B-B3DA-2126AE90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79919-A6A3-4163-8240-F6A955BE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88FF-3EAD-4F9A-A63B-FD53C0C9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63E5-5FC2-4930-9A5B-E82A875E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DB664-1137-4C00-BE54-46B97946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6105-5A4B-4E03-B4DB-4A5F3121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5588-64F7-4139-9CEF-818B6F53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C191A-CF1B-4528-920F-33C5493E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99E3-C79D-4D83-8C5F-59A49FBA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FBD8-6BB5-4475-986C-AD19B938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FF8CD-A191-4A21-95FF-0F1C541F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4DF0D-1B78-4407-81B2-83ACAD41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7CDC2-163D-4B37-B1B3-9C97A253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385B-E46B-43D5-893A-8ABE4868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FB85C-A912-40CE-825D-46BA2F2C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08D3-CA9E-4B7E-BF10-A794A08E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21CF3-7A52-481A-B725-5FA756A6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945A3-CC11-4885-B523-23AEC2AD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6BFE-F45A-494A-A3D5-1FDFA8A6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915B8-2575-4372-9D04-BAA8C03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B18A-5592-459C-B804-89708537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3DEDB-5321-434F-BA7C-FD279BA9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AE001-C30B-4FA2-8180-B2CEA71B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4D5D-35F7-4605-9488-790D0FCD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0148D-9C99-4CE0-961C-E60FDACE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F17D7-43DA-4463-97EE-1CD39F70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707B-F0A5-4F81-888C-1AEE3BEA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B67E-8DE4-4044-9C04-CCE5BACF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925B2-B441-408B-9BC2-03FC4D94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E04F-FAFB-49F8-A41E-E2DCCA17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156A-775E-475A-93D6-38D18B84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77BA3-EB9F-4E06-9E0C-AE169AF6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A9B9-8346-447E-9CCB-9CE7284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318EE-0010-4C1B-88DC-CFE088A7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E95B9-CCFE-4A92-87C0-FB65E64F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A2ED3-623A-4977-B9C0-8F41141C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D0990-E018-4810-9C23-05ECD96D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D8CE2-75D1-4AC1-8464-A20720B8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F52FF-8D22-4AF8-A0B7-6EFE8ECE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459B9-9C28-4A71-8985-1653D5A1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3D61-BAAD-474E-B3FD-11A437D1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9FD53-A01C-40E9-8908-EF4ECF7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BF7F2-BC8C-49AE-A2A8-A565634E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C86C9-EB84-4084-BFDF-A154F3EF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0F065-F0DB-4A4C-854A-7A4DD8E1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10468-5FAD-4469-951E-BF98FD92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DD8C8-53BD-41C5-9E92-789A30B4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6F78E-090B-43F8-96A5-ACC726E8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7BC8-28EE-4DAE-AB80-8A44331F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8227-CA70-4438-B516-B120F6D2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77E6-DAC1-4CB7-A52C-9CB29C6EF9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3DED-B335-41A8-BB84-0635A4C4D3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7AD-B94A-44DD-8915-5A0545901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2F5F-9B30-4A07-8285-9FF0341BE2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852A-5B27-4161-BE46-4C4DCDEC21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FBDB-DF56-48EF-B7A2-0F1069C94B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453C-51CF-452C-B6AC-EC233370FF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8815-6FDA-48EC-B6BF-C0FB36A3C9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CDF4-E10A-4A42-8DB0-30ADCA5F1C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97AD-ABAE-4F96-8E43-54B6FA137A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8EE6-1D23-4BD4-A482-3B0962F5FF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0FBE-3728-41F8-889D-B706687256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5757-1DF4-40F1-8ED7-53A45945CC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1B0F-F3B2-4576-96B3-10F9BD7EEB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ECB2-D7DA-4AFF-815C-DA1F1EA352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B8E5-8E0D-4F6B-A5FD-2BCD591EB6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A1B0-D4E4-4325-A148-84B4646BD4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34AD-C724-4BEF-8411-B355946E98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711-0EA9-4067-9030-D9D52A13E0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1C15-4F4F-468B-8E2A-BEE74FEEC6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EF0E-E899-4189-BA2E-CB14604BA4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8856-DF2F-4CDB-B1C1-1CABF13F6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D474-82E1-4BB1-A48B-4292DD585D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Picture 5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  <p:sp>
        <p:nvSpPr>
          <p:cNvPr id="958" name="矩形 5"/>
          <p:cNvSpPr/>
          <p:nvPr/>
        </p:nvSpPr>
        <p:spPr>
          <a:xfrm>
            <a:off x="2666880" y="1981080"/>
            <a:ext cx="3096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2:28:32Z</dcterms:created>
  <dc:creator/>
  <dc:description/>
  <dc:language>en-US</dc:language>
  <cp:lastModifiedBy>User</cp:lastModifiedBy>
  <dcterms:modified xsi:type="dcterms:W3CDTF">2015-08-01T02:36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