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5D7-D75B-410E-BF00-F12F585C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5E0-FD8F-4E0B-8A5F-895BB17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EF0-5685-471A-BBAC-269F6FA3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480-2169-442D-8FE5-B646C07F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E391-DF1B-4166-AEBD-784FDD4E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BDA-F7B6-4CFB-84E1-3EF7AF6A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74BE-788F-4FF2-9139-629581A2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A9B2-F86A-4F6A-A2F5-30B61A8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E9DB-24E5-4E42-8C95-94698ED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C0E-CF64-4657-950B-A3762A0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89E-D1A0-4D61-B6EE-D4DB98D9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737-5CC7-4215-921D-618B5366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D81-77A3-434C-851B-AAA99D3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6AA-DE43-429E-9227-27D5381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933D-B7F8-4FCF-AE71-44279FED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CF63-EC09-4F77-AC64-B5744B51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D120-ED9B-472F-8C18-D4DE368E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6E82-9E12-4DFE-BDE9-9322B4A9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5811-F71A-4CAD-9CDD-3A69C7ED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BFF3-381C-4157-9F3A-2E5E55B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A9BA-E0D3-4744-AD44-43009324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C4C6-7CA8-4698-9C46-3BDF5AF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05B-2DFE-43A1-852F-8A4DFB71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0910-72AB-4B1E-A099-45B9C9C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A9E3-DF6D-4D85-8CDB-721C123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1630-47B3-49E2-9065-E6BD34F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83F6-AE19-446E-8F45-63AF5E9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7EDE-5091-484E-89C4-E8721BF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F95E-5BAF-44DE-AABF-488721C6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0BF0-578C-4439-8E21-8FCA122A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8CF1-2F3D-4724-B02F-BAF9CA2C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43A3-6844-4D92-A040-D2B9CADC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38C9-9E50-40F4-B1EC-5A2665C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13-5613-4F55-B3AF-A46D0BB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015C-E978-4363-847D-83B93FE1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DEC1-FEFB-4251-947D-5961DB21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6F94-3309-4A82-ACA6-2EE4695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F6BF-1A8E-44E0-A902-CD9B741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57F5-9641-4ADE-8AD7-41E429A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5A3F-C902-41C8-A49A-72C0114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7412-722F-43F8-8AB0-8EB02F3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6327-35B8-4C20-BDE4-AA03F72D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B468-8DEC-406D-8DD1-5E32CB82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DAB-256D-4A58-81C6-7991E92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8D1-FD84-4836-9143-16222F73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46D-3063-42E4-BE23-99900BE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4D9-8636-47B0-91E6-97B78921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EC0-9DF7-41FD-AE65-3C1FD8A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45D-6BC5-4BEA-8FFA-93ECCDD008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C3C6-2262-4D14-808F-5F05BCE58A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9200" y="-92880"/>
            <a:ext cx="2765160" cy="6949440"/>
            <a:chOff x="-79200" y="-92880"/>
            <a:chExt cx="2765160" cy="6949440"/>
          </a:xfrm>
        </p:grpSpPr>
        <p:sp>
          <p:nvSpPr>
            <p:cNvPr id="42" name="未知"/>
            <p:cNvSpPr/>
            <p:nvPr/>
          </p:nvSpPr>
          <p:spPr>
            <a:xfrm>
              <a:off x="0" y="5178600"/>
              <a:ext cx="74700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4880" y="3922200"/>
              <a:ext cx="887400" cy="720000"/>
              <a:chOff x="74880" y="3922200"/>
              <a:chExt cx="887400" cy="72000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23840" y="3943440"/>
                <a:ext cx="228240" cy="26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83320" y="4311360"/>
                <a:ext cx="389160" cy="219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5760" y="415548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50120" y="2755800"/>
              <a:ext cx="112392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120" y="2601720"/>
              <a:ext cx="2679840" cy="3116520"/>
              <a:chOff x="6120" y="2601720"/>
              <a:chExt cx="2679840" cy="311652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93120" y="2698920"/>
                <a:ext cx="9727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11240" y="2842560"/>
                <a:ext cx="8136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64320" y="3052800"/>
                <a:ext cx="28872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8120" y="3792600"/>
                <a:ext cx="26388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13600" y="385488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6800" y="4056480"/>
                <a:ext cx="1829160" cy="1661760"/>
                <a:chOff x="856800" y="4056480"/>
                <a:chExt cx="1829160" cy="166176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5040" y="3946680"/>
                  <a:ext cx="473760" cy="1211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480" y="4973040"/>
                  <a:ext cx="109800" cy="4971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8840"/>
                  <a:ext cx="19908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73760" y="6173640"/>
              <a:ext cx="788400" cy="634680"/>
              <a:chOff x="473760" y="6173640"/>
              <a:chExt cx="788400" cy="63468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7000" y="6174360"/>
                <a:ext cx="197640" cy="251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5360" y="6513840"/>
                <a:ext cx="33732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9240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24360" y="1775880"/>
              <a:ext cx="782640" cy="693360"/>
              <a:chOff x="324360" y="1775880"/>
              <a:chExt cx="78264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43840" y="1747440"/>
                <a:ext cx="207360" cy="297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8040" y="2154600"/>
                <a:ext cx="3546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2320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7800" y="0"/>
              <a:ext cx="544680" cy="581400"/>
              <a:chOff x="1297800" y="0"/>
              <a:chExt cx="54468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780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6560" y="103320"/>
                <a:ext cx="29592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7160" y="489240"/>
                <a:ext cx="3081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45440" y="149400"/>
              <a:ext cx="110628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90240" y="5403600"/>
              <a:ext cx="20880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87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5200" y="6524640"/>
              <a:ext cx="186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560" y="6299280"/>
              <a:ext cx="20556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756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7560" y="5141880"/>
              <a:ext cx="7866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9240" y="650520"/>
              <a:ext cx="5443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90600" y="1199880"/>
              <a:ext cx="26424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6200" y="453600"/>
              <a:ext cx="23256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8124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3348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560" y="1406520"/>
              <a:ext cx="5698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96480" y="133200"/>
              <a:ext cx="12726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116-68D4-4D0E-8C14-5AF4F64042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2440" y="1031400"/>
              <a:ext cx="1017360" cy="1261800"/>
              <a:chOff x="4132440" y="1031400"/>
              <a:chExt cx="1017360" cy="126180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48600" y="106956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2120" y="160200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2840" y="195948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36880" y="291240"/>
              <a:ext cx="889560" cy="832680"/>
              <a:chOff x="5636880" y="29124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48120" y="79344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698440" y="47268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37000" y="3909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2440" y="425880"/>
              <a:ext cx="1692000" cy="1147680"/>
              <a:chOff x="352440" y="425880"/>
              <a:chExt cx="1692000" cy="114768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3400" y="104436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998640" y="56952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55240" y="108468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83F-5436-4B19-AB5E-8879205F03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DC04-C838-4549-80EF-695345727B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39C-D741-4C31-8807-E087DB98C5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6"/>
          <p:cNvSpPr/>
          <p:nvPr/>
        </p:nvSpPr>
        <p:spPr>
          <a:xfrm>
            <a:off x="1619280" y="35002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经管系实践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276720" y="515772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部长：夏云燕       副部：马永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90560" y="620640"/>
            <a:ext cx="56912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漳州理工职业学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文本占位符 2" descr=""/>
          <p:cNvPicPr/>
          <p:nvPr/>
        </p:nvPicPr>
        <p:blipFill>
          <a:blip r:embed="rId1"/>
          <a:stretch/>
        </p:blipFill>
        <p:spPr>
          <a:xfrm>
            <a:off x="-30240" y="0"/>
            <a:ext cx="9210600" cy="6851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177840" y="1628640"/>
            <a:ext cx="914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他想，上帝啊，这个十字架太沉重了，我可以把十字架砍掉一块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文本占位符 2" descr=""/>
          <p:cNvPicPr/>
          <p:nvPr/>
        </p:nvPicPr>
        <p:blipFill>
          <a:blip r:embed="rId1"/>
          <a:stretch/>
        </p:blipFill>
        <p:spPr>
          <a:xfrm>
            <a:off x="-30240" y="0"/>
            <a:ext cx="9212400" cy="6880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908000" y="1052640"/>
            <a:ext cx="5029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于是，他动手砍起来了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文本占位符 2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4920" y="835200"/>
            <a:ext cx="9142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砍掉之后，走起来的确是轻松了很多，他的步伐也不由得加快了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文本占位符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914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4920" y="692280"/>
            <a:ext cx="91440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这样走啊走啊。走着走着，他又觉得肩上的十字架还是很沉，很重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文本占位符 2" descr=""/>
          <p:cNvPicPr/>
          <p:nvPr/>
        </p:nvPicPr>
        <p:blipFill>
          <a:blip r:embed="rId1"/>
          <a:stretch/>
        </p:blipFill>
        <p:spPr>
          <a:xfrm>
            <a:off x="-30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4920" y="979560"/>
            <a:ext cx="91440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他祈求道，上帝啊，请你让我再砍掉一截吧，我会走得更轻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文本占位符 2" descr=""/>
          <p:cNvPicPr/>
          <p:nvPr/>
        </p:nvPicPr>
        <p:blipFill>
          <a:blip r:embed="rId1"/>
          <a:stretch/>
        </p:blipFill>
        <p:spPr>
          <a:xfrm>
            <a:off x="-28440" y="1440"/>
            <a:ext cx="9210600" cy="684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177840" y="1195560"/>
            <a:ext cx="86868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他感谢上帝，这样一来，他感到轻松多了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-23508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826920" y="5300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此，他毫不费力地就走到了队伍的最前面。当其他人在吃力地负重前行时，他却轻松地哼起了小曲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900000" y="501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谁料，前边忽然出现了一个又深又宽的沟壑！沟上没有桥，周围也没有路。也没有蜘蛛侠或者超人出来解救他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63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312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面的人都慢慢地赶上来了，他们用自己背负的十字架搭在沟上，做成桥，从容不迫地跨越了沟壑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11280" y="90792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想如法炮制。只可惜啊，他的十字架之前已经被砍掉了长长的一大截，根本无法做成桥帮助他跨越沟壑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4"/>
          <p:cNvSpPr/>
          <p:nvPr/>
        </p:nvSpPr>
        <p:spPr>
          <a:xfrm>
            <a:off x="0" y="1268280"/>
            <a:ext cx="907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因贪图商业利益，使大学生的校园活动带上过多的商业色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交流学习，向团委学生会其他部门、其他学生组织学习，多与优秀团体进行交流，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诚实守、遵守合约，展示当代大学生优良的精神风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和谐为目标，充分协调各部门间的关系，融洽相处，亲密协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效率优先，提高学生会内部工作效率和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3629160" y="18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部门宗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00000" y="549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其他人都在朝着目标继续前进时，他却只能停在原地，垂头丧气，追悔莫及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3"/>
          <p:cNvSpPr/>
          <p:nvPr/>
        </p:nvSpPr>
        <p:spPr>
          <a:xfrm>
            <a:off x="1892520" y="6206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实践部欢迎你的加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 rot="21144000">
            <a:off x="468000" y="2041200"/>
            <a:ext cx="2682720" cy="3465360"/>
          </a:xfrm>
          <a:prstGeom prst="rect">
            <a:avLst/>
          </a:prstGeom>
          <a:ln w="0">
            <a:noFill/>
          </a:ln>
        </p:spPr>
      </p:pic>
      <p:cxnSp>
        <p:nvCxnSpPr>
          <p:cNvPr id="346" name="曲线连接符 9"/>
          <p:cNvCxnSpPr/>
          <p:nvPr/>
        </p:nvCxnSpPr>
        <p:spPr>
          <a:xfrm rot="10800000">
            <a:off x="3060000" y="5444280"/>
            <a:ext cx="575280" cy="361080"/>
          </a:xfrm>
          <a:prstGeom prst="curvedConnector5">
            <a:avLst>
              <a:gd name="adj1" fmla="val 29492"/>
              <a:gd name="adj2" fmla="val 50000"/>
              <a:gd name="adj3" fmla="val 29492"/>
            </a:avLst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347" name="TextBox 15"/>
          <p:cNvSpPr/>
          <p:nvPr/>
        </p:nvSpPr>
        <p:spPr>
          <a:xfrm>
            <a:off x="2556000" y="58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踏实可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爱玩游戏的副部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```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349" name="线形标注 2 23"/>
          <p:cNvSpPr/>
          <p:nvPr/>
        </p:nvSpPr>
        <p:spPr>
          <a:xfrm>
            <a:off x="7308720" y="4437000"/>
            <a:ext cx="1440000" cy="504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12500"/>
              <a:gd name="adj6" fmla="val -46666"/>
            </a:avLst>
          </a:prstGeom>
          <a:solidFill>
            <a:srgbClr val="4f81bd"/>
          </a:solid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别扭的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6"/>
          <p:cNvSpPr/>
          <p:nvPr/>
        </p:nvSpPr>
        <p:spPr>
          <a:xfrm>
            <a:off x="125352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部门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5"/>
          <p:cNvSpPr/>
          <p:nvPr/>
        </p:nvSpPr>
        <p:spPr>
          <a:xfrm>
            <a:off x="5724360" y="836640"/>
            <a:ext cx="30956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有关单位来赞助我院团委、学生会组织的有关活动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5"/>
          <p:cNvSpPr/>
          <p:nvPr/>
        </p:nvSpPr>
        <p:spPr>
          <a:xfrm>
            <a:off x="4572000" y="4869000"/>
            <a:ext cx="43210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配合学生会工作，协助其他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5"/>
          <p:cNvSpPr/>
          <p:nvPr/>
        </p:nvSpPr>
        <p:spPr>
          <a:xfrm>
            <a:off x="900000" y="1989000"/>
            <a:ext cx="5184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定期收集并审核寒暑假社会实践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5"/>
          <p:cNvSpPr/>
          <p:nvPr/>
        </p:nvSpPr>
        <p:spPr>
          <a:xfrm>
            <a:off x="3924360" y="3357720"/>
            <a:ext cx="489564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和指导全院性的社会实践活动如，参观知名企业的高校“名企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5"/>
          <p:cNvSpPr/>
          <p:nvPr/>
        </p:nvSpPr>
        <p:spPr>
          <a:xfrm>
            <a:off x="466560" y="5518080"/>
            <a:ext cx="374508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协助分团委，指导全院系的“求实”素质拓展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5"/>
          <p:cNvSpPr/>
          <p:nvPr/>
        </p:nvSpPr>
        <p:spPr>
          <a:xfrm>
            <a:off x="539640" y="3068640"/>
            <a:ext cx="2808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学校社会实践重点项目的联系组队和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692360" y="836640"/>
            <a:ext cx="6022800" cy="4064040"/>
            <a:chOff x="1692360" y="836640"/>
            <a:chExt cx="6022800" cy="4064040"/>
          </a:xfrm>
        </p:grpSpPr>
        <p:sp>
          <p:nvSpPr>
            <p:cNvPr id="261" name=""/>
            <p:cNvSpPr/>
            <p:nvPr/>
          </p:nvSpPr>
          <p:spPr>
            <a:xfrm>
              <a:off x="1692360" y="2274120"/>
              <a:ext cx="1244520" cy="1231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2360" y="2274120"/>
              <a:ext cx="124452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 rot="18278400">
              <a:off x="2313720" y="2157120"/>
              <a:ext cx="1747440" cy="27360"/>
            </a:xfrm>
            <a:custGeom>
              <a:avLst/>
              <a:gdLst>
                <a:gd name="textAreaLeft" fmla="*/ 0 w 1747440"/>
                <a:gd name="textAreaRight" fmla="*/ 1747800 w 17474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81822" h="27526">
                  <a:moveTo>
                    <a:pt x="0" y="13763"/>
                  </a:moveTo>
                  <a:lnTo>
                    <a:pt x="881822" y="13763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240000">
              <a:off x="3144240" y="2148840"/>
              <a:ext cx="8712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38720" y="836640"/>
              <a:ext cx="4276440" cy="1231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8720" y="836640"/>
              <a:ext cx="427644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口才、应变、实践等实用能力的提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 rot="21525600">
              <a:off x="2936880" y="2851560"/>
              <a:ext cx="501840" cy="543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01400" h="27526">
                  <a:moveTo>
                    <a:pt x="0" y="13763"/>
                  </a:moveTo>
                  <a:lnTo>
                    <a:pt x="501400" y="13763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480000">
              <a:off x="3175200" y="2854080"/>
              <a:ext cx="24840" cy="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720" y="2252880"/>
              <a:ext cx="4232880" cy="1231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8720" y="2252880"/>
              <a:ext cx="423288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增加今后的核心竞争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rot="3273000">
              <a:off x="2331360" y="3573720"/>
              <a:ext cx="1712520" cy="27360"/>
            </a:xfrm>
            <a:custGeom>
              <a:avLst/>
              <a:gdLst>
                <a:gd name="textAreaLeft" fmla="*/ 0 w 1712520"/>
                <a:gd name="textAreaRight" fmla="*/ 1712880 w 17125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64197" h="27526">
                  <a:moveTo>
                    <a:pt x="0" y="13763"/>
                  </a:moveTo>
                  <a:lnTo>
                    <a:pt x="864197" y="13763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3240000">
              <a:off x="3144960" y="3565440"/>
              <a:ext cx="8532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8720" y="3669120"/>
              <a:ext cx="4240800" cy="1231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38720" y="3669120"/>
              <a:ext cx="424080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拓展人脉，搭建与各部门之间的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763640" y="3500280"/>
            <a:ext cx="5807160" cy="3776760"/>
            <a:chOff x="1763640" y="3500280"/>
            <a:chExt cx="5807160" cy="3776760"/>
          </a:xfrm>
        </p:grpSpPr>
        <p:sp>
          <p:nvSpPr>
            <p:cNvPr id="276" name=""/>
            <p:cNvSpPr/>
            <p:nvPr/>
          </p:nvSpPr>
          <p:spPr>
            <a:xfrm>
              <a:off x="1763640" y="4799520"/>
              <a:ext cx="1184400" cy="11584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3640" y="4799520"/>
              <a:ext cx="118440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" rIns="21600" tIns="21600" bIns="21600" anchor="ctr">
              <a:noAutofit/>
            </a:bodyPr>
            <a:p>
              <a:pPr algn="ctr"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弊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 rot="18345600">
              <a:off x="2386800" y="4715280"/>
              <a:ext cx="1601280" cy="28080"/>
            </a:xfrm>
            <a:custGeom>
              <a:avLst/>
              <a:gdLst>
                <a:gd name="textAreaLeft" fmla="*/ 0 w 1601280"/>
                <a:gd name="textAreaRight" fmla="*/ 1601640 w 16012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18413" h="28229">
                  <a:moveTo>
                    <a:pt x="0" y="14114"/>
                  </a:moveTo>
                  <a:lnTo>
                    <a:pt x="818413" y="14114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300000">
              <a:off x="3146760" y="4708800"/>
              <a:ext cx="79920" cy="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6480" y="3500280"/>
              <a:ext cx="4070520" cy="11584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6480" y="3500280"/>
              <a:ext cx="407052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课余时间与休息时间减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 rot="121200">
              <a:off x="2947680" y="5367960"/>
              <a:ext cx="478440" cy="550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78579" h="28229">
                  <a:moveTo>
                    <a:pt x="0" y="14114"/>
                  </a:moveTo>
                  <a:lnTo>
                    <a:pt x="478579" y="14114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20000">
              <a:off x="3175200" y="5372280"/>
              <a:ext cx="23760" cy="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6480" y="4832640"/>
              <a:ext cx="4073040" cy="11584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6480" y="4832640"/>
              <a:ext cx="407304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额外的工作压力与竞争压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 rot="3255600">
              <a:off x="2378520" y="6023880"/>
              <a:ext cx="1624320" cy="28080"/>
            </a:xfrm>
            <a:custGeom>
              <a:avLst/>
              <a:gdLst>
                <a:gd name="textAreaLeft" fmla="*/ 0 w 1624320"/>
                <a:gd name="textAreaRight" fmla="*/ 1624680 w 16243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30223" h="28229">
                  <a:moveTo>
                    <a:pt x="0" y="14114"/>
                  </a:moveTo>
                  <a:lnTo>
                    <a:pt x="830223" y="14114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3240000">
              <a:off x="3149640" y="6017760"/>
              <a:ext cx="810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2960" y="6118560"/>
              <a:ext cx="4137840" cy="11584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32960" y="6118560"/>
              <a:ext cx="413784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过早接触人情事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矩形 16"/>
          <p:cNvSpPr/>
          <p:nvPr/>
        </p:nvSpPr>
        <p:spPr>
          <a:xfrm>
            <a:off x="-244440" y="40464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2ed"/>
                </a:solidFill>
                <a:latin typeface="Calibri"/>
                <a:ea typeface="宋体"/>
              </a:rPr>
              <a:t>加入我们的利与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268-19DA-42A5-9CAB-C3E384864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3"/>
          <p:cNvSpPr/>
          <p:nvPr/>
        </p:nvSpPr>
        <p:spPr>
          <a:xfrm>
            <a:off x="3047760" y="9079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如果你是这样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187280" y="234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不一定很优秀，但你有锻炼自己的勇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不一定很聪明，但你有很强的责任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不一定很漂亮，但你有踏实肯干的耐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不一定善于交际，但你能尊重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不一定有很多工作经验，但你有认真学习的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3"/>
          <p:cNvSpPr/>
          <p:nvPr/>
        </p:nvSpPr>
        <p:spPr>
          <a:xfrm>
            <a:off x="2035440" y="1159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实践部欢迎你的加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曲线连接符 9"/>
          <p:cNvCxnSpPr/>
          <p:nvPr/>
        </p:nvCxnSpPr>
        <p:spPr>
          <a:xfrm rot="10800000">
            <a:off x="3060000" y="5444280"/>
            <a:ext cx="575280" cy="361080"/>
          </a:xfrm>
          <a:prstGeom prst="curvedConnector5">
            <a:avLst>
              <a:gd name="adj1" fmla="val 29492"/>
              <a:gd name="adj2" fmla="val 50000"/>
              <a:gd name="adj3" fmla="val 29492"/>
            </a:avLst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 rot="3600000">
            <a:off x="89280" y="1512360"/>
            <a:ext cx="5464080" cy="4265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61440" y="6094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副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0" y="62388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 rot="1140000">
            <a:off x="3779640" y="979560"/>
            <a:ext cx="49402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427680" y="115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实践部候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曲线连接符 9"/>
          <p:cNvCxnSpPr/>
          <p:nvPr/>
        </p:nvCxnSpPr>
        <p:spPr>
          <a:xfrm rot="10800000">
            <a:off x="3060000" y="5444280"/>
            <a:ext cx="575280" cy="361080"/>
          </a:xfrm>
          <a:prstGeom prst="curvedConnector5">
            <a:avLst>
              <a:gd name="adj1" fmla="val 29492"/>
              <a:gd name="adj2" fmla="val 50000"/>
              <a:gd name="adj3" fmla="val 29492"/>
            </a:avLst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301" name="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rot="2460000">
            <a:off x="3058920" y="763560"/>
            <a:ext cx="5459400" cy="6237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 rot="19800000">
            <a:off x="466560" y="1267920"/>
            <a:ext cx="3419640" cy="4840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 rot="720000">
            <a:off x="1762200" y="763560"/>
            <a:ext cx="5143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文本占位符 2" descr=""/>
          <p:cNvPicPr/>
          <p:nvPr/>
        </p:nvPicPr>
        <p:blipFill>
          <a:blip r:embed="rId1"/>
          <a:stretch/>
        </p:blipFill>
        <p:spPr>
          <a:xfrm>
            <a:off x="-30240" y="42840"/>
            <a:ext cx="925668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4920" y="692280"/>
            <a:ext cx="914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每个人都背负着一个沉重的十字架，在缓慢而艰难地前行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文本占位符 2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0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4920" y="835200"/>
            <a:ext cx="914400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途中，有一个人忽然停了下来。他在想着什么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52:00Z</dcterms:created>
  <dc:creator>Administrator</dc:creator>
  <dc:description/>
  <dc:language>en-US</dc:language>
  <cp:lastModifiedBy>Windows 用户</cp:lastModifiedBy>
  <cp:lastPrinted>1899-12-30T00:00:00Z</cp:lastPrinted>
  <dcterms:modified xsi:type="dcterms:W3CDTF">2013-09-07T08:43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