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DC4-0E06-4ED2-9873-ADD3F21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E73-7BAE-41C9-9A62-6DCB60A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CD9-4EF3-4EAC-A867-A23FA30E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163-E3C0-4F74-8802-179A9BF5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C544-AB66-4E7D-B5DE-90EBAA38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4D6-DC8F-4D9E-9CA0-56464E4A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4286-8F5A-48D5-9FFF-16D4096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0C6-D279-48D3-ADDF-019A8B1E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17A1-566D-41E8-A38B-B755702B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D230-7E66-47D1-BA90-6F665E13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8B6-FF1C-423D-98E8-153ABA5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D9C-30CF-4639-B926-0481CA49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D77-0316-4BAC-84F4-9799162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EB2-01ED-42BD-8FF1-DA789DF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E516-2936-479B-9DC3-EC5C755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33B3-EB4C-41B7-8121-9B7D412E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6E6-9760-40AE-8B60-C08EB845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DA3-C052-44DA-95B1-D1BE18B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6ED-6C4B-4834-914C-0E59D899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05D-7F76-48D6-A22C-1FCF6A3B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6D5-D24E-4990-B1A5-636C2902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618-1D20-4F6C-8423-DAE2CC0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DF9-8DE3-43E3-8870-8A4D316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5E9-3798-4335-8142-D9425C7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1C4-27E7-4BCA-B5ED-3F0A3BAF957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0A9-5DF8-4D63-8527-56A3BBB9BB2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126828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面试学生组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80000" y="2781360"/>
            <a:ext cx="4119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我们来支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3628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学生组织的招新面试，主要看重新生对事情的耐心态度和认真程度，主要看对待问题的心态，掌握了这些技巧，对面试大有帮助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89000"/>
            <a:ext cx="8280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二步：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生组织招新面试常见问题</a:t>
            </a:r>
            <a:br>
              <a:rPr sz="3600"/>
            </a:b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及基本技巧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请自我简介一分钟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回答应突出个性特点和优势，尤其是你面试的部门需要的优势。比如，面试外联部，需要较好的沟通协调能力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你中学阶段有没有担任什么职务，这些工作对你有怎样的影响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这点可以让面试你的学长学姐了解你的工作经历，不要只说做过什么职务，要说出具体组织的活动和在活动中具体负责的工作。具体才显得真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836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常见问题及基本技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常见问题及基本技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你对学生会的理解和认识？你希望进学生会的目的是什么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谈谈你的想法即可，以锻炼能力和服务同学为主，不能太功利化。还可说希望找到展现自己的平台，在工作中发现不足，提高充实自己。切忌虚假、做作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如果你进了学生会，怎么处理好学习和工作的关系，如何进行时间分配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要正确处理好学习和工作的关系，合理分配时间。不要天真地以为翘课去搞活动是热爱工作的表现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谈谈你曾经组织或参加活动的经验和教训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同样要具体，要突出自己从中获得了处理问题的能力和解决问题的方法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你在哪方面比较擅长？你觉得你有能力负责哪方面的工作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要寻求自己最擅长的部门，做自己最擅长的事情，使个人能力得到最大限度的发挥。要表现出你的自信和做事踏实，以及团队协作精神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836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常见问题及基本技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常见问题及基本技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学生会里，有时因工作协调，会让你去做苦力类的工作，你如何看待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吃些苦是必要的，得到的锻炼才是实在的。表现得自然真诚即可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注意的小细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应注重面试时的外表形象。不要奇装异服，穿着要自然大方。军训时进行的面试，穿军训衣服也无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还要有礼貌，见面问好；面试结束后礼貌道谢，出门时轻轻把门带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4764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楷体_GB2312"/>
              </a:rPr>
              <a:t>预祝新生面试成功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第一步：</a:t>
            </a:r>
            <a:r>
              <a:rPr b="1" lang="zh-CN" sz="3400" spc="-1" strike="noStrike">
                <a:solidFill>
                  <a:srgbClr val="cc0000"/>
                </a:solidFill>
                <a:latin typeface="Verdana"/>
                <a:ea typeface="楷体_GB2312"/>
              </a:rPr>
              <a:t>了解各学生组织的职能</a:t>
            </a:r>
            <a:br>
              <a:rPr sz="3400"/>
            </a:br>
            <a:r>
              <a:rPr b="1" lang="zh-CN" sz="3400" spc="-1" strike="noStrike">
                <a:solidFill>
                  <a:srgbClr val="cc0000"/>
                </a:solidFill>
                <a:latin typeface="Verdana"/>
                <a:ea typeface="楷体_GB2312"/>
              </a:rPr>
              <a:t>             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（我们重点来讲院学生会的面试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各院团委学生会在主席团的领导下，设置有七个部门，即：组织部、实践部、宣传部、文体活动中心、文化科技中心、服务管理中心和联络中心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主席团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学生会的决策部门，协调各部门工作。布置、总结学生会工作，传达院团委精神和工作。考核、任免个部门的主要负责人，并同时接受全院同学的监督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组织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组织部负责全院团员的推优入党、院党章学习小组的日常工作；以各支部为桥梁，每学期开展青年团校、特色团日活动等活动，促进全院的思想建设工作。并负责协调、管理、监督学生会内部各部门工作的开展，工作主要围绕例会、活动、班级、档案和制度管理等方面展开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实践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部是分团委的对外窗口。主要负责“教苑青年志愿者协会”的日常工作，统一协调院级各支部负责的实践基地。该部门还负责每年的暑期社会实践工作，积极参与校、院的实践活动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月获得学校志愿者协会“突出贡献奖”最高荣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宣传部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学生会对外宣传报道的一个窗口。每月一期的院报《教苑》的出版；负责我院开展的各项活动进行宣传报道工作，包括宣传和摄影工作，活动后由通讯组写通讯稿，向校电台、校报、校园网、校团委等处宣传报道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文化科技中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负责全院的学风建设整体规划的实施，指导各班加强学风建设；负责全院学生的课外科技活动；组织各类学术讲座，营造学习气氛，并加强全院师范生专业技能训练。上学期定期组织学生去明心幼儿园关注自闭症儿童；联合南京首届心理节，在学校开展了心理节系列活动，获得了广泛的好评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文体活动中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主要负责指导、监督、考核各班文艺、体育委员工作的开展，适时组织开展各种各样的文娱和体育活动。另外，还负责在院内选拔各种人才，代表我院参加学校的各类文体活动。每年开展十佳歌手、教苑排球赛、篮球赛、趣味运动会、新生舞会、迎新晚会等丰富多彩的文娱活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服务管理中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关心同学生活，热情为同学服务；加强宿舍管理，经常组织开展生动、活泼的宿舍文娱活动；负责学期末回乡购火车票事宜。举办过“美丽任务”、棋牌大赛等活动，丰富了同学们的生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联络中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常规工作有家教中心，寻找赞助公司，联系其他学校、院系；发挥外联部与外联系密切的优势，不定期地与其他学校、院系及商家合作开展种类多样的活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2:37:27Z</dcterms:created>
  <dc:creator>USER</dc:creator>
  <dc:description/>
  <dc:language>en-US</dc:language>
  <cp:lastModifiedBy>USER</cp:lastModifiedBy>
  <dcterms:modified xsi:type="dcterms:W3CDTF">2010-07-23T13:12:57Z</dcterms:modified>
  <cp:revision>3</cp:revision>
  <dc:subject/>
  <dc:title>幻灯片 1</dc:title>
</cp:coreProperties>
</file>