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50B-8FEC-4777-B930-EE753141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694-C988-4B2C-9562-5F24CDF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1F1-C054-4A30-9CC8-5099C2B5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2DE-8BCB-4417-8F04-BF26498C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003-DF28-4B52-9904-6647C488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F0F-22B9-430A-B1C1-78FC697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CAC-1621-4072-B37B-1D43205C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287-5C0E-4B27-B059-BD0894D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70F-05CE-4EB3-92C6-88FCC264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E09-CD46-4227-91C1-466913A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16C-EB0A-47ED-97C0-4668D62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535-1B19-4D4D-82E5-9BC9CF9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2265-7014-4B39-86C9-E286CA8A0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1576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23572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140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1854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6426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12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926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6408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426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2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3549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069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2836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35788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54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9265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3997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283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712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7836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5712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854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1406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426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6-19T09:45:58Z</dcterms:modified>
  <cp:revision>48</cp:revision>
  <dc:subject/>
  <dc:title>幻灯片 1</dc:title>
</cp:coreProperties>
</file>