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2D2-E637-45F3-A635-AFEAF0C6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6EE-F475-43CB-AA82-14EFA6A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318C0-BB60-4746-9C14-04B9BA6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E93E-5A54-475A-8B1E-0434A178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622A5-1961-4599-9859-F2CE3EB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357F9-226C-4AE5-B7C1-FB561BC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CD33-00E8-46C6-ACE3-1DCB6C5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1AEEA-2662-4E34-94DA-C61CD89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41933-C09C-4B7D-97C1-5F7138F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5F447-D460-4363-A72D-AFC054BD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19DD2-BA88-4841-AE2A-61A7482A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22AF0-24D1-43FC-9F7B-3A1CE93F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68A-02FB-499A-9DAD-75655056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875EF-8027-4972-9F99-5702B63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13CC6-9FE9-448D-B423-0E0C04E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2AC64-3A0C-4B4E-B5DD-F4821DE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0A4F2-DEAF-4835-B1AF-17ED70D7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AD025-14D2-498F-9DC2-DBA2059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F2C13-1D28-46A1-B53A-F5774B3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8628-E73A-4006-9FEA-B5A3251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4BA9C-50A3-4D8A-A3BB-B1D423D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74465-8151-4530-9F36-37F1BF07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6C410-2723-4927-90CC-82A2DF78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5A4-BB61-43F6-9EFE-170992EF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0098-0034-4710-B741-11E6711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2633-D6A6-4294-830D-81C53A35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3E8F5-9EC8-4B0B-A419-1F2FB2D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9DDE-038F-4C75-A734-CEF702B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AC0C-4381-40C7-936F-B481B5A0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D4C9-BAC1-4DB7-B24E-1E33D70D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5C6D-45AD-404A-A09E-5F85E18C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23AB-310A-4CA3-9EEC-E09CD5B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5B211-7A67-4858-96EB-C6A323B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8352D-40BB-40E3-993B-39AC3D92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7A86-56BC-4552-8E78-2EB04BB5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5163E-1D4F-47BB-9A5B-20158C6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7D9B-BDB0-41EF-A40A-A44D1E57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53D8D-908E-4489-996F-08525812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29ED-567C-4323-8622-14AEA55F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AAD76-F66E-4E0B-8298-ED17B343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F23B6-FDF6-4D2F-A8CF-0513DF8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A3CF5-DE32-426A-B5B1-1E052B03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918C6-AF30-4C44-BA2E-D916AF6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40B60-9A9D-437E-887E-1FEE758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4B41C-871B-462E-9077-9141323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A247-CE7C-4491-9748-F1EFB90A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07142-EF2D-4172-A851-A33A469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93875-7E68-4D77-AC20-E6CEF00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4A1FF-5A17-443D-917C-B5F1D94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BAAC6-555F-46BD-9BE4-951FACF0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C4C55-08B2-44CD-A961-EBFA0DD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9CEA0-E33F-44DB-BA4A-C82911DF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DCC1E-1BD5-41A3-A011-917DDFDF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6E0FB-CEFA-4860-A5E8-1DBD9647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1282B-FB7F-4788-9499-82EE2EBF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8A878-F061-45EB-8B99-B83A25D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23FD-FDF6-4A4D-869B-86E87A0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97C8E-2446-4B4F-927A-7293581F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BD681-FD28-4432-8F13-EFFC26E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7E405-4FBC-4B0D-B7B7-AF025B5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DD467-DA20-4D95-A99D-3365CFC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5C14C-C020-4702-951F-00A1CC0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D3EE3-7553-487A-9F3F-00D9F04A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A0FCD-9F42-458C-95CE-26FCA1CC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551-F630-4E64-BC10-514DD3E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F72-3FD6-4FDE-95AD-6B55E082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8692-FA9A-4D9C-8BA7-BA8848B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E7E9-B293-4E2C-9E39-D816582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22C-0836-4058-9013-28FF550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BF30-42C5-437B-82E1-234C5B1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6C5-1C12-4336-9986-C387E7D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FCD-C5A0-4227-AAAA-C724C4F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8DE6-AEB3-440C-8565-40BE0208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F069-9EB2-43F1-A946-147E3C80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CC87-8F99-4862-B353-7EA5A0E3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896F-0BDC-4F25-98BC-B0C7707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73F2-A055-44CE-A32B-9F2E5ECE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11C6-44E6-45CE-BA02-C8DB5AC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1B32-3050-47FF-96C0-9D97792F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A14-8CC9-49C6-ACB9-124C456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F76B-B414-4BCE-9EF5-143D7E4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B451-4E3A-463B-8350-DE357DB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77CA-4FAB-42C5-BC75-2A828E1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F32C-C49A-4819-B28D-86A2694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13EB-4796-41DA-815D-38EE723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00E6-D5D1-4BC7-8FBE-1289BABC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B2DF-FCEE-4D14-AA79-233FEDB0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09A7-3594-4524-941F-48B82D18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2FC9-A042-4DFA-8872-89E9091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C113-F630-4C38-8571-B279DCF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069-74A3-4D8D-A15B-8842167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06F6-87BE-41DF-8453-131E6F92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079C-27E7-4077-92F8-67950EA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7FC7-5723-44F7-8B4A-AF3E187E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62B8-F698-449B-967E-32B38A7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4426-4C0A-4E03-882E-A35BBBD6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2D56-BBBF-42B8-BA1E-7D35BE0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E79A-1914-4E46-8C0F-15248CF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FA23-6F2A-4669-B9E0-5926AB9D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9540-7E96-442A-B73C-B37D6F5D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49FD-1626-4438-B51A-1F0E2ED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C67-481D-4CC4-92F3-0B66A78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785F-D51A-4010-B6E3-74D57DF9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D22F-642B-4F27-A691-86D9D8C4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E981-8968-4D98-8818-D00B4524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AA04-E9FF-4BFF-8976-93E2FF2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13A0-121B-460F-8A63-6CA2BCE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FBAF-06EB-4F55-BCFB-270096C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1A3C3-558D-4D19-9B6D-F067727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0646-63C0-44F7-9EED-F764660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41E7-07EC-4865-A59D-6ECA625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89DD-410B-4A5F-90FA-C307D2A1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032-56E7-4035-ACD6-FC58317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109BB-53D1-4DF1-BFAA-AF4B657E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DD1E-4DB4-46D1-9490-7491C0E6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C6B1E-644F-4C67-AB12-5A8ED356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42F5-C9AB-4CDC-8840-EC83A558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2CAE-1046-4DC3-BDC7-BC14E64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75A5F-4893-4736-B6C9-A7540F89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DC59-D5B9-4B03-9044-C76F494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5E4BF-DCB7-4F14-9022-0E65371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A86A-78C9-4003-B854-53379A5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9C02-0CD0-4BE7-9E13-1EF4856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4E5-D730-47A5-81B8-FD2A8DB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2AC1-52D7-4254-8786-8DDA006C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328B-C4E9-42C0-9D25-CE774DC8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5EF1-F7B1-4B7C-A7C5-D11F73E5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A28C-5464-4376-84B9-3D144EBA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B3D6-34D2-4665-A257-888F948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1577F-E5BC-4BCC-992C-C4E97779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AD0E6-58A0-4F59-874C-9EC3273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2F11E-0865-4096-ADFD-0EEE720D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35E6-4E38-477E-9492-5463639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C7EF-DFC8-4EC8-97C3-C5A63F52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D94-8EA7-49F7-A95B-2147B7B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69BF-30F9-43A4-B234-FC5DD6F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8A9C-4480-49E0-B52B-C0B21E5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4C89-AE09-476E-B10F-DECE962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B1CAE-F1DF-46B0-BCD5-09E34C39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80B4-D35E-401C-9952-881950B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47FAC-6BC3-4AF4-906A-36EEBC4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77DF3-E024-41E4-9A8F-1DF91BD8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2A6A-A556-4755-800F-B8DD550E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20CC-A76C-4A81-95E3-DDF8AA0F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CE7C3-3FF3-4B02-8661-D18A4B1A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05E-F506-47BA-A5DA-DE59F68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910E-0D4E-467E-842D-BE6A8CC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77D9-2EF3-4EDC-BAFF-7115A35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A6EF-BAD3-42C7-B200-5A2FF65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605D-F9F4-4FAD-BE77-003792C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8B1F-65D6-419E-9BB8-DD2EAE3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8291-2570-4589-8157-037D3A12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F58AB-FC4D-4654-96BC-1C937698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9568-1009-4266-9DBA-35A92DB6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A4D1-DFFF-44AC-A753-CD1E8AD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57444-2A4A-43A6-ADF7-3789E8F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A91-921D-4756-9D4A-FC2772BD0C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4CB-2402-4693-B3E0-5791D65A7F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77D6-9C10-41E1-8A3C-2FE3C533B5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1E6-91A0-4271-B2E0-A0BD13361E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7B0-B717-4E6E-A221-FDB496A6CA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FEA2-C20C-4526-93F6-1E31E3B577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96BA-6DB6-42D7-9C28-875C5D256E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4F0-6C6E-4578-82EE-91165BA1B0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AFE-C266-4589-B26D-1F2B2671E1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C456-1E2A-41A0-A7CC-25D821B76C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5EA-409C-4412-B433-FF81962406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D88-9D43-410B-BC40-737E5346A7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0AF-A8C2-4974-BF5E-E791A9BD34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1B8-E3D1-4641-BF93-451E4CE0BD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FA7-C4A7-4470-B8E0-18B23FF398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977C-94DB-45A5-AE71-425DAB482F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241-AD73-4731-B0A1-D0781BF47F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9B0-1C6A-4F95-9452-0C3292A987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49C-D457-484C-8AC7-114B18F74A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1BFD-42F2-485F-BB51-232338F7D1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E9E-9D64-4B96-89AF-14ED410F55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0B9-DFA7-4347-A1D7-DD36858D52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C973-CA4B-4E44-94F3-4693861907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41BC-2808-4095-8F53-A04BB6149C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B9D2-8930-4BF5-93B4-6E400FFCE9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EA5-82D9-4E6B-929F-B87D3B6B24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6"/>
          <p:cNvSpPr/>
          <p:nvPr/>
        </p:nvSpPr>
        <p:spPr>
          <a:xfrm rot="19236600">
            <a:off x="-906480" y="387000"/>
            <a:ext cx="3008160" cy="372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狐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 rot="19162200">
            <a:off x="-216720" y="1753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SOHU 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4"/>
          <p:cNvGrpSpPr/>
          <p:nvPr/>
        </p:nvGrpSpPr>
        <p:grpSpPr>
          <a:xfrm>
            <a:off x="7667640" y="322200"/>
            <a:ext cx="1584360" cy="36720"/>
            <a:chOff x="7667640" y="322200"/>
            <a:chExt cx="1584360" cy="36720"/>
          </a:xfrm>
        </p:grpSpPr>
        <p:sp>
          <p:nvSpPr>
            <p:cNvPr id="549" name="直接连接符 14"/>
            <p:cNvSpPr/>
            <p:nvPr/>
          </p:nvSpPr>
          <p:spPr>
            <a:xfrm>
              <a:off x="7667640" y="322200"/>
              <a:ext cx="158436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15"/>
            <p:cNvSpPr/>
            <p:nvPr/>
          </p:nvSpPr>
          <p:spPr>
            <a:xfrm>
              <a:off x="7667640" y="358920"/>
              <a:ext cx="158436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3"/>
          <p:cNvSpPr/>
          <p:nvPr/>
        </p:nvSpPr>
        <p:spPr>
          <a:xfrm>
            <a:off x="1312920" y="1425600"/>
            <a:ext cx="728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辛苦工作一辈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你的养老金够养老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619280" y="2244600"/>
            <a:ext cx="3733920" cy="2889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3"/>
          <p:cNvSpPr/>
          <p:nvPr/>
        </p:nvSpPr>
        <p:spPr>
          <a:xfrm>
            <a:off x="7788240" y="4878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素材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4"/>
          <p:cNvSpPr/>
          <p:nvPr/>
        </p:nvSpPr>
        <p:spPr>
          <a:xfrm>
            <a:off x="646200" y="225360"/>
            <a:ext cx="80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“用工劳动合同”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596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601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611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626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630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640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651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653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Administrator</dc:creator>
  <dc:description/>
  <cp:keywords/>
  <dc:language>en-US</dc:language>
  <cp:lastModifiedBy>Administrator</cp:lastModifiedBy>
  <dcterms:modified xsi:type="dcterms:W3CDTF">2015-08-03T01:07:20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