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36A-0133-4BAD-B368-E08C864D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97F-F4C8-4334-B824-7DB9E7CD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BD4-277F-477C-935E-BE2FCA0E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7E9-20DF-4B21-AB55-9030E1D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913C-D706-449B-A1A8-00EA7977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F53C-D3FF-4485-ABED-C49EA28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B1D-3BAE-4BDA-81DE-B5216AF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4409-E8B0-405E-A083-EBD8FB06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F0AA-432F-4B56-BCC1-359C3FA4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5A6-24E9-4178-B0A6-90A255F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0D7-5EFD-4D57-BC94-14903C6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16F-042B-49E3-8C5A-9052179B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53F-EE92-4090-A4EF-B37BDF1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C1B-76DF-4F9F-8901-F79C361E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1CCE-F595-48F4-B640-4FCA16B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753-EDFF-4F2B-839A-196C478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E84-722E-41BD-913E-02D4E4BD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7B0-AF39-4203-B26B-344FD7EB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34D-2FE7-4804-9FB6-DBD49E4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A75-963E-4D2B-B14C-833DEC6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E27-DA20-4D29-9ED7-D84A4A6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545-890E-45CC-A980-2616CEE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9D7-BC97-4B3B-AEF0-F9F22E2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B75-2767-4EA1-8425-FDAE4BB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96A-39A1-438F-ACE6-0056E7DBD65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70DE-4DC7-4594-9DDB-D58A48B8C2F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news.baidu.com/i?ct=520093696&amp;z=0&amp;tn=baiduimagenewsdetail&amp;word=%D1&#1917;%B2%B1%C8%C8%FC&amp;in=22780&amp;cl=2&amp;lm=-1&amp;pn=2&amp;rn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%B1%C8%C8%FC&amp;in=24752&amp;cl=2&amp;cm=1&amp;sc=0&amp;lm=-1&amp;pn=30&amp;rn=1&amp;di=76346881&amp;ln=200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7&#3386;&amp;in=14704&amp;cl=2&amp;cm=1&amp;sc=0&amp;lm=-1&amp;pn=2&amp;rn=1&amp;di=2499917580&amp;ln=2000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news.baidu.com/i?ct=520093696&amp;z=0&amp;tn=baiduimagenewsdetail&amp;word=%B0&#3894;&amp;in=31116&amp;cl=2&amp;lm=-1&amp;pn=3&amp;rn=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0&#3894;&amp;in=24752&amp;cl=2&amp;cm=1&amp;sc=0&amp;lm=-1&amp;pn=39&amp;rn=1&amp;di=1464762401&amp;ln=200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&amp;in=30772&amp;cl=2&amp;cm=1&amp;sc=0&amp;lm=-1&amp;pn=2&amp;rn=1&amp;di=750667168&amp;ln=2000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&amp;in=17899&amp;cl=2&amp;cm=1&amp;sc=0&amp;lm=-1&amp;pn=4&amp;rn=1&amp;di=1869373620&amp;ln=2000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7&#32235;%2C&amp;in=32339&amp;cl=2&amp;cm=1&amp;sc=0&amp;lm=-1&amp;pn=1&amp;rn=1&amp;di=2417668212&amp;ln=2000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0%CF&#678;&amp;in=22374&amp;cl=2&amp;cm=1&amp;sc=0&amp;lm=-1&amp;pn=9&amp;rn=1&amp;di=29437244&amp;ln=2000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%EE%C0%BD%B0%C2%D4%CB&amp;in=5579&amp;cl=2&amp;cm=1&amp;sc=0&amp;lm=-1&amp;pn=12&amp;rn=1&amp;di=1494133812&amp;ln=827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496;&#894;%B9%E2%C3%F7&amp;in=24752&amp;cl=2&amp;cm=1&amp;sc=0&amp;lm=-1&amp;pn=11&amp;rn=1&amp;di=944420321&amp;ln=471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3&#759;%E7%C6%C6%C0%CB&amp;in=17631&amp;cl=2&amp;cm=1&amp;sc=0&amp;lm=-1&amp;pn=5&amp;rn=1&amp;di=2384678968&amp;ln=2000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B%F9&#687;&amp;in=7080&amp;cl=2&amp;cm=1&amp;sc=0&amp;lm=-1&amp;pn=16&amp;rn=1&amp;di=2346786484&amp;ln=2000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6%EC%C2%D1&#687;&amp;in=28534&amp;cl=2&amp;cm=1&amp;sc=0&amp;lm=-1&amp;pn=17&amp;rn=1&amp;di=960107440&amp;ln=2000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B%A8%B8%DA&#687;&amp;in=15341&amp;cl=2&amp;cm=1&amp;sc=0&amp;lm=-1&amp;pn=10&amp;rn=1&amp;di=1745794216&amp;ln=2000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A&#53112;&#687;&amp;in=28121&amp;cl=2&amp;cm=1&amp;sc=0&amp;lm=-1&amp;pn=11&amp;rn=1&amp;di=188815528&amp;ln=53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A&#53112;&#687;&amp;in=7152&amp;cl=2&amp;cm=1&amp;sc=0&amp;lm=-1&amp;pn=29&amp;rn=1&amp;di=711644820&amp;ln=53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5%F1%B7&#1845;%C4&#754;%BC%E4%2E&amp;in=5273&amp;cl=2&amp;cm=1&amp;sc=0&amp;lm=-1&amp;pn=5&amp;rn=1&amp;di=1036269500&amp;ln=19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%B1%C8%C8%FC&amp;in=24752&amp;cl=2&amp;cm=1&amp;sc=0&amp;lm=-1&amp;pn=17&amp;rn=1&amp;di=43860241&amp;ln=200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%B1%C8%C8%FC&amp;in=24752&amp;cl=2&amp;cm=1&amp;sc=0&amp;lm=-1&amp;pn=7&amp;rn=1&amp;di=6832081&amp;ln=2000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%B1%C8%C8%FC&amp;in=10680&amp;cl=2&amp;cm=1&amp;sc=0&amp;lm=-1&amp;pn=2&amp;rn=1&amp;di=928156696&amp;ln=2000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D1&#1917;%B2%B1%C8%C8%FC&amp;in=14867&amp;cl=2&amp;cm=1&amp;sc=0&amp;lm=-1&amp;pn=3&amp;rn=1&amp;di=2214479920&amp;ln=200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演讲稿写作训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人的一生，每时每刻都站在一个选择点上，都面临着选择，都进行着选择。选择是人的权利和自由，但我想说的是，在包罗万象、形形色色的选择中，什么是对于我们的人生最重要、最有价值的。毫无疑问，它应该是信仰和追求，是选择什么样的道路，成为什么人的问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开宗明义，直扑主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8006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三）演讲稿主体写作训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演讲稿的主体是指开头与结尾之间的文字，是演讲的主要部分。议论式演讲稿主体结构主要有并列式、递进式、对比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819520"/>
            <a:ext cx="624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28840" y="761760"/>
            <a:ext cx="3816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作：以并列式的结构方式拟写演讲稿《我们的班风》、《怎样正确对待青春》主体部分的小标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838080"/>
            <a:ext cx="441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40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预设一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班风是友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班风是合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班风是提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的班风是进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200400"/>
            <a:ext cx="6324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预设二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青春是一粒种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青春是一颗蓓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青春是一部著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青春是一轮朝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2767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四）演讲稿结尾写作训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演讲稿的结尾，应该像虎豹之尾那样刚劲有力而又斑斓多彩，给人鼓舞，耐人寻味，使听众获得始终如一的完整形象。如何把尾结好，虽没有固定的模式，但还是有几种常用的方法，例如：首尾呼应、总括全篇、含蓄深沉、展望未来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267080"/>
            <a:ext cx="6019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40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：下列演讲稿结尾所采用的方法，并说说其妙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205740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自信吧，年轻的朋友；自信吧，亲爱的同学。在人生的海洋里，驾着你事业的航船，摇动你奋斗的双桨，扬起你自信的风帆，就一定能达到理想的彼岸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展望未来，鼓舞斗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3505320"/>
            <a:ext cx="6019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青年朋友，我们正值大学时期，能理解老师的心情吗？知道老师付出了多少艰苦的的劳动吗？当走上社会做出一定贡献受到人们赞扬的时候，你能想起培养过自己的老师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含蓄深沉，留有余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5160" y="4038480"/>
            <a:ext cx="525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开头）绿色，也许是七彩色中最简单的一种；军服，也许是服装中最普通的样式。但我却深深地挚爱那和大地同绿的军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结尾）我深知从戎的道路是崎岖坎坷的，有风雪，也有泥泞，但我既然选择了远方，我便会面对军旗的召唤，身着绿色的军服，义无反顾地风雨兼程。我将用我的青春和热血为那永不褪色的军旗，为我那深深挚爱的绿色军服增添明艳的色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首尾呼应，浑然一体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一、案例导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，是全中国沸腾的日子，也是所有中国人终身难忘的日子。因为那天，赴莫斯科的中国申奥大使杨澜，在中国申奥的最关键时刻，以精彩的经典演说，感动了评委、震动了世界，中国获得了北京奥运会的主办权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8862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总之，前途光明，道路曲折，我们的路还很长，任务很艰巨，但我们一定能成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总括全篇，加深印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作：以展望未来式拟写《竞争万岁》的结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3962520"/>
            <a:ext cx="6019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预设一：睁眼看吧！朋友们，竞争它来了，那么生动而威仪地来了。竞争是风，疾风吹过，坚实的枝条上硕果累累、生机勃勃；竞争是雨，暴雨扫过，留下来的是岩石般的坚韧和无畏的忠诚；竞争是激越的战鼓，进取在豪情万丈，更加斗志昂扬；竞争是崎岖的山路，攀登者在一个又一个险峰上领略无限风光。竞争，我要大声地为你叫好：竞争万岁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预设二：同学们，乘风破浪会有时，直挂云帆济沧海。让我们用知识加汗水，以满腔热情，积极参与竞争，拥抱新的希望，迎接这个机遇与挑战并存的二十一世纪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62440"/>
            <a:ext cx="5943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三、范文评析训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构建和谐社会的基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各位评委、各位朋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你心中的和谐社会可能是一部风情万种的小说，也可能是一幅瑰丽多姿的画卷，而是我心中的和谐社会是一座宏伟的摩天大厦。它的建立，需要无数坚不可摧的基石。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3962520"/>
            <a:ext cx="586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40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构建和谐社会大厦需要的第一种基石，是取自黄河之滨的鹅卵石。它们颗颗簇拥，相映生辉，代表着亿万颗炎黄子孙的赤诚之心，大家人人献力量，共同创繁荣、相互支撑、相互补充、相互关爱。这是构建大厦的坚实根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3809880"/>
            <a:ext cx="6172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构建和谐社会大厦需要的第二种基石，是取自泰山之巅的花岗石。它们是中华民族坚强不屈、正义和平的化身，代表着和谐社会需要我们手握正义的利剑，心中有杆公平的秤，迈步走向民主法治、民富国强的崇高理想。这是构建大厦的深厚根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3657600"/>
            <a:ext cx="685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构建和谐社会大厦需要的第三种基石，是取自东海之滨的红礁石。它观沧海、眺宇宙、搏风浪，具有最广博的胸怀，最坚毅的性格，代表着和谐社会需要我们有海纳百川的宽容，有与时俱进的远见卓识，才能实现人际和睦、国际和平、人类与自然和谐相处的远景。这是构建大厦的宽广根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495680"/>
            <a:ext cx="6629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朋友们，构建和谐社会的基石就在你手中！其实构建和谐社会的大厦，你我他都是最好的基石，让我们从东海之滨采来红礁石，从泰山之巅采来花岗石，让我们自己成为一颗颗色彩斑斓的鹅卵石吧！把我们和谐社会大厦的根基打得更加坚实、更加深厚、更加宽广，不光为了你我他今天的安宁与幸福，更是为了子子孙孙千秋万代的安宁与幸福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4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研讨：这篇演讲稿的标题、开头、主体、结尾所采用的方法及亮点所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82880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出色的演讲能沁人心脾、慑人魂魄，从而使你的思想主张深入人心，使你的呼唤化为他人的行动。因此我们可以说演讲的魅力和力量是无穷的。如何用演讲的方式迅速、有效地传递信息、表明观点、感召听众获得演讲成功呢？写好演讲稿是一个非常重要的环节。演讲稿是针对一定的场合，面对特定的对象，所拟写的演讲书面文稿，一般由标题、称呼、开头、主体、结尾组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标题为含蓄型，用比喻或象征的修辞手法，把抽象的意义具体化、形象化，深入浅出地揭示主体。开头为烘托式，用对比引出自己的话题，并使自己的主张在人们的心目中留下深刻的印记。主体为并列式结构，从几方面并列地展开论证，条理清晰。结尾为展望未来式，高度概括了全篇的议论，用排比句进一步深化主题，犹如进军的号角，催人奋进，给人以巨大的鼓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研讨：这篇演讲稿的高潮设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高潮是演讲者感情最激昂、气势最雄劲的时刻，又是听者情绪最激动、精神最振奋的瞬间。演讲稿采用铺陈渲染的方法，在结尾处精心设计“共振效应”， 使演讲者与听众感情上产生强烈共鸣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70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40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研讨：这篇演讲稿的语言特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语言形象，演讲稿在明白如话的基础上，恰当使用比喻、象征等修辞方法，化抽象为具体，深奥为浅显，枯燥成有趣，增强语言表现力。排比有力，增强了节奏感、旋律感、气势感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17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四、训练结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演讲在历史时空中发挥着惊天动地的巨大作用，它用太阳神阿波罗的阳光语言照亮人间，用文化神雅典娜的智慧语言传播知识，用爱情神维纳斯的爱美语言美化生活。要想通过演讲改变自己的命运，从今天起，就克服困难，反复训练，学会写精彩的演讲稿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五、拓展综合训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仁爱为话题，写一篇演讲稿。要求：恰当采用演讲稿写作技巧，观点鲜明、材料充分、结构合理、设计高潮、语言生动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字左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6095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二、演讲稿单项写作训练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一）标题类型分辨训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标题是一篇演讲稿不可缺少的有机组成部分，是演讲的“眉目”，好的标题，具有风流蕴藉，眉目传神的特点，给人留下鲜明深刻的印象，引起听众浓厚的兴趣。标题的主要类型有：揭示型、设问型、含蓄型、警惕型、抒情型、新闻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44956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研讨：《天灾无情人有情》、《用爱点亮一盏心灯》、《未来与现在——写在毕业之前》、《演讲艺术，我爱你》、《注意，路上处处有红灯》、《怎样做最好的自己？》属于哪种类型的标题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揭示型、含蓄型、新闻型、抒情型、警惕型、设问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419720"/>
            <a:ext cx="6172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（二）演讲稿开头方法研讨训练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演讲稿的开头犹如作战的先头部队，就其表现形式而言，可以千变万化，千姿百态，但从表现技巧和表现手法上却有许多内在的规律，作为演讲者，要因时、因地、因人精心设计开头，力争使开头像“凤头”那样精美，像磁铁那样吸引人，使演讲旗开得胜。开头的写作方法主要有：开门见山、开宗明义、设问开头、交流情感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研讨：下列演讲稿开头所采用的方法，并说说其妙处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同学们，当前我们大学生求职出现了前所未有的困难，原因是什么呢？是我们国家的人才太多了吗？是我们学的东西过时了吗？还是我们眼光不再符合社会需求了呢？面对这么多的问题，我们这些即将走出校门的大学生又如何应对这一现象呢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设问开头，激发兴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奥运精神是什么？奥运精神是“更快、更高、更强”。支撑和造就“更快、更高、更强”的是什么？是“自信、自强、自尊”。这既是奥运精神的原动力，更是奥运精神的境界升华。我今天演讲的题目是《自信、自强、自尊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开门见山，直接点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495680"/>
            <a:ext cx="647712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40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同学们，今天我来到警官学院，我一上台就发现了一个秘密。你们想过没有，全国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亿人，只有谁有权利在头顶的帽子上缀上我们神圣的国徽呢？你们！只有你们！人民的卫士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确：交流情感，沟通心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038480"/>
            <a:ext cx="586728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益</cp:lastModifiedBy>
  <dcterms:modified xsi:type="dcterms:W3CDTF">2010-10-06T13:16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