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895A-48E0-4A52-8093-9C9653207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D328-2192-4AAD-B0ED-64D796D8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9F93B-AB20-45B4-A43F-31A0D99FD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2ABD7-AAB9-4850-A37B-5BA588D95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72EFF-1005-4758-B3F3-0A7CCD2C7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17B1-B6B8-464A-829C-7BB582BE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24D07-0F02-43E9-A5F7-C612C986A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051BC-FD1B-4508-AA0C-34BB8A673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E977D-72EE-4485-9FA6-E702BD49F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3602-0AD2-4455-91CD-6126F391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8F078-BAA0-40B2-9872-9DDE7B18C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3784-FC55-4766-97B0-ADA23447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8CF5C-DDE7-4749-8315-833D6E44F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823D-DDB6-4F40-A68B-120396F76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46446-DA51-46C7-8083-7AAC87E0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F066E-15E7-4BAD-87FC-932A56BF6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22ED8-0B00-4872-B4B7-393686DA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E6137-254F-4257-8ED7-04C3CCC7A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EA23-A027-4F5D-9E01-B6CB1E4B0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C29-05ED-473D-810B-773D43B25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D7F7-2066-4380-AF7E-6980714BF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7858-F33B-477E-B38F-8E05EBE90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A1AB-9533-4871-8421-3A463731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BE9C-0FF9-4D35-A7DA-8517E9AF6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6279C-74C6-4D17-8932-88FCE850DD1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BA83-F782-4E3B-9676-41CE0F8D1C3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324000" y="981000"/>
            <a:ext cx="7488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95280" y="1125360"/>
            <a:ext cx="8496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隶书"/>
              </a:rPr>
              <a:t>演讲篇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隶书"/>
              </a:rPr>
              <a:t>·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隶书"/>
              </a:rPr>
              <a:t>演讲技巧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隶书"/>
              </a:rPr>
              <a:t>（实战演练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隶书"/>
              </a:rPr>
              <a:t>·4</a:t>
            </a:r>
            <a:r>
              <a:rPr b="1" lang="zh-CN" sz="6000" spc="-1" strike="noStrike">
                <a:solidFill>
                  <a:srgbClr val="ff00ff"/>
                </a:solidFill>
                <a:latin typeface="Times New Roman"/>
                <a:ea typeface="隶书"/>
              </a:rPr>
              <a:t>学时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324000" y="549360"/>
            <a:ext cx="856908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（二）变换你的语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谈话中，你的语调会时而高亢、时而低沉、时而又恢复如常，而这种变换，正如大海的海面一样，永不停歇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下面的引文中，请用较低的语调朗读粉色单词，会有什么效果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我只有一个优点，那就是</a:t>
            </a: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永不言败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马绍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弗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教育的关键目的不是知识，而是</a:t>
            </a: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行动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              ——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赫伯特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史宾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324000" y="692280"/>
            <a:ext cx="8496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（三）改变你的语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日常谈话时，大家的语速是不断改变着的。这令人感到愉悦并显得极为自然，同时，这也是无意识中进行的。实际上，语速的改变还是突出我们语意的最佳方法之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请大声朗读这段话，尝试变化语速，注意其效果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就在其逝世前夕，红衣主教吉朋斯说道：“在八十六年的生涯中，我已亲眼目睹了许许多多的</a:t>
            </a:r>
            <a:r>
              <a:rPr b="1" i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成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人士，而在使他们成功的诸因素中，</a:t>
            </a:r>
            <a:r>
              <a:rPr b="1" i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最重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的就是</a:t>
            </a:r>
            <a:r>
              <a:rPr b="1" i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信念，缺少信念，任何人都不可能取得成功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324000" y="765000"/>
            <a:ext cx="856908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（四）在重要地方的前面和后面稍作停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例如林肯的传记记者这样谈他的演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当他和道格拉斯的著名辩论趋于尾声，而所有的迹象都表明对他不利时，他显得沮丧起来，他那惯有的忧郁不时地写在了脸上，并给他的演讲带来了一种悲壮的力量。在一场总结发言中，林肯突然停了下来，沉默地竖立在那里，他环顾四周，打量着半数漠不关心、半数和善友好的面孔，那双深陷的、疲惫的眼睛里，似乎满含着泪水；他的双手摊开了，好似已厌倦了这场无助的战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395280" y="765000"/>
            <a:ext cx="84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他以一种特别的单调声音缓缓说道：</a:t>
            </a: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“我的朋友们，无论是道格拉斯还是我当选美利坚合众国的参议员，这都并不重要；但是，今天，我们在这里提出的伟大方案将会超越任何个人的利益，也绝不是个人的政治财富。”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说到这里，林肯又停了下来，而听众们在全神贯注地听着每一个字。接着，林肯又说了下去：</a:t>
            </a: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“这个方案的生命力将会与世长存，即使道格拉斯和我有一天已静静地躺在了坟墓里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“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些朴素的话，加之以那样的表达方式，深深触动了听者的灵魂。”林肯的一位传记作者如是评述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/>
          <p:nvPr/>
        </p:nvSpPr>
        <p:spPr>
          <a:xfrm>
            <a:off x="468360" y="765000"/>
            <a:ext cx="8351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Times New Roman"/>
                <a:ea typeface="隶书"/>
              </a:rPr>
              <a:t>三、态势语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态势语训练是有声语言的补充，它辅助有声语言，使有声和无声二者彼此互补、相得益彰，让演讲得到完美的体现。态势语训练没有固定的模式，它应是口语表达者感情的自然流露，应与有声语言相协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395280" y="836640"/>
            <a:ext cx="842472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（一）常见的态势语表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、眼神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常言道，眼睛是心灵的窗户，它能表现出更多的无声语言。通过眼神，可知对方的心理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演讲时，目光应遍及全场，不能只盯着一个角落。目光应准确、真实、自然地表现自己地内心世界，从而赢得观众的心领神会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179280" y="189000"/>
            <a:ext cx="87854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演讲时的眉眼要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当惊喜时你要神采飞扬、眉毛上挑且微微颤动，真可谓喜上眉梢之态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当忧愁时，你要显得忧心忡忡，应皱着眉头，给人以一种若有所思的感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当愤怒时，应横眉冷对，使眼睛圆睁，满脸杀气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当平静时，应表现出目光平视或凝视，给听众一种思索和情感交流之感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让听众的表情随着你的眼神而变化，这样就给你的演讲奠定了基础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79280" y="260280"/>
            <a:ext cx="878544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、面部表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表情是人们内在情感的表现，它是通过面部来表现的，面部表情能准确灵敏地反映出人的种种情绪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常见面部表情表现是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当表现出严肃、愤怒、疑问、忧愁时，面部往往表现出肌肉绷紧，眉头紧皱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）当表现出一种平和、和蔼可亲，欲取信于理解、友善等情感时，面部往往表现出一种舒松的状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"/>
          <p:cNvSpPr/>
          <p:nvPr/>
        </p:nvSpPr>
        <p:spPr>
          <a:xfrm>
            <a:off x="179280" y="333360"/>
            <a:ext cx="87138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例如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美国听众评述演讲家罗斯福时说：“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他满脸都是动人的表情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《回忆罗斯福》中写道：“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在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20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分钟的时间里，罗斯福先生的脸上表现出诧异、好奇、故作吃惊、真正的兴趣、焦虑、同情、幽默、尊严和无比的魅力，但是他几乎没有说出什么东西。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析罗斯福的演讲专家认为，他的演讲往往更注重面部表情，有时谈的很少，他的表情已经传达了更多的准确有效的信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79280" y="189000"/>
            <a:ext cx="878544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、手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手势能使人的情感形象化、具体化。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在演讲中，手势有以下几种情况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两手平端，向上挥动，号召人们行动起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举起双拳，在空中晃动，号召人们起来斗争、奋斗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单手前伸，掌心向上，做小范围的平移以表肯定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当要表示否定、厌恶的内容时，方向向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50920" y="476280"/>
            <a:ext cx="889308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隶书"/>
                <a:ea typeface="隶书"/>
              </a:rPr>
              <a:t>故事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个人在高山之巅的鹰巢里，抓到了一只幼鹰，他把幼鹰带回家，养在鸡笼里。这只幼鹰和鸡一起啄食、嬉闹和休息。它以为自己是一只鸡。这只鹰渐渐长大，羽翼丰满了，主人想把它训练成猎鹰，可是由于终日和鸡混在一起，它已经变得和鸡完全一样，根本没有飞的愿望了。主人试了各种办法，都毫无效果，最后把它带到山顶上，一把将它扔了出去。这只鹰像块石头似的，直掉下去，慌乱之中它拼命地扑打翅膀，就这样，它终于飞了起来！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50920" y="692280"/>
            <a:ext cx="856908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、姿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正确的姿势应该是全身站立，头部保持直立。当登台演讲时，应站在讲台的中间，不应站在讲台的一侧，也不应站得太后。站立时两脚自然平行分开，距离与肩同宽，两手轻松下垂靠身体两侧，脚跟站稳，重心放在右脚上，这样给人以一种精神、自然的感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切忌与人交谈时，翘起二郎腿，或身体后仰靠在椅子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179280" y="189000"/>
            <a:ext cx="8785440" cy="289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5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、服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服装美，亦即装饰美。俗语称：“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佛要金装，人要衣装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”对于服装的基本要求是：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整洁大方，庄重朴素，轻便协调，色彩和谐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在口语表达活动中，服饰的装扮非常重要，它是一种重要的体态语言，它无时无刻不在向人们展示自己的形象和风度。比如：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穿牛仔装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显得潇洒、随和、热情。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穿西服戴领带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显得举止庄重、沉稳。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女性穿裙装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，显得充满女性魅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但是服装要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克服三种倾向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：一是过于华美；二是过于随便；三是打扮得不男不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容貌、身材美和服装美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应以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自然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为准，以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适合自己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为准，以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符合身份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为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国著名的演讲家和文学家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鲁迅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先生，平时总是留着平头，头发直立向上，身着灰布长衫，这正好与他的“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横眉冷对千夫指，俯首甘为孺子牛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”的名句相适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再如香港演艺界的肥姐（沈殿霞）的发型、身材和服装的和谐自然；还有古巴前领导人卡斯特罗一身戎装的形象设计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179280" y="189000"/>
            <a:ext cx="8785440" cy="32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（二）态势语中的不良动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矫揉造作、装腔作势、粗野放肆。不根据实际去运用动作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倾斜着身子，耸立肩膀（又称端肩），东摇西晃，抓耳挠腮，挖鼻揉眼、频繁使用手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惊慌不安，六神无主，莫名其妙地傻笑，眼睛望着天花板，死盯着演讲稿或地下。不时偷眼看着窗外或是眼光不停地从一处扫到另一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从一只脚到另一只脚前后摇动，两脚交叉站立，脚与脚之间的距离太近或太远，把脚踩在椅子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手臂交叉分开，手放在背后或伸进衣袋里，让钱币和钥匙之类的东西叮当作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）不时解开衣服上的纽扣，揉揉衣角，玩弄和卷起讲稿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79280" y="0"/>
            <a:ext cx="896472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（三）台上风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梁实秋记述梁启超演讲的风采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</a:t>
            </a: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隶书"/>
              </a:rPr>
              <a:t>出场给人的第一印象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记得清清楚楚，在一个风和日丽的下午，高等科楼上大教堂里坐满了听众，随后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走进了一位短小精悍秃头顶宽下巴的人物，穿着肥大的长袍，步履稳健，风神潇洒，左右顾盼，光芒四射，这就是梁任公先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演讲中的激情四溢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先生的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讲演，到紧张处，便成为表演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他真是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手之舞足之蹈，有时掩面，有时顿足，有时狂笑，有时叹息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听他讲到他最喜爱的《桃花扇》，讲到“高皇帝，在九天，不管……”那一段，他悲从中来，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竟痛哭流涕而不能自已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。他掏出手巾拭泪，听讲的人不知有几多也泪下沾巾了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!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又听他讲杜氏讲到“剑外忽传收蓟北，初闻涕泪满衣裳……”，先生又真是于</a:t>
            </a:r>
            <a:r>
              <a:rPr b="1" lang="zh-CN" sz="2400" spc="-1" strike="noStrike">
                <a:solidFill>
                  <a:srgbClr val="ff00ff"/>
                </a:solidFill>
                <a:latin typeface="隶书"/>
                <a:ea typeface="隶书"/>
              </a:rPr>
              <a:t>涕泗交流之口张口大笑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     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—— 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梁实秋《记梁任公先生的一次演讲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250920" y="189000"/>
            <a:ext cx="8675640" cy="259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我们学生演讲应该怎样展示自己的上、下场风采呢，最佳的走台应该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上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不紧不慢地走上台后，选择最适当的位置再停下来，自然地转过身来，向听众大大方方地鞠一个躬，面带微笑用眼神与听众交流，还未开口，一切就尽在不言中了。面部表情以微笑为基础，和善、亲切、平易地开始你的开场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下场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下场时也需注意：上场时怎么走，下场时也一样。有的演讲者以为讲完就没事了，然后长出一口气，转身便跑下台去了；有的人边走还边吐舌头，抓耳挠腮；有的人更是急不可耐地向朋友打手势。这些都应彻底避免。</a:t>
            </a:r>
            <a:r>
              <a:rPr b="1" lang="zh-CN" sz="2400" spc="-1" strike="noStrike">
                <a:solidFill>
                  <a:srgbClr val="ff33cc"/>
                </a:solidFill>
                <a:latin typeface="隶书"/>
                <a:ea typeface="隶书"/>
              </a:rPr>
              <a:t>只有当你从听众眼中消失时，你的演讲才算结束。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最后的时刻，千万别把前面花费的功夫全给毁了。人往往在结束时，放松警惕，所以切记最后的道别不可忽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79280" y="260280"/>
            <a:ext cx="8785440" cy="28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（四）恰当运用礼貌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上场的礼貌语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推出自己的最好形象，你还应当恰当地运用礼貌。当主持人介绍你上场时，你可以由衷地说声“</a:t>
            </a: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谢谢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，演讲开始时，别忘了说句“</a:t>
            </a: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朋友们，大家好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，“</a:t>
            </a: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各位老师同学们，大家晚上好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，“</a:t>
            </a: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同志们，久违了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之类的话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中途的礼貌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果在中途，你请听众参与你的演讲或提问，或是得到工作人员的帮助，说上一句“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谢谢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，“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非常好，太谢谢您了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，别人会觉得你很有教养，如果忽视这些小问题，你的演讲形象也会大打折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/>
          <p:nvPr/>
        </p:nvSpPr>
        <p:spPr>
          <a:xfrm>
            <a:off x="250920" y="189000"/>
            <a:ext cx="8569080" cy="33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、结束时的礼貌语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cc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演讲完了，你也要善始善终。你可以稍稍停顿之后，满怀深情地说一声“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谢谢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、”‘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谢谢大家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。“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我的演讲完了，谢谢大家的支持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，然后较慎重地后退一步，恭敬地给大家鞠一个躬。鞠躬的时间要稍长一些，让每个听众都看到。恰当地向听众道别，显得绅士一些，给你的演讲划上一个圆满的句号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使用礼貌语说明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礼貌的注意事项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一点需要注意，凡事都应有个度，礼貌过多会让人觉得厌烦。客套话过多也很易让人反感，一切都须做得自然，说“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谢谢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”的时候要真诚，否则也容易让听众觉得心里不舒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179280" y="189000"/>
            <a:ext cx="8713800" cy="49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隶书"/>
              </a:rPr>
              <a:t>视频播放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Arial"/>
                <a:ea typeface="隶书"/>
              </a:rPr>
              <a:t>新东方老师的演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徐小平《厦门大学演讲》从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5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开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王强《厦门大学演讲》从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8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开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俞敏洪《厦门大学演讲》从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开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几位新东方老师的演讲各有特点，任课老师可以选择性的播放，时间自己掌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马英九获胜感言视频（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0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5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－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28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重点看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演讲时与观众的互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179280" y="189000"/>
            <a:ext cx="8785440" cy="24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Arial"/>
                <a:ea typeface="隶书"/>
              </a:rPr>
              <a:t>马英九获胜感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次选举结果不是马英九及萧万长的个人胜利，亦不是一个政党的胜利，而是千千万万希望求变的台湾民众的胜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从选举的结果可以看得出来，台湾民众的心声是什么？台湾人民希望政府清廉，不要贪腐；台湾人民希望经济繁荣，不要萧条；台湾人民希望政治安定，不要内斗；台湾人民希望族群和谐，不是撕裂；台湾人民希望两岸和平，不要战争。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大家说：对不对？（民众大声应和：）“对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国民党执政后，要从感恩出发，从谦卑做起，努力倾听民众心声。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大家说：好不好？（民众大声应和：）“好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79280" y="0"/>
            <a:ext cx="87854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课堂演练</a:t>
            </a: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·</a:t>
            </a: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演讲训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讲台前做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分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演讲，要求脱稿，严格按照课上老师讲的演讲要求进行演讲。演讲的内容可以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学习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比如：自己感悟的大学学习特点、学习过程、专业技能设计、本专业与自己的未来职业发展等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生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比如：第一次独立生活的感悟、大学和中学生活的不同、如何看待节约、如何合理理财、你的业余爱好、你喜欢的城市等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亲情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比如：通过细节感悟亲情、爸妈对我的爱、祖父母对我的关爱、兄弟姐妹之间的真情等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友情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比如：大学的同学之情、记忆深刻的一份友情、感悟不同年龄阶段的同学之情等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爱情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比如：我看大学恋爱、我的爱情观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684360" y="189000"/>
            <a:ext cx="7991280" cy="457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ff"/>
                </a:solidFill>
                <a:latin typeface="Times New Roman"/>
                <a:ea typeface="隶书"/>
              </a:rPr>
              <a:t>主要内容：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一、背稿技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二、声音技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三、态势语技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四、调适心态技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Times New Roman"/>
                <a:ea typeface="隶书"/>
              </a:rPr>
              <a:t>五、应变技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六、演讲风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179280" y="0"/>
            <a:ext cx="8785440" cy="30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四、调适心态技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（一）熟悉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提前熟悉现场环境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可以先到现场，对演讲时的空间环境，做到提前熟悉，免去对环境的恐惧心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把握最佳空间距离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A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如果是在较大的场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你应尽量靠前一些，时常变换一下站姿，站得尽量自然轻松，不要站得太正规、太僵硬。否则，最容易强化距离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B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如果是有讲台的场地</a:t>
            </a: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听众看不到你的下半截身体，你也不应该像做报告似的老站在讲台上，距离又多了一层，让人觉得似乎不关己事，加上演讲比赛选手多，到了后来让人听得昏昏欲睡。此时你完全可以经常走下讲台，站在讲台一侧，甚至走到讲台前面向听众提问。只要一切自然即可，没有人会认为你不规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179280" y="0"/>
            <a:ext cx="8713800" cy="31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示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印尼总统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苏加诺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有次应邀到北京大学演讲，他是这样开始他的演讲的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同学们，请大家往前挪几步，我想挨大家近点，好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亲切的话语，含笑的表情得到了学生的认可，学生从心里感到这位演讲者很亲切，就向前走了几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“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请大家脸带微笑，因为我们面对的是一个光辉灿烂的明天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这句话不仅缩短了与听众的交往距离，更拉近了心理距离，学生报以热烈的掌声。距离感便在这微笑与掌声中消失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250920" y="189000"/>
            <a:ext cx="8713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Arial"/>
                <a:ea typeface="隶书"/>
              </a:rPr>
              <a:t>       </a:t>
            </a: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隶书"/>
              </a:rPr>
              <a:t>演讲空间距离的确定对演讲的成功有很大的影响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进入赛场，你便可以根据听众多少和听众的坐法，大致确定你的演讲位置了。如果在大厅里演讲，下面只有二三十人，且都靠后坐，是不是会有一种稀松感、空虚感？你的惨淡经营便很难热烈起来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C</a:t>
            </a: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、如果在小场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你老站在讲台上，对前排听众容易造成一种压迫感，对后排听众又容易有层隔离感，所以你不应该老站在原位。适当变换一下位置，显得既自然大方，又不让人觉得呆板生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"/>
          <p:cNvSpPr/>
          <p:nvPr/>
        </p:nvSpPr>
        <p:spPr>
          <a:xfrm>
            <a:off x="179280" y="260280"/>
            <a:ext cx="8713800" cy="277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隶书"/>
                <a:ea typeface="隶书"/>
              </a:rPr>
              <a:t>（二）、平静心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欣赏音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听一段你平时最喜欢的音乐，或默诵一段你喜欢的文字，可以调节你的紧张心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体育运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做一些小幅度的活动动作，如扩胸、蹬腿、散步等。还可以做深呼吸，减轻身体的不良感觉，不失为一种解除紧张而又简单易行的好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179280" y="117360"/>
            <a:ext cx="8785440" cy="28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五、应变技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（一）应对主观意外之变的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演讲过程中主观方面的意外变化主要有怯场、忘却、失误等。如何应变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怯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怯场是讲话时出现的一种畏惧心理和精神紧张状况。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怯场的原因很多，主要有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主观上患得患失，自我意识过强；缺乏充分准备，失去自信，心里发慌；身体不适，情绪不佳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克服怯场的办法主要有：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充分准备，加强修养；加强锻炼，多闯多练；自我激励，树立信心；移情于物，转移注意；呼吸调节，控制心跳；了解听众，熟悉环境等。前面我们也讲过这方面的调试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250920" y="0"/>
            <a:ext cx="889308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、忘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忘却是指讲话时，思维的链条突然中断，把下面要讲的内容忘掉了。这时候切不可乱了方寸，放弃讲话；也不可乱讲一气，愚弄听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可供弥补的措施有三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一是插话衔接法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即在忘却处插人一两句过渡性的话，以便利用这短暂的时间回忆起忘却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二是重复衔接法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即一旦忘却时，可将刚说的话重复一遍，这样往往能使中断的思维衔接起来，使讲话继续下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三是跳跃衔接法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当忘却时，你不妨随圆就方，把没忘的内容讲出来，这样不致于破坏讲话气氛。如果后来又想起了前面遗忘的话，可在收尾前加以补充，你可以这样说：“值得一提的是……”，“还要注意的是…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"/>
          <p:cNvSpPr/>
          <p:nvPr/>
        </p:nvSpPr>
        <p:spPr>
          <a:xfrm>
            <a:off x="250920" y="189000"/>
            <a:ext cx="8713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失误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cc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失误，是指不小心说错了话，这也是常见的毛病。比如因记忆不准确而说错了某个数字或年代，因讲话太快而丢词落句，因过于激动而用词不当或话语不得体等等。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出现失误，应根据具体情况采取相应的补救措施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）如果是小的失误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如丢了个词，错了个字，不合句法什么的，可以不管它，不纠正也无碍大局，纠正了反而干扰正常表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）但如果是大的失误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比如错的是关键性的词语或句子，或是政策性、原则性的话，就不能听之任之，而要予以更正。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更正的方法一般是：按照正确的说法再说一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"/>
          <p:cNvSpPr/>
          <p:nvPr/>
        </p:nvSpPr>
        <p:spPr>
          <a:xfrm>
            <a:off x="395280" y="260280"/>
            <a:ext cx="8497800" cy="14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Arial"/>
                <a:ea typeface="隶书"/>
              </a:rPr>
              <a:t>梁实秋记述梁启超在处理忘却时的方法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先生博闻强记，在笔写的讲稿之外，随时引证许多作品，大部分他都能背诵得出。</a:t>
            </a: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隶书"/>
              </a:rPr>
              <a:t>有时候，他背诵到酣畅处，忽然记不起下文，他便用手指敲打他的秃头，敲几下之后，记忆力便又畅通，成本大套地背诵下去了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他敲头的时候，我们屏息以待，他记起来的时候，我们也跟着他欢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179280" y="549360"/>
            <a:ext cx="8785440" cy="368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（二）、应付客观之变的技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客观的变化主要有哪些呢？根据讲话的题旨、听话的对象、说话人的主体条件以及讲话地点、环境、气氛的不同，可会有各种不同的表现形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譬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时可能是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听众对象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临时发生了变化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时是由于客观原因临时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改变了讲话的内容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可能出现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听众反应冷淡、取闹喧哗、兴趣转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；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有时你的话不被人接受，出现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观点对立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抑或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临时改变讲话场地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缩短或延长说话时间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等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395280" y="98100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0920" y="260280"/>
            <a:ext cx="8713800" cy="30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ff"/>
                </a:solidFill>
                <a:latin typeface="Times New Roman"/>
                <a:ea typeface="隶书"/>
              </a:rPr>
              <a:t>示例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据说，著名京剧演员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谭鑫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有一次在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《黄金石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中饰演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田单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匆忙间上台忘了带乌纱帽，观众正感诧异，岂料他灵机一动，字正腔圆地念道：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“国事乱如麻，忘了戴乌纱。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巧妙地作出掩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另有一次他在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《辕门斩子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中饰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杨六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上台时，饰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焦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演员忘了挂须，再下场去取又觉不妥，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谭鑫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一见立即想法给他解围，他佯装生气地说：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“你父哪里去了，快快与我唤来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，那演员借机退场挂须，观众叫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口才就应该有这样的应变能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24000" y="620640"/>
            <a:ext cx="8496000" cy="265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一、背稿技巧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（一）、讲稿熟记技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熟悉和背记演讲稿，在演讲者的演讲思维乃至整个演讲心理活动中处于突出的地位，也是演讲活动取得成功的必不可少的条件。可以这样说：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不熟记，无以演讲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要脱稿演讲，使口语表达收到最佳效果，必须对演讲稿反复熟记，反复演练，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其主要技巧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250920" y="189000"/>
            <a:ext cx="8713800" cy="32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隶书"/>
                <a:ea typeface="隶书"/>
              </a:rPr>
              <a:t>六、演讲风格（略讲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（一）何谓演讲风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是指演讲者在演讲过程中所表现出来的独特个性与较为稳定的特征，是演讲者社会背景、文化修养、主体素质阅历习惯、个性情趣等内在因素的综合反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（二）、演讲风格的特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演讲风格最大的特点是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个性化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个性是风格的基调，没有个性便无所谓风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250920" y="260280"/>
            <a:ext cx="8713800" cy="247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（三）、演讲风格的类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根据不同的划分标准，演讲风格的类型也不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、从讲者的感情抒发这一标准划分，演讲风格可以分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）、慷慨激昂型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类演讲如大河奔流，演讲者慷慨陈辞，滔滔不绝。这类演讲贯穿的感情比较激烈，或喜悦，或愤怒。它的特点是，语言节奏明快，多使用短句。这种风格的演讲，鼓动性强，号召力大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95280" y="692280"/>
            <a:ext cx="8497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2</a:t>
            </a: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）、深沉凝重型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它的特点是整场演讲节奏缓慢，感情抒发深沉凝重。这种风格的演讲，既要有理性的分析，又要有情感的抒发，而且还要有一定穿透力、说服力。这种演讲以深沉为基调，给人无穷的回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（</a:t>
            </a: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3</a:t>
            </a: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）、潺潺流水型演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这类演讲的特点是平等和谐，感情抒发似潺潺的小河流水，慢慢地流进人们的心田，有着“润物细无声’的功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179280" y="260280"/>
            <a:ext cx="87138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cc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ff33cc"/>
                </a:solidFill>
                <a:latin typeface="隶书"/>
                <a:ea typeface="隶书"/>
              </a:rPr>
              <a:t>、从讲者语言风格这一标准划分，演讲风格又可以分为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、质朴无华型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、简练明快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、雄浑刚健型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、典雅持重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（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）、深邃含蓄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179280" y="260280"/>
            <a:ext cx="8785440" cy="32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6000" spc="-1" strike="noStrike">
                <a:solidFill>
                  <a:srgbClr val="ff00ff"/>
                </a:solidFill>
                <a:latin typeface="隶书"/>
                <a:ea typeface="隶书"/>
              </a:rPr>
              <a:t>演讲经验十六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演讲的前一晚必须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睡眠充足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使喉咙获得良好的休息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2.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穿着合宜得体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服装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演讲前，如果有机会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与听众打成一片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应该把握住，与听众握握手，对他们微笑，或打个招呼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心理上、情绪上、精神上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保持放松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预先假设可能发生的事，但不要被它困扰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179280" y="620640"/>
            <a:ext cx="882036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在讲台上，要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轻松自在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地站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6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最应该注意的当然是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演讲的内容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在做引言时，应先将重点主题陈述出来，然后在主文中，将主题一一剖析，并且赋予新的观点。试着多讲一些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词藻丰富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话。可能的话，最好掺入一点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幽默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的字眼（千万不能使听众觉得无聊）。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注意强调重点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戏剧性地把它们说出来，随后降低声音，再安静下来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"/>
          <p:cNvSpPr/>
          <p:nvPr/>
        </p:nvSpPr>
        <p:spPr>
          <a:xfrm>
            <a:off x="179280" y="620640"/>
            <a:ext cx="878544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7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准备周全的题材，并且做充分的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预备和练习。</a:t>
            </a:r>
            <a:r>
              <a:rPr b="1" lang="zh-CN" sz="1800" spc="-1" strike="noStrike">
                <a:solidFill>
                  <a:srgbClr val="ff00ff"/>
                </a:solidFill>
                <a:latin typeface="隶书"/>
                <a:ea typeface="隶书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8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演讲前不要进食。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乳制品尤应禁止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因为它可能使你的喉咙充满粘液。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9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演讲前对自己说：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“你很棒！” 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0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上台前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做几次张大嘴巴的动作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当然，大笑也可以，如果有理由，这样你的下颚会变得柔韧舒服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11.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要开始说话时，保持微笑环视所有听众，然后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做一次深呼吸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>
            <a:off x="324000" y="765000"/>
            <a:ext cx="741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179280" y="692280"/>
            <a:ext cx="8785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2.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头几句要轻松一点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引领听众不由得发笑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3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在听众人群中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找一两张快乐友善的脸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经常望望他们，这会令你觉得自己被重视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4.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仔细听一听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麦克风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传来的自己的声音，以确定自己的嘴巴是应靠麦克风近一点，还是远一些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5.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多用一些肢体语言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借此帮助你吸引听众的注意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6.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手边放一杯冰水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，喉咙干燥时就啜一口。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50920" y="0"/>
            <a:ext cx="72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324000" y="692280"/>
            <a:ext cx="806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卡耐基曾说：“年轻人不必担心他们的教育会有什么结果，无论哪一门学科都一样。只要他每天孜孜不倦，最后的结果自会证明他自己。他可以笃信，总有一天他会变成当代的杰出人物，学有专精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这一段话告诉人们，只要你每天孜孜不倦练习演讲，总有一天，你会变成杰出的演说人之一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395280" y="260280"/>
            <a:ext cx="705636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总括提高演讲水平的途径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加强品德修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充实学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刻苦训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积累创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驱散害羞心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克服胆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运用机智和幽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8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、广泛参与交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468360" y="692280"/>
            <a:ext cx="83516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朗读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记忆讲稿时，一遍一遍地高声朗读，以至“烂熟于胸”。实际上，朗读法不仅能增进记忆，它也是一种演讲的“彩排”。通过这种方法，演讲者既锻炼了口才，也能体会演讲的临场效果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纲目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所谓纲目法就是指抓住演讲稿的大体内容，只记住“骨架”的方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：在记忆议论型讲稿时，可以从内容和结构方面，按照提出了什么问题，采取 了哪些分析的方法，提出了哪些解决问题的办法和思路，提纲挈领的记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179280" y="189000"/>
            <a:ext cx="8785440" cy="39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隶书"/>
                <a:ea typeface="隶书"/>
              </a:rPr>
              <a:t>演讲训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讲台前做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到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分钟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演讲，要求脱稿，严格按照课上老师讲的演讲要求进行演讲。演讲的内容可以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学习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比如：自己感悟的大学学习特点、学习过程、专业技能设计、本专业与自己的未来职业发展等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生活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比如：第一次独立生活的感悟、大学和中学生活的不同、如何看待节约、如何合理理财、你的业余爱好、你喜欢的城市等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亲情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比如：通过细节感悟亲情、爸妈对我的爱、祖父母对我的关爱、兄弟姐妹之间的真情等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友情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比如：大学的同学之情、记忆深刻的一份友情、感悟不同年龄阶段的同学之情等）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爱情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（比如：我看大学恋爱、我的爱情观等）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179280" y="189000"/>
            <a:ext cx="8713800" cy="588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隶书"/>
                <a:ea typeface="隶书"/>
              </a:rPr>
              <a:t>沟通概述演练内容：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 一句话接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真正的幸福是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真正的痛苦是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真正的爱情是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真正的生活是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e2c5"/>
                </a:solidFill>
                <a:latin typeface="隶书"/>
                <a:ea typeface="隶书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你眼中的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生活是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家庭是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个性是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财富是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美貌是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大学是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知识是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围绕这种形式，大家也想想，还有哪些方面的内容也可以说，自己准备一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250920" y="476280"/>
            <a:ext cx="86421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39640" y="836640"/>
            <a:ext cx="8280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再如：在记忆叙事型讲稿，一般都离不开事件发生的时间、地点、原因、结果、个人认识等要素，记忆时，只要提纲挈领地抓住这几个要素，就能快速、高效地记忆讲稿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默念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一般人的记忆特点，都是形象记忆能力强。默念时人的注意力集中，大脑思维积极活跃，眼、手、口（默念）等多方密切配合，记忆内容就能很好地巩固。在演讲记忆实践中，采用默念法的主要方式是边念边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324000" y="836640"/>
            <a:ext cx="8496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4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形象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形象法也称为画图法，即用画图画的方式以启发记忆。根据心理学研究，具体的形象具有熟悉性、情感性，容易引起注意和联想，同时也不易忘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5</a:t>
            </a: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、联想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联想是记忆不可缺少的因素，也是一个重要的记忆方法。联想法最适应记住“卡壳”的地方。其方法是：在练习和试讲时，把经常“卡壳”的地方作上标记，然后采用联想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395280" y="836640"/>
            <a:ext cx="835344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隶书"/>
                <a:ea typeface="隶书"/>
              </a:rPr>
              <a:t>（二）讲稿熟记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把一篇散文或诗歌，高声朗读一遍，然后试着背诵。如能记住，说明你的记忆力是优秀的；如果高声朗读两遍，再试着背诵，也能记住，说明你的记忆力是良好的；如果不仅能复诵出来。还能马上讲出这首诗或散文的主旨意境，那就更不简单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以你最熟悉的主题，自拟题目，写一篇演讲稿的提纲，然后用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15——20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分钟时间记住这个提纲，再按照提纲的内容依次讲述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、平时学习一些速记的方法，经常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395280" y="836640"/>
            <a:ext cx="8424720" cy="32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ff"/>
                </a:solidFill>
                <a:latin typeface="隶书"/>
                <a:ea typeface="隶书"/>
              </a:rPr>
              <a:t>二、声音技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（一）发声要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1</a:t>
            </a:r>
            <a:r>
              <a:rPr b="1" lang="zh-CN" sz="3200" spc="-1" strike="noStrike">
                <a:solidFill>
                  <a:srgbClr val="ff00ff"/>
                </a:solidFill>
                <a:latin typeface="隶书"/>
                <a:ea typeface="隶书"/>
              </a:rPr>
              <a:t>、强调关键词，弱化非关键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请你阅读下文，粉色字要重读，其他字要弱读，会有何效果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无论我做什么</a:t>
            </a: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事情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都获得了</a:t>
            </a: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成功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因为我</a:t>
            </a: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渴望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如此。对于上天赐予的绝佳</a:t>
            </a: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机遇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，我</a:t>
            </a:r>
            <a:r>
              <a:rPr b="1" lang="zh-CN" sz="3200" spc="-1" strike="noStrike">
                <a:solidFill>
                  <a:srgbClr val="ff33cc"/>
                </a:solidFill>
                <a:latin typeface="隶书"/>
                <a:ea typeface="隶书"/>
              </a:rPr>
              <a:t>绝不迟疑</a:t>
            </a:r>
            <a:r>
              <a:rPr b="1" lang="zh-CN" sz="3200" spc="-1" strike="noStrike">
                <a:solidFill>
                  <a:srgbClr val="000000"/>
                </a:solidFill>
                <a:latin typeface="隶书"/>
                <a:ea typeface="隶书"/>
              </a:rPr>
              <a:t>。   ——拿破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8T01:18:44Z</dcterms:created>
  <dc:creator>yinfengzhi</dc:creator>
  <dc:description/>
  <dc:language>en-US</dc:language>
  <cp:lastModifiedBy>MC SYSTEM</cp:lastModifiedBy>
  <dcterms:modified xsi:type="dcterms:W3CDTF">2009-11-08T04:23:07Z</dcterms:modified>
  <cp:revision>102</cp:revision>
  <dc:subject/>
  <dc:title>幻灯片 1</dc:title>
</cp:coreProperties>
</file>