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FBCA-52F7-4707-AC5F-2A6532F1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D98-3AC8-4358-928F-6BC4FD77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F4A-4118-4B2C-AE47-514970A2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E31-8EDE-4068-AD35-30489658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DEC7-0EBB-48A5-A89D-92CD96A3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FCC8-4EA6-49AD-BBD8-D33AAC65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CAC3-BA8F-4412-ABC6-E3F9E3C8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F138-D16B-44AF-AC6A-0C05629E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683-DC03-4754-A729-D2439A50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1D85-5EBF-48D0-BBEC-8D483ADC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463-F02F-4F5E-BC98-2C332FF3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1A4-6AB7-4AA0-85E1-89D640EB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D463-D9D0-4879-9C6E-94A4E4AF6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49360"/>
            <a:ext cx="9144000" cy="504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49360"/>
            <a:ext cx="9144000" cy="504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5654520"/>
            <a:ext cx="878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眼睛可以自由移动。变色龙可以把左眼和右眼分别转到不同的方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眼球上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条绳子一样的肌肉。只要脑部发出命令来拉动，就可以使眼睛转到不同的地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49360"/>
            <a:ext cx="9144000" cy="504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565452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眼睛会流泪。除了哭以外，随时都会分泌一点点眼泪，用了清洁眼睛。睫毛可以挡住沙或灰尘跑到眼睛里。眉毛有什么用呢？他妈可以防止额角上的汗流到眼睛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49360"/>
            <a:ext cx="9144000" cy="504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654520"/>
            <a:ext cx="878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两个红色的圆球，大小完全相同，可是上面的红球看起来比较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两条红线一样长吗？咦？蓝色的线看起来有点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49360"/>
            <a:ext cx="9144000" cy="504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565452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试试这些视觉小游戏吧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49360"/>
            <a:ext cx="9144000" cy="504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565452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看电视的时候不要让眼睛太累。房间里光线要充足。眼睛距离电视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，眼睛的高度要和画面的高度相同，在太亮或太暗的地方看书，眼睛都会很累。书本要离开眼睛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厘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41440"/>
            <a:ext cx="9144000" cy="504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565452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眼睛可以看见亮光，色彩和形象，还可以看书，看美丽的风景、图画，使我们觉得很快乐。我们还可以用望远镜来看很远的东西，或用显微镜来看平时看不见的小东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49360"/>
            <a:ext cx="9144000" cy="504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591192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眼睛真伟大！我们要好好地保护眼睛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49360"/>
            <a:ext cx="9144000" cy="504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916280"/>
            <a:ext cx="3456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mic Sans MS"/>
              </a:rPr>
              <a:t>For my dear Den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mic Sans MS"/>
              </a:rPr>
              <a:t>I Love Yo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mic Sans MS"/>
              </a:rPr>
              <a:t>Jenni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49360"/>
            <a:ext cx="9144000" cy="504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58770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类和一般动物一样，脸上都有两只眼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49360"/>
            <a:ext cx="9144000" cy="504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58770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把眼睛闭上，就什么都看不见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49360"/>
            <a:ext cx="9144000" cy="504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58770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是在黑暗的地方睁开眼睛，什么东西也看不清。猫在黑暗的地方能看 清东西。但是，如果完全黑暗的话，猫也什么都看不见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49360"/>
            <a:ext cx="9144000" cy="504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587700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要看得见东西，一定要有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49360"/>
            <a:ext cx="9144000" cy="504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566100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把眼睛靠近镜子看一看。在眼珠当中，有个最黑的部分，它叫做瞳孔，是光进入眼睛的地方。眼睛像个小球。用手在眼皮上轻轻地摸摸，就知道眼睛是球状的，所以又叫眼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49360"/>
            <a:ext cx="9144000" cy="504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566100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眼球的里面好像一个圆形的房间。外面的景色会投射在房间后面的墙壁上。这面墙壁叫做网膜。网膜将墙上的影像，经过视神经送到脑部。我们的脑部就会感觉看到东西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9360"/>
            <a:ext cx="9144000" cy="504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5589720"/>
            <a:ext cx="878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瞳孔的周围有虹膜。同样是人类，头发的颜色不同，虹膜的颜色也不同。射进瞳孔的光线，要大要小，就靠虹膜调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瞳孔在亮的地方会缩小，在暗的地方会变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1:06:34Z</dcterms:created>
  <dc:creator>Michael Ai</dc:creator>
  <dc:description/>
  <dc:language>en-US</dc:language>
  <cp:lastModifiedBy>smjennifer</cp:lastModifiedBy>
  <dcterms:modified xsi:type="dcterms:W3CDTF">2015-08-29T02:31:01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