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EBF19-53B0-4E40-AC4A-596FC918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14264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9ECC-6D82-4B3C-A329-79168010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736F4-D180-448B-B5C7-7C72D7AA8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6DDD3-3882-42BC-8370-45B386F92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9D1A2-1AD2-42C0-B0D4-05506C2ED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1142640"/>
            <a:ext cx="8229600" cy="3886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3ECAF-3657-4C50-9A47-E9680171E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4CE96-F206-4172-9BB4-702BB2A86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EC007-FE25-4B3D-A1E3-03CAEFC43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EE250-0634-4578-94C8-65B2FBD64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4DA7E-3519-4108-91E7-F364DD4A1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34BC9-9A6E-456A-95E3-3613C0A5A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142640"/>
            <a:ext cx="8229600" cy="3886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3BD8-9726-4134-BA00-B9171CE91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FAACC-C918-449D-B249-94297CE77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7B360-BC83-4094-A5EC-889245949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114264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DABDE-7191-47FC-A1CE-598BAAFCB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F49A2-F41B-4C23-B593-57B6352C7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14264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172680"/>
            <a:ext cx="264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042EC-30EB-4434-81D1-11FB5E949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362C2-34FD-4FE3-92A1-FE08250E5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C346-1A4E-450B-BB5A-A0ED68F6A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8979-64F2-4B4E-A696-672973C1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3936C-916F-4665-A697-CEC587AB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C466-60F0-4675-8EF1-F845F827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142640"/>
            <a:ext cx="401580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17268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6593-87E0-4674-9430-05C04207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142640"/>
            <a:ext cx="40158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172680"/>
            <a:ext cx="8229600" cy="1853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6A9C-611D-45A1-8DA3-8BE34C544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14264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B206-93B7-4A57-ACC4-345475522B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114264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8186-449E-44F2-B942-B4899420A3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itle 1"/>
          <p:cNvSpPr/>
          <p:nvPr/>
        </p:nvSpPr>
        <p:spPr>
          <a:xfrm>
            <a:off x="4343400" y="685800"/>
            <a:ext cx="4572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380880" y="1371600"/>
            <a:ext cx="838224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Lorem ipsum dolor sit amet, consectetuer adip iscing elit, sed diam no nu mmy nibh euismod tincidunt ut laoreet do lore magna aliquam er at volut pat. Ut wisi enim ad mi ni m venia m, quis nostrud exerci tatio n ullamco rper susc ip it lobor tis nisl ut aliquip ex ea commodo cons equ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1"/>
          <p:cNvSpPr>
            <a:spLocks noGrp="1"/>
          </p:cNvSpPr>
          <p:nvPr>
            <p:ph type="title"/>
          </p:nvPr>
        </p:nvSpPr>
        <p:spPr>
          <a:xfrm>
            <a:off x="380880" y="274680"/>
            <a:ext cx="83822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1981080" y="1934640"/>
            <a:ext cx="6858000" cy="4542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Lorem ipsum dolor sit amet, consectetuer adip iscing elit, sed diam no nu mmy nibh euismod tincidunt ut laoreet do lore m agna aliquam er at volut pat. Ut wisi enim ad mi ni m venia m , quis nostrud exerci tatio n ullamco rper susc ip it lobor tis ni 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PlaceHolder 1"/>
          <p:cNvSpPr>
            <a:spLocks noGrp="1"/>
          </p:cNvSpPr>
          <p:nvPr>
            <p:ph type="title"/>
          </p:nvPr>
        </p:nvSpPr>
        <p:spPr>
          <a:xfrm>
            <a:off x="1978200" y="380880"/>
            <a:ext cx="6860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17:41Z</dcterms:created>
  <dc:creator>user55</dc:creator>
  <dc:description/>
  <dc:language>en-US</dc:language>
  <cp:lastModifiedBy>微软用户</cp:lastModifiedBy>
  <dcterms:modified xsi:type="dcterms:W3CDTF">2014-09-18T14:52:53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2</vt:lpwstr>
  </property>
</Properties>
</file>