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32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EBB6-FD28-49BA-9B07-081960FB25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664F-7F3A-45BA-B030-F01C8A9E279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375A-40CF-45D5-8B25-D8583473F1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DD61-1D98-48F4-BB68-AB65649E4B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593C-6888-4D28-99CF-EFE75E8FDD7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5E5F-C8DC-49F1-BB93-992163EDEF3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9D3-6A5A-43A4-9048-6EA167B4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8598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826560" y="3977640"/>
            <a:ext cx="78598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C78-0AFC-4060-9A95-24382656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4240" y="162828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26560" y="397764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54240" y="397764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CEB-5194-487F-B682-B12F8916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253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84440" y="1628280"/>
            <a:ext cx="253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41960" y="1628280"/>
            <a:ext cx="253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826560" y="3977640"/>
            <a:ext cx="253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484440" y="3977640"/>
            <a:ext cx="253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141960" y="3977640"/>
            <a:ext cx="253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9B6-68CD-43D8-B9F9-935BA857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2522-07F0-4B15-A7FC-9660C384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62828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F67A-753C-43A7-9C06-AC4654E6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EDFE-3807-4F02-943B-DCB16300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3835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54240" y="1628280"/>
            <a:ext cx="3835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B6D0-3927-4036-82AE-A2D55C29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D884-28E5-4F93-82E6-3C4787F6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1A4B-E2D5-4834-A4E7-F0B16EB1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54240" y="1628280"/>
            <a:ext cx="3835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26560" y="397764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3A0F-68BF-4C14-9409-A39AF21C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826560" y="162828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94C-14A4-4202-8686-B5BA06C8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3835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54240" y="162828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854240" y="397764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5FC0-227B-4E37-BAF8-B044FD3E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54240" y="162828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26560" y="3977640"/>
            <a:ext cx="78598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0ED7-AC26-406E-BDD7-B936C70B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8598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26560" y="3977640"/>
            <a:ext cx="78598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F688-6955-4528-A1BF-2BA3E5BC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54240" y="162828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26560" y="397764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854240" y="397764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197C-C3DB-4B69-9AC4-B4EEE520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253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84440" y="1628280"/>
            <a:ext cx="253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41960" y="1628280"/>
            <a:ext cx="253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26560" y="3977640"/>
            <a:ext cx="253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484440" y="3977640"/>
            <a:ext cx="253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41960" y="3977640"/>
            <a:ext cx="253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3BA4-3382-44A2-937C-6DD481CF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033-EC4B-4D08-B84F-200A5F1D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3835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54240" y="1628280"/>
            <a:ext cx="3835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41C-32FC-4F4D-BA19-561193D8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1DD-A662-4BDE-AA85-07EC57F4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3A3-256B-4465-8F4B-55B6463B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54240" y="1628280"/>
            <a:ext cx="3835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26560" y="397764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80C-1D25-4ADB-B62F-7F8BB527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3835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54240" y="162828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54240" y="397764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B14-6546-4A07-B54A-2F7D3D20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4240" y="1628280"/>
            <a:ext cx="38354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826560" y="3977640"/>
            <a:ext cx="78598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415-D868-497E-8F01-8E2DFB2F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33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1"/>
          <p:cNvGrpSpPr/>
          <p:nvPr/>
        </p:nvGrpSpPr>
        <p:grpSpPr>
          <a:xfrm>
            <a:off x="250920" y="3213000"/>
            <a:ext cx="8713800" cy="3456000"/>
            <a:chOff x="250920" y="3213000"/>
            <a:chExt cx="8713800" cy="3456000"/>
          </a:xfrm>
        </p:grpSpPr>
        <p:sp>
          <p:nvSpPr>
            <p:cNvPr id="1" name="Rectangle 7"/>
            <p:cNvSpPr/>
            <p:nvPr/>
          </p:nvSpPr>
          <p:spPr>
            <a:xfrm>
              <a:off x="8748720" y="3213000"/>
              <a:ext cx="216000" cy="345600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7975440" y="3500280"/>
              <a:ext cx="216000" cy="316872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7202520" y="3789360"/>
              <a:ext cx="216000" cy="287964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6431040" y="4005360"/>
              <a:ext cx="216000" cy="266364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11"/>
            <p:cNvSpPr/>
            <p:nvPr/>
          </p:nvSpPr>
          <p:spPr>
            <a:xfrm>
              <a:off x="5657760" y="4294080"/>
              <a:ext cx="216000" cy="237492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12"/>
            <p:cNvSpPr/>
            <p:nvPr/>
          </p:nvSpPr>
          <p:spPr>
            <a:xfrm>
              <a:off x="4884840" y="4581360"/>
              <a:ext cx="215640" cy="208764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113360" y="4869000"/>
              <a:ext cx="215640" cy="180000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4"/>
            <p:cNvSpPr/>
            <p:nvPr/>
          </p:nvSpPr>
          <p:spPr>
            <a:xfrm>
              <a:off x="3340080" y="5157720"/>
              <a:ext cx="216000" cy="151128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5"/>
            <p:cNvSpPr/>
            <p:nvPr/>
          </p:nvSpPr>
          <p:spPr>
            <a:xfrm>
              <a:off x="2567160" y="5445000"/>
              <a:ext cx="215640" cy="122400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6"/>
            <p:cNvSpPr/>
            <p:nvPr/>
          </p:nvSpPr>
          <p:spPr>
            <a:xfrm>
              <a:off x="1795320" y="5734080"/>
              <a:ext cx="216000" cy="93492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250920" y="6308640"/>
              <a:ext cx="215640" cy="36036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8"/>
            <p:cNvSpPr/>
            <p:nvPr/>
          </p:nvSpPr>
          <p:spPr>
            <a:xfrm>
              <a:off x="1022400" y="6021360"/>
              <a:ext cx="216000" cy="64764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9"/>
            <p:cNvSpPr/>
            <p:nvPr/>
          </p:nvSpPr>
          <p:spPr>
            <a:xfrm flipH="1">
              <a:off x="8890920" y="5589720"/>
              <a:ext cx="73080" cy="10792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20"/>
            <p:cNvSpPr/>
            <p:nvPr/>
          </p:nvSpPr>
          <p:spPr>
            <a:xfrm flipH="1">
              <a:off x="8680320" y="5678640"/>
              <a:ext cx="69840" cy="990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21"/>
            <p:cNvSpPr/>
            <p:nvPr/>
          </p:nvSpPr>
          <p:spPr>
            <a:xfrm flipH="1">
              <a:off x="8469360" y="5767560"/>
              <a:ext cx="69840" cy="9014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22"/>
            <p:cNvSpPr/>
            <p:nvPr/>
          </p:nvSpPr>
          <p:spPr>
            <a:xfrm flipH="1">
              <a:off x="8259840" y="5835600"/>
              <a:ext cx="69840" cy="833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23"/>
            <p:cNvSpPr/>
            <p:nvPr/>
          </p:nvSpPr>
          <p:spPr>
            <a:xfrm flipH="1">
              <a:off x="8048520" y="5925960"/>
              <a:ext cx="69840" cy="743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4"/>
            <p:cNvSpPr/>
            <p:nvPr/>
          </p:nvSpPr>
          <p:spPr>
            <a:xfrm flipH="1">
              <a:off x="7839000" y="6016680"/>
              <a:ext cx="69840" cy="652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5"/>
            <p:cNvSpPr/>
            <p:nvPr/>
          </p:nvSpPr>
          <p:spPr>
            <a:xfrm flipH="1">
              <a:off x="7628040" y="6105600"/>
              <a:ext cx="69840" cy="563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6"/>
            <p:cNvSpPr/>
            <p:nvPr/>
          </p:nvSpPr>
          <p:spPr>
            <a:xfrm flipH="1">
              <a:off x="7418520" y="6195960"/>
              <a:ext cx="69840" cy="473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7"/>
            <p:cNvSpPr/>
            <p:nvPr/>
          </p:nvSpPr>
          <p:spPr>
            <a:xfrm flipH="1">
              <a:off x="7207200" y="6286680"/>
              <a:ext cx="69840" cy="382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8"/>
            <p:cNvSpPr/>
            <p:nvPr/>
          </p:nvSpPr>
          <p:spPr>
            <a:xfrm flipH="1">
              <a:off x="6997680" y="6377040"/>
              <a:ext cx="69840" cy="2919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9"/>
            <p:cNvSpPr/>
            <p:nvPr/>
          </p:nvSpPr>
          <p:spPr>
            <a:xfrm flipH="1">
              <a:off x="6576120" y="6556320"/>
              <a:ext cx="70200" cy="112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30"/>
            <p:cNvSpPr/>
            <p:nvPr/>
          </p:nvSpPr>
          <p:spPr>
            <a:xfrm flipH="1">
              <a:off x="6786720" y="6465960"/>
              <a:ext cx="69840" cy="203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32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826560" y="162828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5F60-9DD8-4E69-9E6D-8E74756F3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Text Box 32"/>
          <p:cNvSpPr/>
          <p:nvPr/>
        </p:nvSpPr>
        <p:spPr>
          <a:xfrm>
            <a:off x="619884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2f329"/>
                </a:solidFill>
                <a:latin typeface="Arial"/>
              </a:rPr>
              <a:t>your company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33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250920" y="3213000"/>
            <a:ext cx="8713800" cy="3456000"/>
            <a:chOff x="250920" y="3213000"/>
            <a:chExt cx="8713800" cy="3456000"/>
          </a:xfrm>
        </p:grpSpPr>
        <p:sp>
          <p:nvSpPr>
            <p:cNvPr id="68" name="Rectangle 3"/>
            <p:cNvSpPr/>
            <p:nvPr/>
          </p:nvSpPr>
          <p:spPr>
            <a:xfrm>
              <a:off x="8748720" y="3213000"/>
              <a:ext cx="216000" cy="345600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4"/>
            <p:cNvSpPr/>
            <p:nvPr/>
          </p:nvSpPr>
          <p:spPr>
            <a:xfrm>
              <a:off x="7975440" y="3500280"/>
              <a:ext cx="216000" cy="316872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5"/>
            <p:cNvSpPr/>
            <p:nvPr/>
          </p:nvSpPr>
          <p:spPr>
            <a:xfrm>
              <a:off x="7202520" y="3789360"/>
              <a:ext cx="216000" cy="287964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6431040" y="4005360"/>
              <a:ext cx="216000" cy="266364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5657760" y="4294080"/>
              <a:ext cx="216000" cy="237492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8"/>
            <p:cNvSpPr/>
            <p:nvPr/>
          </p:nvSpPr>
          <p:spPr>
            <a:xfrm>
              <a:off x="4884840" y="4581360"/>
              <a:ext cx="215640" cy="208764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9"/>
            <p:cNvSpPr/>
            <p:nvPr/>
          </p:nvSpPr>
          <p:spPr>
            <a:xfrm>
              <a:off x="4113360" y="4869000"/>
              <a:ext cx="215640" cy="180000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0"/>
            <p:cNvSpPr/>
            <p:nvPr/>
          </p:nvSpPr>
          <p:spPr>
            <a:xfrm>
              <a:off x="3340080" y="5157720"/>
              <a:ext cx="216000" cy="151128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1"/>
            <p:cNvSpPr/>
            <p:nvPr/>
          </p:nvSpPr>
          <p:spPr>
            <a:xfrm>
              <a:off x="2567160" y="5445000"/>
              <a:ext cx="215640" cy="122400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2"/>
            <p:cNvSpPr/>
            <p:nvPr/>
          </p:nvSpPr>
          <p:spPr>
            <a:xfrm>
              <a:off x="1795320" y="5734080"/>
              <a:ext cx="216000" cy="93492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3"/>
            <p:cNvSpPr/>
            <p:nvPr/>
          </p:nvSpPr>
          <p:spPr>
            <a:xfrm>
              <a:off x="250920" y="6308640"/>
              <a:ext cx="215640" cy="36036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4"/>
            <p:cNvSpPr/>
            <p:nvPr/>
          </p:nvSpPr>
          <p:spPr>
            <a:xfrm>
              <a:off x="1022400" y="6021360"/>
              <a:ext cx="216000" cy="647640"/>
            </a:xfrm>
            <a:prstGeom prst="rect">
              <a:avLst/>
            </a:prstGeom>
            <a:solidFill>
              <a:srgbClr val="3d4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5"/>
            <p:cNvSpPr/>
            <p:nvPr/>
          </p:nvSpPr>
          <p:spPr>
            <a:xfrm flipH="1">
              <a:off x="8890920" y="5589720"/>
              <a:ext cx="73080" cy="10792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16"/>
            <p:cNvSpPr/>
            <p:nvPr/>
          </p:nvSpPr>
          <p:spPr>
            <a:xfrm flipH="1">
              <a:off x="8680320" y="5678640"/>
              <a:ext cx="69840" cy="990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17"/>
            <p:cNvSpPr/>
            <p:nvPr/>
          </p:nvSpPr>
          <p:spPr>
            <a:xfrm flipH="1">
              <a:off x="8469360" y="5767560"/>
              <a:ext cx="69840" cy="9014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18"/>
            <p:cNvSpPr/>
            <p:nvPr/>
          </p:nvSpPr>
          <p:spPr>
            <a:xfrm flipH="1">
              <a:off x="8259840" y="5835600"/>
              <a:ext cx="69840" cy="833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9"/>
            <p:cNvSpPr/>
            <p:nvPr/>
          </p:nvSpPr>
          <p:spPr>
            <a:xfrm flipH="1">
              <a:off x="8048520" y="5925960"/>
              <a:ext cx="69840" cy="743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20"/>
            <p:cNvSpPr/>
            <p:nvPr/>
          </p:nvSpPr>
          <p:spPr>
            <a:xfrm flipH="1">
              <a:off x="7839000" y="6016680"/>
              <a:ext cx="69840" cy="652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21"/>
            <p:cNvSpPr/>
            <p:nvPr/>
          </p:nvSpPr>
          <p:spPr>
            <a:xfrm flipH="1">
              <a:off x="7628040" y="6105600"/>
              <a:ext cx="69840" cy="563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22"/>
            <p:cNvSpPr/>
            <p:nvPr/>
          </p:nvSpPr>
          <p:spPr>
            <a:xfrm flipH="1">
              <a:off x="7418520" y="6195960"/>
              <a:ext cx="69840" cy="473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23"/>
            <p:cNvSpPr/>
            <p:nvPr/>
          </p:nvSpPr>
          <p:spPr>
            <a:xfrm flipH="1">
              <a:off x="7207200" y="6286680"/>
              <a:ext cx="69840" cy="382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Rectangle 24"/>
            <p:cNvSpPr/>
            <p:nvPr/>
          </p:nvSpPr>
          <p:spPr>
            <a:xfrm flipH="1">
              <a:off x="6997680" y="6377040"/>
              <a:ext cx="69840" cy="2919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25"/>
            <p:cNvSpPr/>
            <p:nvPr/>
          </p:nvSpPr>
          <p:spPr>
            <a:xfrm flipH="1">
              <a:off x="6576120" y="6556320"/>
              <a:ext cx="70200" cy="112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26"/>
            <p:cNvSpPr/>
            <p:nvPr/>
          </p:nvSpPr>
          <p:spPr>
            <a:xfrm flipH="1">
              <a:off x="6786720" y="6465960"/>
              <a:ext cx="69840" cy="203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Text Box 32"/>
          <p:cNvSpPr/>
          <p:nvPr/>
        </p:nvSpPr>
        <p:spPr>
          <a:xfrm>
            <a:off x="619884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2f329"/>
                </a:solidFill>
                <a:latin typeface="Arial"/>
              </a:rPr>
              <a:t>your company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3" descr="silhouetteinv"/>
          <p:cNvPicPr/>
          <p:nvPr/>
        </p:nvPicPr>
        <p:blipFill>
          <a:blip r:embed="rId2"/>
          <a:srcRect l="0" t="5254" r="0" b="8889"/>
          <a:stretch/>
        </p:blipFill>
        <p:spPr>
          <a:xfrm>
            <a:off x="1908000" y="2421000"/>
            <a:ext cx="6248520" cy="3529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32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26560" y="162828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2D05-31F7-45B2-9E4B-44F9605EE39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50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2f329"/>
                </a:solidFill>
                <a:latin typeface="Arial"/>
              </a:rPr>
              <a:t>Growing Business</a:t>
            </a: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2f329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2f329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1816200" y="2068560"/>
          <a:ext cx="6811920" cy="39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2068560"/>
                    <a:ext cx="681192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2f329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851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snowdrop"/>
          <p:cNvPicPr/>
          <p:nvPr/>
        </p:nvPicPr>
        <p:blipFill>
          <a:blip r:embed="rId1"/>
          <a:stretch/>
        </p:blipFill>
        <p:spPr>
          <a:xfrm>
            <a:off x="6062760" y="1628640"/>
            <a:ext cx="2093760" cy="3529080"/>
          </a:xfrm>
          <a:prstGeom prst="rect">
            <a:avLst/>
          </a:prstGeom>
          <a:ln w="38160">
            <a:solidFill>
              <a:srgbClr val="f2f3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2f329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f2f3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857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bfc0e7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f3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8f91d4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160960" y="1978200"/>
          <a:ext cx="3467160" cy="193500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</a:tblGrid>
              <a:tr h="96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Rectangle 15"/>
          <p:cNvSpPr/>
          <p:nvPr/>
        </p:nvSpPr>
        <p:spPr>
          <a:xfrm>
            <a:off x="1403280" y="4437000"/>
            <a:ext cx="2232000" cy="1368360"/>
          </a:xfrm>
          <a:prstGeom prst="rect">
            <a:avLst/>
          </a:prstGeom>
          <a:solidFill>
            <a:srgbClr val="5f62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3944880" y="4437000"/>
            <a:ext cx="2232000" cy="1368360"/>
          </a:xfrm>
          <a:prstGeom prst="rect">
            <a:avLst/>
          </a:prstGeom>
          <a:solidFill>
            <a:srgbClr val="5f62c2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7"/>
          <p:cNvSpPr/>
          <p:nvPr/>
        </p:nvSpPr>
        <p:spPr>
          <a:xfrm>
            <a:off x="4067280" y="2421000"/>
            <a:ext cx="57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5:21:08Z</dcterms:created>
  <dc:creator>Presentation Magazine</dc:creator>
  <dc:description/>
  <dc:language>en-US</dc:language>
  <cp:lastModifiedBy>Sky123.Org</cp:lastModifiedBy>
  <dcterms:modified xsi:type="dcterms:W3CDTF">2015-07-20T06:58:32Z</dcterms:modified>
  <cp:revision>6</cp:revision>
  <dc:subject/>
  <dc:title>Growing Business Template</dc:title>
</cp:coreProperties>
</file>