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D92-1B59-42B4-A1C1-A4802383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12A-2EE8-4988-BB34-344CD25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65C-3D3E-496F-A1AC-3B014D60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47F-9FAB-4333-BD7B-B2C7A353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D8A-5FC4-4FBE-9E6C-D5F693F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125-2927-4E6A-92DD-C6E4352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EB7-B812-4F34-A0D5-70920CA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DCE-BFAA-4BC7-8726-5B2487E3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743-AB98-482A-90E9-5F0107E0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090-58F4-46D0-9E7A-0D0A4D9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FAC-5EF9-446D-84E5-0E8D29B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4DB-B19B-4FAE-B84E-439A853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0B1-5FC2-430C-B3E6-33D62CFE38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11.xml"/><Relationship Id="rId29" Type="http://schemas.openxmlformats.org/officeDocument/2006/relationships/hyperlink" Target="file:///&#22812;&#20070;&#25152;&#35265;1.amr" TargetMode="External"/><Relationship Id="rId30" Type="http://schemas.openxmlformats.org/officeDocument/2006/relationships/slide" Target="slide4.xm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5.xml"/><Relationship Id="rId24" Type="http://schemas.openxmlformats.org/officeDocument/2006/relationships/slide" Target="slide15.xml"/><Relationship Id="rId25" Type="http://schemas.openxmlformats.org/officeDocument/2006/relationships/slide" Target="slide15.xml"/><Relationship Id="rId26" Type="http://schemas.openxmlformats.org/officeDocument/2006/relationships/slide" Target="slide15.xml"/><Relationship Id="rId27" Type="http://schemas.openxmlformats.org/officeDocument/2006/relationships/slide" Target="slide15.xml"/><Relationship Id="rId28" Type="http://schemas.openxmlformats.org/officeDocument/2006/relationships/slide" Target="slide15.xml"/><Relationship Id="rId29" Type="http://schemas.openxmlformats.org/officeDocument/2006/relationships/slide" Target="slide15.xml"/><Relationship Id="rId30" Type="http://schemas.openxmlformats.org/officeDocument/2006/relationships/slide" Target="slide15.xml"/><Relationship Id="rId31" Type="http://schemas.openxmlformats.org/officeDocument/2006/relationships/slide" Target="slide15.xml"/><Relationship Id="rId32" Type="http://schemas.openxmlformats.org/officeDocument/2006/relationships/image" Target="../media/image6.gif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838080"/>
            <a:ext cx="678204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969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三年级语文第九课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809880" y="2057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古诗两首</a:t>
            </a:r>
            <a:endParaRPr b="1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Text Box 4">
            <a:hlinkClick r:id="rId2" action="ppaction://hlinksldjump"/>
          </p:cNvPr>
          <p:cNvSpPr/>
          <p:nvPr/>
        </p:nvSpPr>
        <p:spPr>
          <a:xfrm>
            <a:off x="4956840" y="3158280"/>
            <a:ext cx="485280" cy="1478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夜书所见</a:t>
            </a:r>
            <a:endParaRPr b="1" lang="en-US" sz="20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4" name="Text Box 5">
            <a:hlinkClick r:id="rId3" action="ppaction://hlinksldjump"/>
          </p:cNvPr>
          <p:cNvSpPr/>
          <p:nvPr/>
        </p:nvSpPr>
        <p:spPr>
          <a:xfrm>
            <a:off x="3813480" y="2895480"/>
            <a:ext cx="790200" cy="2401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</a:t>
            </a:r>
            <a:endParaRPr b="1" lang="en-US" sz="20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86120" y="5857920"/>
            <a:ext cx="47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宋家沟小学：杨艳飞制作</a:t>
            </a:r>
            <a:endParaRPr b="1" lang="en-US" sz="3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957400" y="954000"/>
            <a:ext cx="383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萧萧的秋风吹动梧桐树叶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送来阵阵寒意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萧萧：风声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客游在外的诗人不禁地想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起自己的家乡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7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719440" y="1447920"/>
            <a:ext cx="4447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他忽然看到远处篱笆下的灯火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料想是孩子们在捉蟋蟀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篱落：篱笆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挑：捉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织：俗称蟋蟀，有的地方叫蛐蛐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4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6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282200" y="1676520"/>
            <a:ext cx="66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九月九日：即重阳节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古人有在重阳节登高、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佩带茱萸、饮菊花酒的习俗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6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76520" y="344520"/>
            <a:ext cx="475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王维：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写诗的背景，十七岁的他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长安谋取功名，恰逢重阳佳节、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者孤身漂泊于繁华热闹的帝都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倍感孤单，非常思念家乡的亲人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38080" y="457200"/>
            <a:ext cx="9677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“一个人客居异乡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次遇到重阳佳节就加倍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思念家乡的亲人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独：单独；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异：别的，其他的；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逢：遇到，碰到；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倍：加倍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5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7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086000" y="1782720"/>
            <a:ext cx="173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想远方的兄弟们一定登上了高处，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那里插满了茱萸，只是少一人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遥：远；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茱萸：一种有浓烈香气的植物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36200" y="831960"/>
            <a:ext cx="42634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义 务 教 育 课 程 标 准 实 验 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程</a:t>
            </a:r>
            <a:endParaRPr b="1" lang="en-US" sz="32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语    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年级   上册    教学参考</a:t>
            </a:r>
            <a:endParaRPr b="1" lang="en-US" sz="20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宋家沟电脑出版社出版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http://www.songjiagou.com.cn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教实验版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86" name="Picture 3" descr="J0302953"/>
          <p:cNvPicPr/>
          <p:nvPr/>
        </p:nvPicPr>
        <p:blipFill>
          <a:blip r:embed="rId1"/>
          <a:stretch/>
        </p:blipFill>
        <p:spPr>
          <a:xfrm>
            <a:off x="2514600" y="4114800"/>
            <a:ext cx="38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图片2"/>
          <p:cNvPicPr/>
          <p:nvPr/>
        </p:nvPicPr>
        <p:blipFill>
          <a:blip r:embed="rId2"/>
          <a:stretch/>
        </p:blipFill>
        <p:spPr>
          <a:xfrm>
            <a:off x="324000" y="5734080"/>
            <a:ext cx="106668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438280" y="1143000"/>
            <a:ext cx="48769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</a:rPr>
              <a:t>          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隶书"/>
                <a:hlinkClick r:id="rId3" action="ppaction://hlinksldjump"/>
              </a:rPr>
              <a:t>夜书所见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            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4" action="ppaction://hlinksldjump"/>
              </a:rPr>
              <a:t>叶绍翁 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5" action="ppaction://hlinksldjump"/>
              </a:rPr>
              <a:t>      萧萧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6" action="ppaction://hlinksldjump"/>
              </a:rPr>
              <a:t>梧叶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7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8" action="ppaction://hlinksldjump"/>
              </a:rPr>
              <a:t>送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9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0" action="ppaction://hlinksldjump"/>
              </a:rPr>
              <a:t>寒声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1" action="ppaction://hlinksldjump"/>
              </a:rPr>
              <a:t>      江上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2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3" action="ppaction://hlinksldjump"/>
              </a:rPr>
              <a:t>秋风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4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5" action="ppaction://hlinksldjump"/>
              </a:rPr>
              <a:t>动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6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7" action="ppaction://hlinksldjump"/>
              </a:rPr>
              <a:t>客情。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8" action="ppaction://hlinksldjump"/>
              </a:rPr>
              <a:t>      知有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9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0" action="ppaction://hlinksldjump"/>
              </a:rPr>
              <a:t>儿童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1" action="ppaction://hlinksldjump"/>
              </a:rPr>
              <a:t>挑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2" action="ppaction://hlinksldjump"/>
              </a:rPr>
              <a:t>促织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3" action="ppaction://hlinksldjump"/>
              </a:rPr>
              <a:t>      夜深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4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5" action="ppaction://hlinksldjump"/>
              </a:rPr>
              <a:t>篱落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6" action="ppaction://hlinksldjump"/>
              </a:rPr>
              <a:t>一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7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8" action="ppaction://hlinksldjump"/>
              </a:rPr>
              <a:t>灯明。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9"/>
              </a:rPr>
              <a:t>1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30" action="ppaction://hlinksldjump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8" name="plant"/>
          <p:cNvSpPr/>
          <p:nvPr/>
        </p:nvSpPr>
        <p:spPr>
          <a:xfrm>
            <a:off x="6934320" y="380880"/>
            <a:ext cx="1809720" cy="180972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701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0" name="plant"/>
          <p:cNvSpPr/>
          <p:nvPr/>
        </p:nvSpPr>
        <p:spPr>
          <a:xfrm>
            <a:off x="6934320" y="380880"/>
            <a:ext cx="1809720" cy="180972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62320" y="1219320"/>
            <a:ext cx="5105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  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九月九日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忆山东兄弟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       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4" action="ppaction://hlinksldjump"/>
              </a:rPr>
              <a:t>王  维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  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5" action="ppaction://hlinksldjump"/>
              </a:rPr>
              <a:t>独在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6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7" action="ppaction://hlinksldjump"/>
              </a:rPr>
              <a:t>异乡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8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9" action="ppaction://hlinksldjump"/>
              </a:rPr>
              <a:t>为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0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1" action="ppaction://hlinksldjump"/>
              </a:rPr>
              <a:t>异客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2" action="ppaction://hlinksldjump"/>
              </a:rPr>
              <a:t>      每逢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3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4" action="ppaction://hlinksldjump"/>
              </a:rPr>
              <a:t>佳节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5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6" action="ppaction://hlinksldjump"/>
              </a:rPr>
              <a:t>倍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17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8" action="ppaction://hlinksldjump"/>
              </a:rPr>
              <a:t>思亲。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  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19" action="ppaction://hlinksldjump"/>
              </a:rPr>
              <a:t>遥知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0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1" action="ppaction://hlinksldjump"/>
              </a:rPr>
              <a:t>兄弟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2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3" action="ppaction://hlinksldjump"/>
              </a:rPr>
              <a:t>登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4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5" action="ppaction://hlinksldjump"/>
              </a:rPr>
              <a:t>高处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6" action="ppaction://hlinksldjump"/>
              </a:rPr>
              <a:t>      遍插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7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28" action="ppaction://hlinksldjump"/>
              </a:rPr>
              <a:t>茱萸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29" action="ppaction://hlinksldjump"/>
              </a:rPr>
              <a:t>\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隶书"/>
                <a:hlinkClick r:id="rId30" action="ppaction://hlinksldjump"/>
              </a:rPr>
              <a:t>少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隶书"/>
                <a:hlinkClick r:id="rId31" action="ppaction://hlinksldjump"/>
              </a:rPr>
              <a:t>\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一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52" name="Picture 5" descr="图片1"/>
          <p:cNvPicPr/>
          <p:nvPr/>
        </p:nvPicPr>
        <p:blipFill>
          <a:blip r:embed="rId32"/>
          <a:stretch/>
        </p:blipFill>
        <p:spPr>
          <a:xfrm>
            <a:off x="324000" y="5445000"/>
            <a:ext cx="1066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6400" y="299520"/>
            <a:ext cx="54612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夜 书 所 见 板 书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600200" y="228600"/>
            <a:ext cx="641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夜书所见</a:t>
            </a: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梧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寒声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郁闷、孤独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秋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客情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儿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促织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亲切之感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篱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灯明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65960" y="4495680"/>
            <a:ext cx="59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业设计：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结合诗句，写出下列词语的意思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萧萧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促织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挑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篱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用自己的话，写出下面诗句的意思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有儿童挑促织，夜深篱落一灯明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默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书所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6" name="Line 5"/>
          <p:cNvSpPr/>
          <p:nvPr/>
        </p:nvSpPr>
        <p:spPr>
          <a:xfrm>
            <a:off x="5867280" y="1143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867280" y="1371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86728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5867280" y="2819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133720" y="3886200"/>
            <a:ext cx="1904760" cy="838080"/>
          </a:xfrm>
          <a:prstGeom prst="wedgeEllipseCallout">
            <a:avLst>
              <a:gd name="adj1" fmla="val -49750"/>
              <a:gd name="adj2" fmla="val 51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同学们要细心哦！</a:t>
            </a:r>
            <a:endParaRPr b="1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61" name="Picture 10" descr="图片1"/>
          <p:cNvPicPr/>
          <p:nvPr/>
        </p:nvPicPr>
        <p:blipFill>
          <a:blip r:embed="rId2"/>
          <a:stretch/>
        </p:blipFill>
        <p:spPr>
          <a:xfrm>
            <a:off x="6588000" y="3933720"/>
            <a:ext cx="3087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28800" y="685800"/>
            <a:ext cx="588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九月九日忆山东兄弟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孤寂：       异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异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思亲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乡怀亲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象：       兄弟登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遍插茱萸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59880" y="214560"/>
            <a:ext cx="45468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板书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424600" y="3505320"/>
            <a:ext cx="390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业设计：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连一连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月初一             重阳节             吃元宵、闹花灯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五月初五             中秋节             贴对联、拜年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八月十五             元宵节             吃月饼、赏月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月十五             端午节             插茱萸、登高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九月九日             春节                 吃粽子、赛龙舟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收集与秋天有关的诗句，背一背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书法作品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在异乡为异客，每逢佳节倍思亲”。成为千古名句。请以它为内容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一幅书法作品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5" name="Line 5"/>
          <p:cNvSpPr/>
          <p:nvPr/>
        </p:nvSpPr>
        <p:spPr>
          <a:xfrm>
            <a:off x="20574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057400" y="419112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335268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057400" y="4495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9" name="Line 9"/>
          <p:cNvSpPr/>
          <p:nvPr/>
        </p:nvSpPr>
        <p:spPr>
          <a:xfrm>
            <a:off x="3581280" y="5029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6400800" y="1752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6400800" y="22096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248520" y="3657600"/>
            <a:ext cx="1523880" cy="838080"/>
          </a:xfrm>
          <a:prstGeom prst="cloudCallout">
            <a:avLst>
              <a:gd name="adj1" fmla="val -49685"/>
              <a:gd name="adj2" fmla="val 5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增长一下见识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1" lang="en-US" sz="16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-195840" y="457200"/>
            <a:ext cx="816336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秋          月</a:t>
            </a:r>
            <a:endParaRPr b="1" lang="en-US" sz="4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程颢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 溪 流 过 碧 山 头，</a:t>
            </a: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 水 澄 鲜 一 色 秋。</a:t>
            </a: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隔 断 红 尘 三 十 里，</a:t>
            </a: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白 云 红 叶 两 悠 悠。</a:t>
            </a: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4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3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566120" y="8683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408920" y="380880"/>
            <a:ext cx="4142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独在异乡为异客</a:t>
            </a:r>
            <a:endParaRPr b="1" lang="en-US" sz="6000" spc="-1" strike="noStrike">
              <a:solidFill>
                <a:srgbClr val="000000"/>
              </a:solidFill>
              <a:latin typeface="隶书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逢佳节倍思亲</a:t>
            </a:r>
            <a:endParaRPr b="1" lang="en-US" sz="6000" spc="-1" strike="noStrike">
              <a:solidFill>
                <a:srgbClr val="000000"/>
              </a:solidFill>
              <a:latin typeface="隶书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飛书于零九年教师节</a:t>
            </a:r>
            <a:endParaRPr b="1" lang="en-US" sz="20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2280" y="1905120"/>
            <a:ext cx="5410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独在异乡为异客</a:t>
            </a:r>
            <a:endParaRPr b="1" lang="en-US" sz="54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每逢佳节倍思亲</a:t>
            </a:r>
            <a:endParaRPr b="1" lang="en-US" sz="5400" spc="-1" strike="noStrike">
              <a:solidFill>
                <a:srgbClr val="000000"/>
              </a:solidFill>
              <a:latin typeface="隶书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书于零九年教师节</a:t>
            </a: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1143000"/>
            <a:ext cx="855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叶绍翁：南宋诗人，他是江湖派诗人，诗以七言绝句最佳，写景抒情，字句精丽，长于白描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的写江南水乡景色，颇具风味；有的写田家的生活片段，平易涵蓄，词淡意远，耐人寻味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游园不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最为著名，历来为人们所传诵。</a:t>
            </a: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1143000"/>
            <a:ext cx="7239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夜书所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写的客游在外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秋风落叶，感到孤独郁闷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远处 的灯火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料想是小孩在捉蟋蟀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禁回忆起自己的故乡和童年的生活，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那种郁闷之情又被一种亲切之感所代替。</a:t>
            </a:r>
            <a:endParaRPr b="1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1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4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7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0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9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2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2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8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4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5:38:27Z</dcterms:created>
  <dc:creator/>
  <dc:description/>
  <dc:language>en-US</dc:language>
  <cp:lastModifiedBy>USER</cp:lastModifiedBy>
  <dcterms:modified xsi:type="dcterms:W3CDTF">2010-07-23T02:38:1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