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005-7817-4520-AD77-CFC1497C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4A0-ED48-48CE-BDC1-4C15BBDB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8C0-19C2-4173-B1CA-4BB306D4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136-1547-4861-A6A9-EEF5FAC1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2FC-95BA-4769-96B2-1AA6822D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B86-4322-4078-A5E5-EAFFB751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D57-955A-46F9-8748-F7C4E83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BC2-4DD9-4AC5-B820-B575D47A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BFE-862A-4E31-873E-912DC473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F5C-BB91-4C0B-B6BE-DDDCBCB9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705-D915-4245-B4CB-36A8AB75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29F-69CF-49EC-A17F-FE275BE6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7F5E-6CF2-49A8-B539-9A96498C65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5707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499080" y="714240"/>
            <a:ext cx="13068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7281360" y="785880"/>
            <a:ext cx="180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4997880" y="3773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33548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6640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泪滴形 10"/>
          <p:cNvSpPr/>
          <p:nvPr/>
        </p:nvSpPr>
        <p:spPr>
          <a:xfrm rot="8161800">
            <a:off x="1626480" y="2139480"/>
            <a:ext cx="1305000" cy="1305000"/>
          </a:xfrm>
          <a:custGeom>
            <a:avLst/>
            <a:gdLst>
              <a:gd name="textAreaLeft" fmla="*/ 191160 w 1305000"/>
              <a:gd name="textAreaRight" fmla="*/ 1113840 w 13050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4925" h="1304925">
                <a:moveTo>
                  <a:pt x="0" y="652463"/>
                </a:moveTo>
                <a:lnTo>
                  <a:pt x="0" y="652463"/>
                </a:lnTo>
                <a:arcTo wR="652463" hR="652463" stAng="-10799995" swAng="5400000"/>
                <a:lnTo>
                  <a:pt x="978693" y="0"/>
                </a:lnTo>
                <a:lnTo>
                  <a:pt x="1304925" y="0"/>
                </a:lnTo>
                <a:lnTo>
                  <a:pt x="1304925" y="489347"/>
                </a:lnTo>
                <a:arcTo wR="0" hR="163116" stAng="0" swAng="0"/>
                <a:lnTo>
                  <a:pt x="1209374" y="1209375"/>
                </a:lnTo>
                <a:arcTo wR="-326232" hR="326232" stAng="2700000" swAng="10800000"/>
                <a:close/>
              </a:path>
            </a:pathLst>
          </a:cu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泪滴形 11"/>
          <p:cNvSpPr/>
          <p:nvPr/>
        </p:nvSpPr>
        <p:spPr>
          <a:xfrm rot="8161800">
            <a:off x="3219120" y="213912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8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3" y="0"/>
                </a:lnTo>
                <a:lnTo>
                  <a:pt x="1303338" y="0"/>
                </a:lnTo>
                <a:lnTo>
                  <a:pt x="1303338" y="489347"/>
                </a:lnTo>
                <a:arcTo wR="0" hR="163116" stAng="0" swAng="0"/>
                <a:lnTo>
                  <a:pt x="1207903" y="1209375"/>
                </a:lnTo>
                <a:arcTo wR="-325835" hR="326232" stAng="2702093" swAng="10800000"/>
                <a:close/>
              </a:path>
            </a:pathLst>
          </a:cu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泪滴形 12"/>
          <p:cNvSpPr/>
          <p:nvPr/>
        </p:nvSpPr>
        <p:spPr>
          <a:xfrm rot="8161800">
            <a:off x="4792320" y="213912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7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2" y="0"/>
                </a:lnTo>
                <a:lnTo>
                  <a:pt x="1303337" y="0"/>
                </a:lnTo>
                <a:lnTo>
                  <a:pt x="1303337" y="489347"/>
                </a:lnTo>
                <a:arcTo wR="0" hR="163116" stAng="0" swAng="0"/>
                <a:lnTo>
                  <a:pt x="1207902" y="1209375"/>
                </a:lnTo>
                <a:arcTo wR="-325835" hR="326232" stAng="2702093" swAng="10800000"/>
                <a:close/>
              </a:path>
            </a:pathLst>
          </a:cu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泪滴形 13"/>
          <p:cNvSpPr/>
          <p:nvPr/>
        </p:nvSpPr>
        <p:spPr>
          <a:xfrm rot="8161800">
            <a:off x="6311520" y="2139120"/>
            <a:ext cx="1303200" cy="1305000"/>
          </a:xfrm>
          <a:custGeom>
            <a:avLst/>
            <a:gdLst>
              <a:gd name="textAreaLeft" fmla="*/ 190800 w 1303200"/>
              <a:gd name="textAreaRight" fmla="*/ 1112400 w 1303200"/>
              <a:gd name="textAreaTop" fmla="*/ 191160 h 1305000"/>
              <a:gd name="textAreaBottom" fmla="*/ 1113840 h 1305000"/>
            </a:gdLst>
            <a:ahLst/>
            <a:rect l="textAreaLeft" t="textAreaTop" r="textAreaRight" b="textAreaBottom"/>
            <a:pathLst>
              <a:path w="1303338" h="1304925">
                <a:moveTo>
                  <a:pt x="0" y="652463"/>
                </a:moveTo>
                <a:lnTo>
                  <a:pt x="0" y="652463"/>
                </a:lnTo>
                <a:arcTo wR="651669" hR="652463" stAng="-10799995" swAng="5400000"/>
                <a:lnTo>
                  <a:pt x="977503" y="0"/>
                </a:lnTo>
                <a:lnTo>
                  <a:pt x="1303338" y="0"/>
                </a:lnTo>
                <a:lnTo>
                  <a:pt x="1303338" y="489347"/>
                </a:lnTo>
                <a:arcTo wR="0" hR="163116" stAng="0" swAng="0"/>
                <a:lnTo>
                  <a:pt x="1207903" y="1209375"/>
                </a:lnTo>
                <a:arcTo wR="-325835" hR="326232" stAng="2702093" swAng="10800000"/>
                <a:close/>
              </a:path>
            </a:pathLst>
          </a:cu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流程图: 联系 14"/>
          <p:cNvSpPr/>
          <p:nvPr/>
        </p:nvSpPr>
        <p:spPr>
          <a:xfrm>
            <a:off x="1854360" y="2367000"/>
            <a:ext cx="8506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流程图: 联系 15"/>
          <p:cNvSpPr/>
          <p:nvPr/>
        </p:nvSpPr>
        <p:spPr>
          <a:xfrm>
            <a:off x="3446640" y="2367000"/>
            <a:ext cx="8506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流程图: 联系 16"/>
          <p:cNvSpPr/>
          <p:nvPr/>
        </p:nvSpPr>
        <p:spPr>
          <a:xfrm>
            <a:off x="5019840" y="2367000"/>
            <a:ext cx="8506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流程图: 联系 17"/>
          <p:cNvSpPr/>
          <p:nvPr/>
        </p:nvSpPr>
        <p:spPr>
          <a:xfrm>
            <a:off x="6537240" y="236700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直接连接符 15"/>
          <p:cNvSpPr/>
          <p:nvPr/>
        </p:nvSpPr>
        <p:spPr>
          <a:xfrm>
            <a:off x="3116160" y="1403280"/>
            <a:ext cx="0" cy="4213440"/>
          </a:xfrm>
          <a:prstGeom prst="line">
            <a:avLst/>
          </a:prstGeom>
          <a:ln w="25560">
            <a:solidFill>
              <a:srgbClr val="092e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"/>
          <p:cNvSpPr/>
          <p:nvPr/>
        </p:nvSpPr>
        <p:spPr>
          <a:xfrm>
            <a:off x="2987640" y="1847880"/>
            <a:ext cx="255600" cy="255600"/>
          </a:xfrm>
          <a:prstGeom prst="ellipse">
            <a:avLst/>
          </a:prstGeom>
          <a:solidFill>
            <a:srgbClr val="092e4d"/>
          </a:solidFill>
          <a:ln w="25560">
            <a:solidFill>
              <a:srgbClr val="092e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7"/>
          <p:cNvSpPr/>
          <p:nvPr/>
        </p:nvSpPr>
        <p:spPr>
          <a:xfrm>
            <a:off x="2987640" y="3441600"/>
            <a:ext cx="255600" cy="255600"/>
          </a:xfrm>
          <a:prstGeom prst="ellipse">
            <a:avLst/>
          </a:prstGeom>
          <a:solidFill>
            <a:srgbClr val="092e4d"/>
          </a:solidFill>
          <a:ln w="25560">
            <a:solidFill>
              <a:srgbClr val="092e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8"/>
          <p:cNvSpPr/>
          <p:nvPr/>
        </p:nvSpPr>
        <p:spPr>
          <a:xfrm>
            <a:off x="2981160" y="5033880"/>
            <a:ext cx="255600" cy="255600"/>
          </a:xfrm>
          <a:prstGeom prst="ellipse">
            <a:avLst/>
          </a:prstGeom>
          <a:solidFill>
            <a:srgbClr val="092e4d"/>
          </a:solidFill>
          <a:ln w="25560">
            <a:solidFill>
              <a:srgbClr val="092e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泪滴形 14"/>
          <p:cNvSpPr/>
          <p:nvPr/>
        </p:nvSpPr>
        <p:spPr>
          <a:xfrm rot="2700000">
            <a:off x="1388520" y="2973240"/>
            <a:ext cx="1144800" cy="1144440"/>
          </a:xfrm>
          <a:custGeom>
            <a:avLst/>
            <a:gdLst>
              <a:gd name="textAreaLeft" fmla="*/ 167400 w 1144800"/>
              <a:gd name="textAreaRight" fmla="*/ 977400 w 1144800"/>
              <a:gd name="textAreaTop" fmla="*/ 167400 h 1144440"/>
              <a:gd name="textAreaBottom" fmla="*/ 977040 h 1144440"/>
            </a:gdLst>
            <a:ahLst/>
            <a:rect l="textAreaLeft" t="textAreaTop" r="textAreaRight" b="textAreaBottom"/>
            <a:pathLst>
              <a:path w="1144587" h="1144587">
                <a:moveTo>
                  <a:pt x="0" y="572294"/>
                </a:moveTo>
                <a:lnTo>
                  <a:pt x="0" y="572294"/>
                </a:lnTo>
                <a:arcTo wR="572294" hR="572294" stAng="-10799994" swAng="5400000"/>
                <a:lnTo>
                  <a:pt x="858440" y="0"/>
                </a:lnTo>
                <a:lnTo>
                  <a:pt x="1144587" y="0"/>
                </a:lnTo>
                <a:lnTo>
                  <a:pt x="1144587" y="429221"/>
                </a:lnTo>
                <a:arcTo wR="0" hR="143074" stAng="0" swAng="0"/>
                <a:lnTo>
                  <a:pt x="1060776" y="1060777"/>
                </a:lnTo>
                <a:arcTo wR="-286147" hR="286147" stAng="2700000" swAng="10800000"/>
                <a:close/>
              </a:path>
            </a:pathLst>
          </a:cu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19"/>
          <p:cNvSpPr/>
          <p:nvPr/>
        </p:nvSpPr>
        <p:spPr>
          <a:xfrm>
            <a:off x="3386160" y="1474920"/>
            <a:ext cx="4786200" cy="1000080"/>
          </a:xfrm>
          <a:prstGeom prst="roundRect">
            <a:avLst>
              <a:gd name="adj" fmla="val 16667"/>
            </a:avLst>
          </a:pr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20"/>
          <p:cNvSpPr/>
          <p:nvPr/>
        </p:nvSpPr>
        <p:spPr>
          <a:xfrm>
            <a:off x="3386160" y="3117960"/>
            <a:ext cx="4786200" cy="1000080"/>
          </a:xfrm>
          <a:prstGeom prst="roundRect">
            <a:avLst>
              <a:gd name="adj" fmla="val 16667"/>
            </a:avLst>
          </a:pr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1"/>
          <p:cNvSpPr/>
          <p:nvPr/>
        </p:nvSpPr>
        <p:spPr>
          <a:xfrm>
            <a:off x="3386160" y="4714920"/>
            <a:ext cx="4786200" cy="1000080"/>
          </a:xfrm>
          <a:prstGeom prst="roundRect">
            <a:avLst>
              <a:gd name="adj" fmla="val 16667"/>
            </a:avLst>
          </a:pr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泪滴形 12"/>
          <p:cNvSpPr/>
          <p:nvPr/>
        </p:nvSpPr>
        <p:spPr>
          <a:xfrm rot="2700000">
            <a:off x="1388880" y="1379520"/>
            <a:ext cx="1144440" cy="1144440"/>
          </a:xfrm>
          <a:custGeom>
            <a:avLst/>
            <a:gdLst>
              <a:gd name="textAreaLeft" fmla="*/ 167400 w 1144440"/>
              <a:gd name="textAreaRight" fmla="*/ 977040 w 1144440"/>
              <a:gd name="textAreaTop" fmla="*/ 167400 h 1144440"/>
              <a:gd name="textAreaBottom" fmla="*/ 977040 h 1144440"/>
            </a:gdLst>
            <a:ahLst/>
            <a:rect l="textAreaLeft" t="textAreaTop" r="textAreaRight" b="textAreaBottom"/>
            <a:pathLst>
              <a:path w="1144587" h="1144587">
                <a:moveTo>
                  <a:pt x="0" y="572294"/>
                </a:moveTo>
                <a:lnTo>
                  <a:pt x="0" y="572294"/>
                </a:lnTo>
                <a:arcTo wR="572294" hR="572294" stAng="-10799994" swAng="5400000"/>
                <a:lnTo>
                  <a:pt x="858440" y="0"/>
                </a:lnTo>
                <a:lnTo>
                  <a:pt x="1144587" y="0"/>
                </a:lnTo>
                <a:lnTo>
                  <a:pt x="1144587" y="429221"/>
                </a:lnTo>
                <a:arcTo wR="0" hR="143074" stAng="0" swAng="0"/>
                <a:lnTo>
                  <a:pt x="1060776" y="1060777"/>
                </a:lnTo>
                <a:arcTo wR="-286147" hR="286147" stAng="2700000" swAng="10800000"/>
                <a:close/>
              </a:path>
            </a:pathLst>
          </a:cu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泪滴形 13"/>
          <p:cNvSpPr/>
          <p:nvPr/>
        </p:nvSpPr>
        <p:spPr>
          <a:xfrm rot="2700000">
            <a:off x="1378800" y="4619520"/>
            <a:ext cx="1144800" cy="1144440"/>
          </a:xfrm>
          <a:custGeom>
            <a:avLst/>
            <a:gdLst>
              <a:gd name="textAreaLeft" fmla="*/ 167400 w 1144800"/>
              <a:gd name="textAreaRight" fmla="*/ 977400 w 1144800"/>
              <a:gd name="textAreaTop" fmla="*/ 167400 h 1144440"/>
              <a:gd name="textAreaBottom" fmla="*/ 977040 h 1144440"/>
            </a:gdLst>
            <a:ahLst/>
            <a:rect l="textAreaLeft" t="textAreaTop" r="textAreaRight" b="textAreaBottom"/>
            <a:pathLst>
              <a:path w="1144588" h="1144587">
                <a:moveTo>
                  <a:pt x="0" y="572294"/>
                </a:moveTo>
                <a:lnTo>
                  <a:pt x="0" y="572294"/>
                </a:lnTo>
                <a:arcTo wR="572294" hR="572294" stAng="-10799994" swAng="5400000"/>
                <a:lnTo>
                  <a:pt x="858440" y="0"/>
                </a:lnTo>
                <a:lnTo>
                  <a:pt x="1144588" y="0"/>
                </a:lnTo>
                <a:lnTo>
                  <a:pt x="1144588" y="429221"/>
                </a:lnTo>
                <a:arcTo wR="0" hR="143074" stAng="0" swAng="0"/>
                <a:lnTo>
                  <a:pt x="1060777" y="1060777"/>
                </a:lnTo>
                <a:arcTo wR="-286147" hR="286147" stAng="2700000" swAng="10800000"/>
                <a:close/>
              </a:path>
            </a:pathLst>
          </a:cu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50979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51692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51692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椭圆 11"/>
          <p:cNvGrpSpPr/>
          <p:nvPr/>
        </p:nvGrpSpPr>
        <p:grpSpPr>
          <a:xfrm>
            <a:off x="2487600" y="2200320"/>
            <a:ext cx="1432080" cy="1427040"/>
            <a:chOff x="2487600" y="2200320"/>
            <a:chExt cx="1432080" cy="1427040"/>
          </a:xfrm>
        </p:grpSpPr>
        <p:pic>
          <p:nvPicPr>
            <p:cNvPr id="80" name="椭圆 11" descr=""/>
            <p:cNvPicPr/>
            <p:nvPr/>
          </p:nvPicPr>
          <p:blipFill>
            <a:blip r:embed="rId1"/>
            <a:stretch/>
          </p:blipFill>
          <p:spPr>
            <a:xfrm>
              <a:off x="2487600" y="2200320"/>
              <a:ext cx="14320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739960" y="2430360"/>
              <a:ext cx="9302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椭圆 12"/>
          <p:cNvGrpSpPr/>
          <p:nvPr/>
        </p:nvGrpSpPr>
        <p:grpSpPr>
          <a:xfrm>
            <a:off x="4054320" y="1036800"/>
            <a:ext cx="1425600" cy="1425240"/>
            <a:chOff x="4054320" y="1036800"/>
            <a:chExt cx="1425600" cy="1425240"/>
          </a:xfrm>
        </p:grpSpPr>
        <p:pic>
          <p:nvPicPr>
            <p:cNvPr id="83" name="椭圆 12" descr=""/>
            <p:cNvPicPr/>
            <p:nvPr/>
          </p:nvPicPr>
          <p:blipFill>
            <a:blip r:embed="rId2"/>
            <a:stretch/>
          </p:blipFill>
          <p:spPr>
            <a:xfrm>
              <a:off x="4054320" y="1036800"/>
              <a:ext cx="142560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05240" y="1263600"/>
              <a:ext cx="9302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椭圆 13"/>
          <p:cNvGrpSpPr/>
          <p:nvPr/>
        </p:nvGrpSpPr>
        <p:grpSpPr>
          <a:xfrm>
            <a:off x="5767560" y="2170080"/>
            <a:ext cx="1431720" cy="1420920"/>
            <a:chOff x="5767560" y="2170080"/>
            <a:chExt cx="1431720" cy="1420920"/>
          </a:xfrm>
        </p:grpSpPr>
        <p:pic>
          <p:nvPicPr>
            <p:cNvPr id="86" name="椭圆 13" descr=""/>
            <p:cNvPicPr/>
            <p:nvPr/>
          </p:nvPicPr>
          <p:blipFill>
            <a:blip r:embed="rId3"/>
            <a:stretch/>
          </p:blipFill>
          <p:spPr>
            <a:xfrm>
              <a:off x="5767560" y="2170080"/>
              <a:ext cx="14317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021360" y="2397240"/>
              <a:ext cx="9302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椭圆 14"/>
          <p:cNvGrpSpPr/>
          <p:nvPr/>
        </p:nvGrpSpPr>
        <p:grpSpPr>
          <a:xfrm>
            <a:off x="5181480" y="4151160"/>
            <a:ext cx="1432080" cy="1427400"/>
            <a:chOff x="5181480" y="4151160"/>
            <a:chExt cx="1432080" cy="1427400"/>
          </a:xfrm>
        </p:grpSpPr>
        <p:pic>
          <p:nvPicPr>
            <p:cNvPr id="89" name="椭圆 14" descr=""/>
            <p:cNvPicPr/>
            <p:nvPr/>
          </p:nvPicPr>
          <p:blipFill>
            <a:blip r:embed="rId4"/>
            <a:stretch/>
          </p:blipFill>
          <p:spPr>
            <a:xfrm>
              <a:off x="5181480" y="4151160"/>
              <a:ext cx="14320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437080" y="4378320"/>
              <a:ext cx="9302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椭圆 15"/>
          <p:cNvGrpSpPr/>
          <p:nvPr/>
        </p:nvGrpSpPr>
        <p:grpSpPr>
          <a:xfrm>
            <a:off x="3035160" y="4151160"/>
            <a:ext cx="1433520" cy="1427400"/>
            <a:chOff x="3035160" y="4151160"/>
            <a:chExt cx="1433520" cy="1427400"/>
          </a:xfrm>
        </p:grpSpPr>
        <p:pic>
          <p:nvPicPr>
            <p:cNvPr id="92" name="椭圆 15" descr=""/>
            <p:cNvPicPr/>
            <p:nvPr/>
          </p:nvPicPr>
          <p:blipFill>
            <a:blip r:embed="rId5"/>
            <a:stretch/>
          </p:blipFill>
          <p:spPr>
            <a:xfrm>
              <a:off x="3035160" y="4151160"/>
              <a:ext cx="143352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89320" y="4378320"/>
              <a:ext cx="9302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右箭头 16"/>
          <p:cNvSpPr/>
          <p:nvPr/>
        </p:nvSpPr>
        <p:spPr>
          <a:xfrm rot="14120400">
            <a:off x="3000960" y="3677040"/>
            <a:ext cx="471600" cy="43164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右箭头 17"/>
          <p:cNvSpPr/>
          <p:nvPr/>
        </p:nvSpPr>
        <p:spPr>
          <a:xfrm rot="19503600">
            <a:off x="3533400" y="184464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右箭头 18"/>
          <p:cNvSpPr/>
          <p:nvPr/>
        </p:nvSpPr>
        <p:spPr>
          <a:xfrm rot="2103000">
            <a:off x="5582880" y="1861920"/>
            <a:ext cx="468360" cy="431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右箭头 19"/>
          <p:cNvSpPr/>
          <p:nvPr/>
        </p:nvSpPr>
        <p:spPr>
          <a:xfrm rot="6205800">
            <a:off x="6197760" y="3744000"/>
            <a:ext cx="471600" cy="43164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右箭头 20"/>
          <p:cNvSpPr/>
          <p:nvPr/>
        </p:nvSpPr>
        <p:spPr>
          <a:xfrm rot="11088600">
            <a:off x="4565160" y="489096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59997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426640" y="470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2711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28"/>
          <p:cNvSpPr/>
          <p:nvPr/>
        </p:nvSpPr>
        <p:spPr>
          <a:xfrm>
            <a:off x="428760" y="1571760"/>
            <a:ext cx="2000160" cy="392904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26">
                <a:moveTo>
                  <a:pt x="3600" y="0"/>
                </a:moveTo>
                <a:arcTo wR="3600" hR="3600" stAng="16200000" swAng="-5400000"/>
                <a:lnTo>
                  <a:pt x="0" y="38826"/>
                </a:lnTo>
                <a:arcTo wR="3600" hR="3600" stAng="10800000" swAng="-5400000"/>
                <a:lnTo>
                  <a:pt x="18000" y="42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29"/>
          <p:cNvSpPr/>
          <p:nvPr/>
        </p:nvSpPr>
        <p:spPr>
          <a:xfrm>
            <a:off x="2500200" y="1571760"/>
            <a:ext cx="2000520" cy="3929040"/>
          </a:xfrm>
          <a:custGeom>
            <a:avLst/>
            <a:gdLst>
              <a:gd name="textAreaLeft" fmla="*/ 97560 w 2000520"/>
              <a:gd name="textAreaRight" fmla="*/ 1902960 w 200052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19">
                <a:moveTo>
                  <a:pt x="3600" y="0"/>
                </a:moveTo>
                <a:arcTo wR="3600" hR="3600" stAng="16200000" swAng="-5400000"/>
                <a:lnTo>
                  <a:pt x="0" y="38819"/>
                </a:lnTo>
                <a:arcTo wR="3600" hR="3600" stAng="10800000" swAng="-5400000"/>
                <a:lnTo>
                  <a:pt x="18000" y="42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92e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30"/>
          <p:cNvSpPr/>
          <p:nvPr/>
        </p:nvSpPr>
        <p:spPr>
          <a:xfrm>
            <a:off x="4572000" y="1571760"/>
            <a:ext cx="2000160" cy="392904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26">
                <a:moveTo>
                  <a:pt x="3600" y="0"/>
                </a:moveTo>
                <a:arcTo wR="3600" hR="3600" stAng="16200000" swAng="-5400000"/>
                <a:lnTo>
                  <a:pt x="0" y="38826"/>
                </a:lnTo>
                <a:arcTo wR="3600" hR="3600" stAng="10800000" swAng="-5400000"/>
                <a:lnTo>
                  <a:pt x="18000" y="42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31"/>
          <p:cNvSpPr/>
          <p:nvPr/>
        </p:nvSpPr>
        <p:spPr>
          <a:xfrm>
            <a:off x="6643800" y="1571760"/>
            <a:ext cx="2000160" cy="392904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929040"/>
              <a:gd name="textAreaBottom" fmla="*/ 3831480 h 3929040"/>
            </a:gdLst>
            <a:ahLst/>
            <a:rect l="textAreaLeft" t="textAreaTop" r="textAreaRight" b="textAreaBottom"/>
            <a:pathLst>
              <a:path w="21600" h="42426">
                <a:moveTo>
                  <a:pt x="3600" y="0"/>
                </a:moveTo>
                <a:arcTo wR="3600" hR="3600" stAng="16200000" swAng="-5400000"/>
                <a:lnTo>
                  <a:pt x="0" y="38826"/>
                </a:lnTo>
                <a:arcTo wR="3600" hR="3600" stAng="10800000" swAng="-5400000"/>
                <a:lnTo>
                  <a:pt x="18000" y="42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92e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2997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7140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927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0"/>
          <p:cNvSpPr/>
          <p:nvPr/>
        </p:nvSpPr>
        <p:spPr>
          <a:xfrm>
            <a:off x="714240" y="1860480"/>
            <a:ext cx="3745080" cy="374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92e4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组合 6" descr=""/>
          <p:cNvPicPr/>
          <p:nvPr/>
        </p:nvPicPr>
        <p:blipFill>
          <a:blip r:embed="rId1"/>
          <a:stretch/>
        </p:blipFill>
        <p:spPr>
          <a:xfrm>
            <a:off x="3981600" y="1311120"/>
            <a:ext cx="4443120" cy="4175280"/>
          </a:xfrm>
          <a:prstGeom prst="rect">
            <a:avLst/>
          </a:prstGeom>
          <a:ln w="0">
            <a:noFill/>
          </a:ln>
        </p:spPr>
      </p:pic>
      <p:sp>
        <p:nvSpPr>
          <p:cNvPr id="127" name="矩形 13"/>
          <p:cNvSpPr/>
          <p:nvPr/>
        </p:nvSpPr>
        <p:spPr>
          <a:xfrm>
            <a:off x="5140800" y="274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1997640" y="3533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4603680" y="1312920"/>
            <a:ext cx="0" cy="4259160"/>
          </a:xfrm>
          <a:prstGeom prst="line">
            <a:avLst/>
          </a:prstGeom>
          <a:ln w="25560">
            <a:solidFill>
              <a:srgbClr val="092e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15"/>
          <p:cNvSpPr/>
          <p:nvPr/>
        </p:nvSpPr>
        <p:spPr>
          <a:xfrm>
            <a:off x="4152960" y="4363920"/>
            <a:ext cx="903240" cy="901800"/>
          </a:xfrm>
          <a:custGeom>
            <a:avLst/>
            <a:gdLst/>
            <a:ahLst/>
            <a:rect l="l" t="t" r="r" b="b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close/>
              </a:path>
            </a:pathLst>
          </a:cu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16"/>
          <p:cNvSpPr/>
          <p:nvPr/>
        </p:nvSpPr>
        <p:spPr>
          <a:xfrm>
            <a:off x="4152960" y="3048120"/>
            <a:ext cx="903240" cy="901440"/>
          </a:xfrm>
          <a:custGeom>
            <a:avLst/>
            <a:gdLst/>
            <a:ahLst/>
            <a:rect l="l" t="t" r="r" b="b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close/>
              </a:path>
            </a:pathLst>
          </a:cu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17"/>
          <p:cNvSpPr/>
          <p:nvPr/>
        </p:nvSpPr>
        <p:spPr>
          <a:xfrm>
            <a:off x="4152960" y="1725480"/>
            <a:ext cx="903240" cy="901800"/>
          </a:xfrm>
          <a:custGeom>
            <a:avLst/>
            <a:gdLst/>
            <a:ahLst/>
            <a:rect l="l" t="t" r="r" b="b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close/>
              </a:path>
            </a:pathLst>
          </a:cu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18"/>
          <p:cNvSpPr/>
          <p:nvPr/>
        </p:nvSpPr>
        <p:spPr>
          <a:xfrm>
            <a:off x="4249800" y="1822320"/>
            <a:ext cx="709560" cy="708120"/>
          </a:xfrm>
          <a:prstGeom prst="ellipse">
            <a:avLst/>
          </a:pr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19"/>
          <p:cNvSpPr/>
          <p:nvPr/>
        </p:nvSpPr>
        <p:spPr>
          <a:xfrm>
            <a:off x="4249800" y="3144960"/>
            <a:ext cx="709560" cy="707760"/>
          </a:xfrm>
          <a:prstGeom prst="ellipse">
            <a:avLst/>
          </a:pr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20"/>
          <p:cNvSpPr/>
          <p:nvPr/>
        </p:nvSpPr>
        <p:spPr>
          <a:xfrm>
            <a:off x="4249800" y="4467240"/>
            <a:ext cx="709560" cy="708120"/>
          </a:xfrm>
          <a:prstGeom prst="ellipse">
            <a:avLst/>
          </a:pr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1"/>
          <p:cNvSpPr/>
          <p:nvPr/>
        </p:nvSpPr>
        <p:spPr>
          <a:xfrm rot="5400000">
            <a:off x="1587600" y="311760"/>
            <a:ext cx="998640" cy="3616200"/>
          </a:xfrm>
          <a:custGeom>
            <a:avLst/>
            <a:gdLst/>
            <a:ahLst/>
            <a:rect l="l" t="t" r="r" b="b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2"/>
          <p:cNvSpPr/>
          <p:nvPr/>
        </p:nvSpPr>
        <p:spPr>
          <a:xfrm rot="16200000">
            <a:off x="6180120" y="2001600"/>
            <a:ext cx="1882800" cy="3616560"/>
          </a:xfrm>
          <a:custGeom>
            <a:avLst/>
            <a:gdLst/>
            <a:ahLst/>
            <a:rect l="l" t="t" r="r" b="b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23"/>
          <p:cNvSpPr/>
          <p:nvPr/>
        </p:nvSpPr>
        <p:spPr>
          <a:xfrm rot="5400000">
            <a:off x="1241280" y="2644560"/>
            <a:ext cx="1809720" cy="3616560"/>
          </a:xfrm>
          <a:custGeom>
            <a:avLst/>
            <a:gdLst/>
            <a:ahLst/>
            <a:rect l="l" t="t" r="r" b="b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17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6712560" y="359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1497600" y="431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1283040" y="195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6T03:32:31Z</dcterms:modified>
  <cp:revision>288</cp:revision>
  <dc:subject/>
  <dc:title>幻灯片 1</dc:title>
</cp:coreProperties>
</file>