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681A-5551-4BED-B516-128DD6E79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21420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c1ca"/>
              </a:solidFill>
              <a:latin typeface="微软雅黑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133640"/>
            <a:ext cx="82155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c1ca"/>
              </a:solidFill>
              <a:latin typeface="幼圆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360" y="3798000"/>
            <a:ext cx="82155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c1ca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FC1E-8137-4CE4-B989-4BA004A63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4360" y="21420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c1ca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4360" y="11336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c1ca"/>
              </a:solidFill>
              <a:latin typeface="幼圆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4200" y="11336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c1ca"/>
              </a:solidFill>
              <a:latin typeface="幼圆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4360" y="379800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c1ca"/>
              </a:solidFill>
              <a:latin typeface="幼圆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4200" y="379800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c1ca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D41C-E744-446E-AD18-D8622609B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21420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c1ca"/>
              </a:solidFill>
              <a:latin typeface="微软雅黑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133640"/>
            <a:ext cx="264528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c1ca"/>
              </a:solidFill>
              <a:latin typeface="幼圆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2120" y="1133640"/>
            <a:ext cx="264528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c1ca"/>
              </a:solidFill>
              <a:latin typeface="幼圆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0240" y="1133640"/>
            <a:ext cx="264528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c1ca"/>
              </a:solidFill>
              <a:latin typeface="幼圆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360" y="3798000"/>
            <a:ext cx="264528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c1ca"/>
              </a:solidFill>
              <a:latin typeface="幼圆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2120" y="3798000"/>
            <a:ext cx="264528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c1ca"/>
              </a:solidFill>
              <a:latin typeface="幼圆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0240" y="3798000"/>
            <a:ext cx="264528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c1ca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8A85-3689-4CD6-901A-E774090EC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5564B-7E9A-41F3-B4A7-3551D33F5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4360" y="21420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c1ca"/>
              </a:solidFill>
              <a:latin typeface="微软雅黑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4360" y="1133640"/>
            <a:ext cx="8215560" cy="51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000" spc="-1" strike="noStrike">
              <a:solidFill>
                <a:srgbClr val="6d6d6d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79478-E184-4AFC-8F76-E119C694B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4360" y="21420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c1ca"/>
              </a:solidFill>
              <a:latin typeface="微软雅黑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4360" y="1133640"/>
            <a:ext cx="82155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c1ca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812EF-8C94-4608-AF19-B1C3EDE10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4360" y="21420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c1ca"/>
              </a:solidFill>
              <a:latin typeface="微软雅黑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4360" y="1133640"/>
            <a:ext cx="40089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c1ca"/>
              </a:solidFill>
              <a:latin typeface="幼圆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4200" y="1133640"/>
            <a:ext cx="40089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c1ca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7DF96-A432-4511-9246-24F56A362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360" y="21420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c1ca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482E6-F3AE-435F-9D68-0C6F1B0C7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04360" y="214200"/>
            <a:ext cx="821556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000" spc="-1" strike="noStrike">
              <a:solidFill>
                <a:srgbClr val="6d6d6d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F7B9A-04B8-4AC7-AB9D-D41301E13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360" y="21420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c1ca"/>
              </a:solidFill>
              <a:latin typeface="微软雅黑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360" y="11336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c1ca"/>
              </a:solidFill>
              <a:latin typeface="幼圆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200" y="1133640"/>
            <a:ext cx="40089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c1ca"/>
              </a:solidFill>
              <a:latin typeface="幼圆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4360" y="379800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c1ca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94FAB-C532-4651-9931-22F516F0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4360" y="21420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c1ca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4360" y="1133640"/>
            <a:ext cx="8215560" cy="51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000" spc="-1" strike="noStrike">
              <a:solidFill>
                <a:srgbClr val="6d6d6d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4EE6-868B-4FCA-BEF1-615AB437A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4360" y="21420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c1ca"/>
              </a:solidFill>
              <a:latin typeface="微软雅黑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4360" y="1133640"/>
            <a:ext cx="40089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c1ca"/>
              </a:solidFill>
              <a:latin typeface="幼圆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4200" y="11336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c1ca"/>
              </a:solidFill>
              <a:latin typeface="幼圆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14200" y="379800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c1ca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96677-11D5-49D6-9F96-DF109C7E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21420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c1ca"/>
              </a:solidFill>
              <a:latin typeface="微软雅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1336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c1ca"/>
              </a:solidFill>
              <a:latin typeface="幼圆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4200" y="11336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c1ca"/>
              </a:solidFill>
              <a:latin typeface="幼圆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4360" y="3798000"/>
            <a:ext cx="82155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c1ca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8E75A-03DD-4879-9492-9225B05C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4360" y="21420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c1ca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4360" y="1133640"/>
            <a:ext cx="82155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c1ca"/>
              </a:solidFill>
              <a:latin typeface="幼圆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360" y="3798000"/>
            <a:ext cx="82155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c1ca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ABE45-58F1-49B4-A32B-DBF57B41B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21420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c1ca"/>
              </a:solidFill>
              <a:latin typeface="微软雅黑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1336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c1ca"/>
              </a:solidFill>
              <a:latin typeface="幼圆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4200" y="11336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c1ca"/>
              </a:solidFill>
              <a:latin typeface="幼圆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379800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c1ca"/>
              </a:solidFill>
              <a:latin typeface="幼圆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14200" y="379800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c1ca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42453-6348-411A-BB5F-7A2F68D12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4360" y="21420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c1ca"/>
              </a:solidFill>
              <a:latin typeface="微软雅黑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4360" y="1133640"/>
            <a:ext cx="264528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c1ca"/>
              </a:solidFill>
              <a:latin typeface="幼圆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82120" y="1133640"/>
            <a:ext cx="264528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c1ca"/>
              </a:solidFill>
              <a:latin typeface="幼圆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60240" y="1133640"/>
            <a:ext cx="264528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c1ca"/>
              </a:solidFill>
              <a:latin typeface="幼圆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360" y="3798000"/>
            <a:ext cx="264528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c1ca"/>
              </a:solidFill>
              <a:latin typeface="幼圆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82120" y="3798000"/>
            <a:ext cx="264528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c1ca"/>
              </a:solidFill>
              <a:latin typeface="幼圆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60240" y="3798000"/>
            <a:ext cx="264528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c1ca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3FA92-D347-41C3-976A-C38E1C756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4360" y="21420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c1ca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4360" y="1133640"/>
            <a:ext cx="82155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c1ca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C649-D64C-421B-AD49-F6999B08F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4360" y="21420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c1ca"/>
              </a:solidFill>
              <a:latin typeface="微软雅黑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4360" y="1133640"/>
            <a:ext cx="40089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c1ca"/>
              </a:solidFill>
              <a:latin typeface="幼圆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4200" y="1133640"/>
            <a:ext cx="40089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c1ca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EB8F-8E8C-4FD9-99C8-D76C84957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4360" y="21420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c1ca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ED8A-40A1-4F87-B0FF-D8ED1B01C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4360" y="214200"/>
            <a:ext cx="821556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000" spc="-1" strike="noStrike">
              <a:solidFill>
                <a:srgbClr val="6d6d6d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9DF4-1480-4EDE-A6F8-577646512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4360" y="21420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c1ca"/>
              </a:solidFill>
              <a:latin typeface="微软雅黑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4360" y="11336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c1ca"/>
              </a:solidFill>
              <a:latin typeface="幼圆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4200" y="1133640"/>
            <a:ext cx="40089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c1ca"/>
              </a:solidFill>
              <a:latin typeface="幼圆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4360" y="379800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c1ca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D980-502C-4A94-880A-97AFDB8A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4360" y="21420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c1ca"/>
              </a:solidFill>
              <a:latin typeface="微软雅黑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4360" y="1133640"/>
            <a:ext cx="40089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c1ca"/>
              </a:solidFill>
              <a:latin typeface="幼圆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4200" y="11336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c1ca"/>
              </a:solidFill>
              <a:latin typeface="幼圆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4200" y="379800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c1ca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3ADE-8DAF-4473-934F-FA8D2C49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21420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c1ca"/>
              </a:solidFill>
              <a:latin typeface="微软雅黑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1336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c1ca"/>
              </a:solidFill>
              <a:latin typeface="幼圆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4200" y="11336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c1ca"/>
              </a:solidFill>
              <a:latin typeface="幼圆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3798000"/>
            <a:ext cx="82155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c1ca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69D2-A2BC-4299-8C3F-01B25AC0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f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628200" y="637488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55595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559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029040" y="641664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5595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5595b"/>
                </a:solidFill>
                <a:latin typeface="Times New Roman"/>
              </a:rPr>
              <a:t>&lt;</a:t>
            </a:r>
            <a:r>
              <a:rPr b="0" lang="zh-CN" sz="1200" spc="-1" strike="noStrike">
                <a:solidFill>
                  <a:srgbClr val="55595b"/>
                </a:solidFill>
                <a:latin typeface="Times New Roman"/>
              </a:rPr>
              <a:t>页脚</a:t>
            </a:r>
            <a:r>
              <a:rPr b="0" lang="en-US" sz="1200" spc="-1" strike="noStrike">
                <a:solidFill>
                  <a:srgbClr val="55595b"/>
                </a:solidFill>
                <a:latin typeface="Times New Roman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457680" y="637488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55595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6F5E9-E6B1-4F25-AB91-4E0FB47101DC}" type="slidenum">
              <a:rPr b="0" lang="zh-CN" sz="1200" spc="-1" strike="noStrike">
                <a:solidFill>
                  <a:srgbClr val="5559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504360" y="1133640"/>
            <a:ext cx="82155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04aeda"/>
              </a:buClr>
              <a:buSzPct val="70000"/>
              <a:buFont typeface="Webdings" charset="2"/>
              <a:buChar char="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c1ca"/>
                </a:solidFill>
                <a:latin typeface="幼圆"/>
              </a:rPr>
              <a:t>Click to edit the outline text format</a:t>
            </a:r>
            <a:endParaRPr b="1" lang="en-US" sz="2400" spc="-1" strike="noStrike">
              <a:solidFill>
                <a:srgbClr val="00c1ca"/>
              </a:solidFill>
              <a:latin typeface="幼圆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55dafc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c1ca"/>
                </a:solidFill>
                <a:latin typeface="幼圆"/>
              </a:rPr>
              <a:t>Second Outline Level</a:t>
            </a:r>
            <a:endParaRPr b="1" lang="en-US" sz="2400" spc="-1" strike="noStrike">
              <a:solidFill>
                <a:srgbClr val="00c1ca"/>
              </a:solidFill>
              <a:latin typeface="幼圆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1199"/>
              </a:spcBef>
              <a:buClr>
                <a:srgbClr val="55595b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c1ca"/>
                </a:solidFill>
                <a:latin typeface="幼圆"/>
              </a:rPr>
              <a:t>Third Outline Level</a:t>
            </a:r>
            <a:endParaRPr b="1" lang="en-US" sz="2400" spc="-1" strike="noStrike">
              <a:solidFill>
                <a:srgbClr val="00c1ca"/>
              </a:solidFill>
              <a:latin typeface="幼圆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1199"/>
              </a:spcBef>
              <a:buClr>
                <a:srgbClr val="55595b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c1ca"/>
                </a:solidFill>
                <a:latin typeface="幼圆"/>
              </a:rPr>
              <a:t>Fourth Outline Level</a:t>
            </a:r>
            <a:endParaRPr b="1" lang="en-US" sz="2400" spc="-1" strike="noStrike">
              <a:solidFill>
                <a:srgbClr val="00c1ca"/>
              </a:solidFill>
              <a:latin typeface="幼圆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1199"/>
              </a:spcBef>
              <a:buClr>
                <a:srgbClr val="55595b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c1ca"/>
                </a:solidFill>
                <a:latin typeface="幼圆"/>
              </a:rPr>
              <a:t>Fifth Outline Level</a:t>
            </a:r>
            <a:endParaRPr b="1" lang="en-US" sz="2400" spc="-1" strike="noStrike">
              <a:solidFill>
                <a:srgbClr val="00c1ca"/>
              </a:solidFill>
              <a:latin typeface="幼圆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1199"/>
              </a:spcBef>
              <a:buClr>
                <a:srgbClr val="55595b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c1ca"/>
                </a:solidFill>
                <a:latin typeface="幼圆"/>
              </a:rPr>
              <a:t>Sixth Outline Level</a:t>
            </a:r>
            <a:endParaRPr b="1" lang="en-US" sz="2400" spc="-1" strike="noStrike">
              <a:solidFill>
                <a:srgbClr val="00c1ca"/>
              </a:solidFill>
              <a:latin typeface="幼圆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1199"/>
              </a:spcBef>
              <a:buClr>
                <a:srgbClr val="55595b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c1ca"/>
                </a:solidFill>
                <a:latin typeface="幼圆"/>
              </a:rPr>
              <a:t>Seventh Outline Level</a:t>
            </a:r>
            <a:endParaRPr b="1" lang="en-US" sz="2400" spc="-1" strike="noStrike">
              <a:solidFill>
                <a:srgbClr val="00c1ca"/>
              </a:solidFill>
              <a:latin typeface="幼圆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504360" y="21420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c1ca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00c1ca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矩形 7"/>
          <p:cNvSpPr/>
          <p:nvPr/>
        </p:nvSpPr>
        <p:spPr>
          <a:xfrm>
            <a:off x="0" y="4664160"/>
            <a:ext cx="9144000" cy="2193840"/>
          </a:xfrm>
          <a:prstGeom prst="rect">
            <a:avLst/>
          </a:prstGeom>
          <a:solidFill>
            <a:srgbClr val="ef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5595b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55595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559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542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5595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5595b"/>
                </a:solidFill>
                <a:latin typeface="Times New Roman"/>
              </a:rPr>
              <a:t>&lt;</a:t>
            </a:r>
            <a:r>
              <a:rPr b="0" lang="zh-CN" sz="1200" spc="-1" strike="noStrike">
                <a:solidFill>
                  <a:srgbClr val="55595b"/>
                </a:solidFill>
                <a:latin typeface="Times New Roman"/>
              </a:rPr>
              <a:t>页脚</a:t>
            </a:r>
            <a:r>
              <a:rPr b="0" lang="en-US" sz="1200" spc="-1" strike="noStrike">
                <a:solidFill>
                  <a:srgbClr val="55595b"/>
                </a:solidFill>
                <a:latin typeface="Times New Roman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55595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C0A8C-886C-4FBB-9450-E26C8A37F57A}" type="slidenum">
              <a:rPr b="0" lang="zh-CN" sz="1200" spc="-1" strike="noStrike">
                <a:solidFill>
                  <a:srgbClr val="5559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698400" y="4860720"/>
            <a:ext cx="77724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c1ca"/>
                </a:solidFill>
                <a:latin typeface="微软雅黑"/>
              </a:rPr>
              <a:t>Click to edit the title text format</a:t>
            </a:r>
            <a:endParaRPr b="0" lang="en-US" sz="3200" spc="-1" strike="noStrike">
              <a:solidFill>
                <a:srgbClr val="00c1ca"/>
              </a:solidFill>
              <a:latin typeface="微软雅黑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6d6d6d"/>
                </a:solidFill>
                <a:latin typeface="幼圆"/>
              </a:rPr>
              <a:t>Click to edit the outline text format</a:t>
            </a:r>
            <a:endParaRPr b="1" lang="en-US" sz="2000" spc="-1" strike="noStrike">
              <a:solidFill>
                <a:srgbClr val="6d6d6d"/>
              </a:solidFill>
              <a:latin typeface="幼圆"/>
            </a:endParaRPr>
          </a:p>
          <a:p>
            <a:pPr lvl="1" indent="0" algn="ctr">
              <a:lnSpc>
                <a:spcPct val="120000"/>
              </a:lnSpc>
              <a:spcAft>
                <a:spcPts val="1199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55595b"/>
                </a:solidFill>
                <a:latin typeface="幼圆"/>
              </a:rPr>
              <a:t>Second Outline Level</a:t>
            </a:r>
            <a:endParaRPr b="0" lang="en-US" sz="1600" spc="-1" strike="noStrike">
              <a:solidFill>
                <a:srgbClr val="55595b"/>
              </a:solidFill>
              <a:latin typeface="幼圆"/>
            </a:endParaRPr>
          </a:p>
          <a:p>
            <a:pPr lvl="2" marL="685800" algn="ctr">
              <a:lnSpc>
                <a:spcPct val="90000"/>
              </a:lnSpc>
              <a:spcBef>
                <a:spcPts val="374"/>
              </a:spcBef>
              <a:buClr>
                <a:srgbClr val="55595b"/>
              </a:buClr>
              <a:buFont typeface="Arial"/>
              <a:buChar char="•"/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55595b"/>
                </a:solidFill>
                <a:latin typeface="Calibri"/>
              </a:rPr>
              <a:t>Third Outline Level</a:t>
            </a:r>
            <a:endParaRPr b="0" lang="en-US" sz="1500" spc="-1" strike="noStrike">
              <a:solidFill>
                <a:srgbClr val="55595b"/>
              </a:solidFill>
              <a:latin typeface="Calibri"/>
            </a:endParaRPr>
          </a:p>
          <a:p>
            <a:pPr lvl="3" marL="1028880" algn="ctr">
              <a:lnSpc>
                <a:spcPct val="90000"/>
              </a:lnSpc>
              <a:spcBef>
                <a:spcPts val="374"/>
              </a:spcBef>
              <a:buClr>
                <a:srgbClr val="55595b"/>
              </a:buClr>
              <a:buFont typeface="Arial"/>
              <a:buChar char="•"/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55595b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55595b"/>
              </a:solidFill>
              <a:latin typeface="Calibri"/>
            </a:endParaRPr>
          </a:p>
          <a:p>
            <a:pPr lvl="4" marL="1371600" algn="ctr">
              <a:lnSpc>
                <a:spcPct val="90000"/>
              </a:lnSpc>
              <a:spcBef>
                <a:spcPts val="374"/>
              </a:spcBef>
              <a:buClr>
                <a:srgbClr val="55595b"/>
              </a:buClr>
              <a:buFont typeface="Arial"/>
              <a:buChar char="•"/>
              <a:tabLst>
                <a:tab algn="l" pos="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55595b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55595b"/>
              </a:solidFill>
              <a:latin typeface="Calibri"/>
            </a:endParaRPr>
          </a:p>
          <a:p>
            <a:pPr lvl="5" marL="1371600">
              <a:spcBef>
                <a:spcPts val="326"/>
              </a:spcBef>
              <a:buClr>
                <a:srgbClr val="55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5595b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55595b"/>
              </a:solidFill>
              <a:latin typeface="Calibri"/>
            </a:endParaRPr>
          </a:p>
          <a:p>
            <a:pPr lvl="6" marL="1371600">
              <a:spcBef>
                <a:spcPts val="326"/>
              </a:spcBef>
              <a:buClr>
                <a:srgbClr val="55595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5595b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55595b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98400" y="4860720"/>
            <a:ext cx="777240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c1ca"/>
              </a:solidFill>
              <a:latin typeface="微软雅黑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361960" y="5727240"/>
            <a:ext cx="4622760" cy="520920"/>
          </a:xfrm>
          <a:prstGeom prst="rect">
            <a:avLst/>
          </a:prstGeom>
          <a:noFill/>
          <a:ln w="9360">
            <a:solidFill>
              <a:srgbClr val="00c1ca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000" spc="-1" strike="noStrike">
              <a:solidFill>
                <a:srgbClr val="6d6d6d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360" y="214200"/>
            <a:ext cx="821556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c1ca"/>
              </a:solidFill>
              <a:latin typeface="微软雅黑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4360" y="1133640"/>
            <a:ext cx="82155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00c1ca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3T02:52:00Z</dcterms:created>
  <dc:creator>admin</dc:creator>
  <dc:description/>
  <dc:language>en-US</dc:language>
  <cp:lastModifiedBy>adminh</cp:lastModifiedBy>
  <dcterms:modified xsi:type="dcterms:W3CDTF">2015-07-24T07:21:47Z</dcterms:modified>
  <cp:revision>114</cp:revision>
  <dc:subject/>
  <dc:title>fds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fileid">
    <vt:lpwstr>580437</vt:lpwstr>
  </property>
  <property fmtid="{D5CDD505-2E9C-101B-9397-08002B2CF9AE}" pid="3" name="name">
    <vt:lpwstr>A000120150716A04PWBG.ppt</vt:lpwstr>
  </property>
</Properties>
</file>