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8592-A2B1-438C-A9C0-5E7AD1AA5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F1F8-4543-4165-AE8C-44CB88E0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2FA0-E399-44BF-81FA-AE1ED7851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12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9056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51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12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04C1-2DCC-4C3C-9709-7FEFCD56E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806A-1602-4B45-A201-F5F1E23FE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2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9056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1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12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2E11-8400-4892-AFFA-8F5B55CAB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FE64-1BEC-4F69-9880-D9E79CAC0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ED7D-5025-47A0-ACB5-4B763E93D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3453-1C58-476D-A2CB-D80122563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52D0-6B4D-4A2B-8607-582F8D16D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87C8-CCAD-483F-8679-63B48C2F1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636A-8C89-477A-8C6A-828C1E17D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843280" y="2749680"/>
            <a:ext cx="6300720" cy="4108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24720" y="7920"/>
            <a:ext cx="1619280" cy="792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596360" cy="79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26080"/>
            <a:ext cx="8351640" cy="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3a8e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F179-6B10-48A5-801D-80A70C9B093A}" type="slidenum">
              <a:rPr b="0" lang="zh-CN" sz="1400" spc="-1" strike="noStrike">
                <a:solidFill>
                  <a:srgbClr val="1c3a8e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7849440" y="1224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19560" y="65275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3a8e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58672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a8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c3a8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3a8e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3a8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3a8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3a8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507440" cy="102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  <a:ea typeface="宋体"/>
              </a:rPr>
              <a:t>PowerPoint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站长素材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SC.CHINAZ.COM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7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38f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1e4168"/>
                </a:gs>
                <a:gs pos="100000">
                  <a:srgbClr val="438f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44d7a"/>
                </a:gs>
                <a:gs pos="50000">
                  <a:srgbClr val="438fe3"/>
                </a:gs>
                <a:gs pos="100000">
                  <a:srgbClr val="244d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38fe3">
                    <a:alpha val="0"/>
                  </a:srgbClr>
                </a:gs>
                <a:gs pos="100000">
                  <a:srgbClr val="2a5a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283" name="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8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96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1022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5105520" y="1494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26" name="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58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52440" y="21477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63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7820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95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581280" y="1832040"/>
            <a:ext cx="2163960" cy="3165480"/>
            <a:chOff x="3581280" y="1832040"/>
            <a:chExt cx="2163960" cy="3165480"/>
          </a:xfrm>
        </p:grpSpPr>
        <p:sp>
          <p:nvSpPr>
            <p:cNvPr id="371" name=""/>
            <p:cNvSpPr/>
            <p:nvPr/>
          </p:nvSpPr>
          <p:spPr>
            <a:xfrm>
              <a:off x="3581280" y="21398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4760" y="214776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32040" y="42116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32040" y="21700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2240" y="18367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6640" y="18464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1560" y="186228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6616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83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7080" y="214776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88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0248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199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7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0" name="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1" name="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484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cxnSp>
            <p:nvCxnSpPr>
              <p:cNvPr id="488" name=""/>
              <p:cNvCxnSpPr>
                <a:stCxn id="484" idx="3"/>
                <a:endCxn id="485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9" name=""/>
              <p:cNvCxnSpPr>
                <a:stCxn id="485" idx="3"/>
                <a:endCxn id="486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0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3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495" name="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2e63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4880" y="171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c1ee"/>
                  </a:gs>
                  <a:gs pos="50000">
                    <a:srgbClr val="438fe3">
                      <a:alpha val="0"/>
                    </a:srgbClr>
                  </a:gs>
                  <a:gs pos="100000">
                    <a:srgbClr val="97c1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31040" y="193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0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ad9d9"/>
                  </a:gs>
                  <a:gs pos="100000">
                    <a:srgbClr val="33cc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874880" y="324216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cc">
                      <a:alpha val="0"/>
                    </a:srgbClr>
                  </a:gs>
                  <a:gs pos="100000">
                    <a:srgbClr val="a7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3104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7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09" name="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74880" y="478224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3104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622764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3240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49400" y="32050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203840" y="1635120"/>
            <a:ext cx="6215040" cy="1324440"/>
            <a:chOff x="1203840" y="1635120"/>
            <a:chExt cx="6215040" cy="1324440"/>
          </a:xfrm>
        </p:grpSpPr>
        <p:sp>
          <p:nvSpPr>
            <p:cNvPr id="519" name=""/>
            <p:cNvSpPr/>
            <p:nvPr/>
          </p:nvSpPr>
          <p:spPr>
            <a:xfrm rot="3418800">
              <a:off x="141156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334600" y="2016000"/>
              <a:ext cx="901440" cy="124200"/>
              <a:chOff x="2334600" y="2016000"/>
              <a:chExt cx="901440" cy="124200"/>
            </a:xfrm>
          </p:grpSpPr>
          <p:sp>
            <p:nvSpPr>
              <p:cNvPr id="521" name=""/>
              <p:cNvSpPr/>
              <p:nvPr/>
            </p:nvSpPr>
            <p:spPr>
              <a:xfrm>
                <a:off x="233460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42100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9924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7268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3076200" y="1780560"/>
              <a:ext cx="874080" cy="97092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999240" y="2016000"/>
              <a:ext cx="901440" cy="124200"/>
              <a:chOff x="3999240" y="2016000"/>
              <a:chExt cx="901440" cy="124200"/>
            </a:xfrm>
          </p:grpSpPr>
          <p:sp>
            <p:nvSpPr>
              <p:cNvPr id="527" name=""/>
              <p:cNvSpPr/>
              <p:nvPr/>
            </p:nvSpPr>
            <p:spPr>
              <a:xfrm>
                <a:off x="399924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8564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63880" y="20178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3732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4671720" y="17805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664240" y="2016000"/>
              <a:ext cx="1178280" cy="124200"/>
              <a:chOff x="5664240" y="2016000"/>
              <a:chExt cx="1178280" cy="124200"/>
            </a:xfrm>
          </p:grpSpPr>
          <p:sp>
            <p:nvSpPr>
              <p:cNvPr id="533" name=""/>
              <p:cNvSpPr/>
              <p:nvPr/>
            </p:nvSpPr>
            <p:spPr>
              <a:xfrm>
                <a:off x="566424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7728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6396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008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3418800">
              <a:off x="6336360" y="1780560"/>
              <a:ext cx="874080" cy="97092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51884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140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602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558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4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1912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143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09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01132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c3a8e"/>
                      </a:solidFill>
                    </a:lnR>
                    <a:lnT>
                      <a:noFill/>
                    </a:lnT>
                    <a:lnB w="5760">
                      <a:solidFill>
                        <a:srgbClr val="1c3a8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03360" y="504000"/>
            <a:ext cx="7380720" cy="5582160"/>
            <a:chOff x="603360" y="504000"/>
            <a:chExt cx="7380720" cy="5582160"/>
          </a:xfrm>
        </p:grpSpPr>
        <p:sp>
          <p:nvSpPr>
            <p:cNvPr id="550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5300"/>
                </a:gs>
                <a:gs pos="100000">
                  <a:srgbClr val="cc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603360" y="504000"/>
              <a:ext cx="7380720" cy="5582160"/>
              <a:chOff x="603360" y="504000"/>
              <a:chExt cx="7380720" cy="5582160"/>
            </a:xfrm>
          </p:grpSpPr>
          <p:sp>
            <p:nvSpPr>
              <p:cNvPr id="554" name=""/>
              <p:cNvSpPr/>
              <p:nvPr/>
            </p:nvSpPr>
            <p:spPr>
              <a:xfrm rot="20601600">
                <a:off x="1389600" y="2001240"/>
                <a:ext cx="5698440" cy="292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95" y="2248"/>
                    </a:moveTo>
                    <a:arcTo wR="10800" hR="10800" stAng="-3141777" swAng="515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95" y="2248"/>
                    </a:moveTo>
                    <a:arcTo wR="10800" hR="10800" stAng="-3141777" swAng="5155523"/>
                  </a:path>
                </a:pathLst>
              </a:custGeom>
              <a:gradFill rotWithShape="0">
                <a:gsLst>
                  <a:gs pos="0">
                    <a:srgbClr val="76dcdc"/>
                  </a:gs>
                  <a:gs pos="100000">
                    <a:srgbClr val="33cccc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rot="20602200">
                <a:off x="1437840" y="2001240"/>
                <a:ext cx="5644080" cy="295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28" y="12048"/>
                    </a:moveTo>
                    <a:arcTo wR="10800" hR="10800" stAng="398260" swAng="55868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28" y="12048"/>
                    </a:moveTo>
                    <a:arcTo wR="10800" hR="10800" stAng="398260" swAng="5586891"/>
                  </a:path>
                </a:pathLst>
              </a:custGeom>
              <a:gradFill rotWithShape="0">
                <a:gsLst>
                  <a:gs pos="0">
                    <a:srgbClr val="285689"/>
                  </a:gs>
                  <a:gs pos="100000">
                    <a:srgbClr val="438fe3"/>
                  </a:gs>
                </a:gsLst>
                <a:lin ang="125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601600">
                <a:off x="1395720" y="2013840"/>
                <a:ext cx="5681520" cy="283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7" y="1342"/>
                    </a:moveTo>
                    <a:arcTo wR="10800" hR="10800" stAng="-7131749" swAng="40321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7" y="1342"/>
                    </a:moveTo>
                    <a:arcTo wR="10800" hR="10800" stAng="-7131749" swAng="4032112"/>
                  </a:path>
                </a:pathLst>
              </a:custGeom>
              <a:gradFill rotWithShape="0">
                <a:gsLst>
                  <a:gs pos="0">
                    <a:srgbClr val="306069"/>
                  </a:gs>
                  <a:gs pos="100000">
                    <a:srgbClr val="5cb8ca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29680" y="21906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65848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603360" y="504000"/>
                <a:ext cx="7380720" cy="5582160"/>
                <a:chOff x="603360" y="504000"/>
                <a:chExt cx="7380720" cy="5582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5448240" y="3448080"/>
                  <a:ext cx="177336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5a5a5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20539200">
                  <a:off x="1021680" y="1408320"/>
                  <a:ext cx="6543720" cy="37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08" y="16758"/>
                      </a:moveTo>
                      <a:arcTo wR="10800" hR="10800" stAng="2008784" swAng="28002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08" y="16758"/>
                      </a:moveTo>
                      <a:arcTo wR="10800" hR="10800" stAng="2008784" swAng="2800242"/>
                    </a:path>
                  </a:pathLst>
                </a:custGeom>
                <a:gradFill rotWithShape="0">
                  <a:gsLst>
                    <a:gs pos="0">
                      <a:srgbClr val="454545"/>
                    </a:gs>
                    <a:gs pos="100000">
                      <a:srgbClr val="969696"/>
                    </a:gs>
                  </a:gsLst>
                  <a:lin ang="118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583160" y="3924360"/>
                  <a:ext cx="92376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4545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353560" y="371484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314388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27640" y="3990960"/>
                <a:ext cx="83808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c3a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601600">
                <a:off x="3036960" y="2981160"/>
                <a:ext cx="2587680" cy="1113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14400" y="1447920"/>
            <a:ext cx="7391520" cy="4155840"/>
            <a:chOff x="914400" y="1447920"/>
            <a:chExt cx="7391520" cy="4155840"/>
          </a:xfrm>
        </p:grpSpPr>
        <p:sp>
          <p:nvSpPr>
            <p:cNvPr id="571" name="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d4d4d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8fe3"/>
                </a:gs>
                <a:gs pos="50000">
                  <a:srgbClr val="d0e2f7"/>
                </a:gs>
                <a:gs pos="100000">
                  <a:srgbClr val="438f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7244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480"/>
              <a:ext cx="1524240" cy="1532160"/>
              <a:chOff x="6781680" y="4038480"/>
              <a:chExt cx="1524240" cy="15321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6781680" y="40384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955920" y="40636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692496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819520" y="4083120"/>
              <a:ext cx="1523880" cy="1520640"/>
              <a:chOff x="2819520" y="4083120"/>
              <a:chExt cx="1523880" cy="15206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819520" y="4083120"/>
                <a:ext cx="1523880" cy="1520640"/>
                <a:chOff x="2819520" y="4083120"/>
                <a:chExt cx="1523880" cy="15206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819520" y="408312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89548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876920" y="4038480"/>
              <a:ext cx="1523880" cy="1521000"/>
              <a:chOff x="4876920" y="4038480"/>
              <a:chExt cx="1523880" cy="15210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876920" y="40384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2249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495288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05120" y="1905120"/>
            <a:ext cx="5410080" cy="664920"/>
            <a:chOff x="1905120" y="1905120"/>
            <a:chExt cx="5410080" cy="664920"/>
          </a:xfrm>
        </p:grpSpPr>
        <p:grpSp>
          <p:nvGrpSpPr>
            <p:cNvPr id="88" name=""/>
            <p:cNvGrpSpPr/>
            <p:nvPr/>
          </p:nvGrpSpPr>
          <p:grpSpPr>
            <a:xfrm>
              <a:off x="1905120" y="1905120"/>
              <a:ext cx="761760" cy="664920"/>
              <a:chOff x="1905120" y="1905120"/>
              <a:chExt cx="761760" cy="664920"/>
            </a:xfrm>
          </p:grpSpPr>
          <p:sp>
            <p:nvSpPr>
              <p:cNvPr id="89" name=""/>
              <p:cNvSpPr/>
              <p:nvPr/>
            </p:nvSpPr>
            <p:spPr>
              <a:xfrm>
                <a:off x="1911240" y="1916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1905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49400" y="19443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514600" y="25146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8560" y="1981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0384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05120" y="2819520"/>
            <a:ext cx="5410080" cy="664920"/>
            <a:chOff x="1905120" y="2819520"/>
            <a:chExt cx="5410080" cy="664920"/>
          </a:xfrm>
        </p:grpSpPr>
        <p:grpSp>
          <p:nvGrpSpPr>
            <p:cNvPr id="96" name=""/>
            <p:cNvGrpSpPr/>
            <p:nvPr/>
          </p:nvGrpSpPr>
          <p:grpSpPr>
            <a:xfrm>
              <a:off x="1905120" y="2819520"/>
              <a:ext cx="761400" cy="664920"/>
              <a:chOff x="1905120" y="2819520"/>
              <a:chExt cx="761400" cy="664920"/>
            </a:xfrm>
          </p:grpSpPr>
          <p:sp>
            <p:nvSpPr>
              <p:cNvPr id="97" name=""/>
              <p:cNvSpPr/>
              <p:nvPr/>
            </p:nvSpPr>
            <p:spPr>
              <a:xfrm>
                <a:off x="1911240" y="28306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05120" y="28195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49400" y="285876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514600" y="342900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8560" y="2895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03840" y="291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05120" y="3711600"/>
            <a:ext cx="5410080" cy="665280"/>
            <a:chOff x="1905120" y="3711600"/>
            <a:chExt cx="5410080" cy="665280"/>
          </a:xfrm>
        </p:grpSpPr>
        <p:grpSp>
          <p:nvGrpSpPr>
            <p:cNvPr id="104" name=""/>
            <p:cNvGrpSpPr/>
            <p:nvPr/>
          </p:nvGrpSpPr>
          <p:grpSpPr>
            <a:xfrm>
              <a:off x="1905120" y="3711600"/>
              <a:ext cx="761760" cy="665280"/>
              <a:chOff x="1905120" y="3711600"/>
              <a:chExt cx="761760" cy="665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11240" y="37227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05120" y="3711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49400" y="37508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514600" y="4321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8560" y="3787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38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4626000"/>
            <a:ext cx="5410080" cy="665280"/>
            <a:chOff x="1905120" y="4626000"/>
            <a:chExt cx="5410080" cy="665280"/>
          </a:xfrm>
        </p:grpSpPr>
        <p:grpSp>
          <p:nvGrpSpPr>
            <p:cNvPr id="112" name=""/>
            <p:cNvGrpSpPr/>
            <p:nvPr/>
          </p:nvGrpSpPr>
          <p:grpSpPr>
            <a:xfrm>
              <a:off x="1905120" y="4626000"/>
              <a:ext cx="761400" cy="665280"/>
              <a:chOff x="1905120" y="4626000"/>
              <a:chExt cx="761400" cy="665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911240" y="4637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05120" y="4626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49400" y="46652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514600" y="52354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8560" y="4702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0384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c3a8e"/>
                    </a:gs>
                    <a:gs pos="100000">
                      <a:srgbClr val="cc99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c3a8e"/>
                  </a:gs>
                  <a:gs pos="100000">
                    <a:srgbClr val="cc990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fe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438fe3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3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d5c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7" name="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62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a3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bcd7f4"/>
                  </a:gs>
                  <a:gs pos="100000">
                    <a:srgbClr val="438f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48235"/>
                    </a:srgbClr>
                  </a:gs>
                  <a:gs pos="100000">
                    <a:srgbClr val="3470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7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ede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42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1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38fe3"/>
                </a:gs>
                <a:gs pos="100000">
                  <a:srgbClr val="14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8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c3a8e"/>
              </a:solidFill>
              <a:miter/>
            </a:ln>
          </p:spPr>
        </p:cxnSp>
        <p:sp>
          <p:nvSpPr>
            <p:cNvPr id="156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9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0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cc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b6d6d"/>
                  </a:gs>
                  <a:gs pos="50000">
                    <a:srgbClr val="33cccc"/>
                  </a:gs>
                  <a:gs pos="100000">
                    <a:srgbClr val="1b6d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05" name="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19" name="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00"/>
                  </a:gs>
                  <a:gs pos="50000">
                    <a:srgbClr val="cc9900"/>
                  </a:gs>
                  <a:gs pos="100000">
                    <a:srgbClr val="5e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e4168"/>
                  </a:gs>
                  <a:gs pos="5000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38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36e00"/>
                  </a:gs>
                  <a:gs pos="50000">
                    <a:srgbClr val="cc9900"/>
                  </a:gs>
                  <a:gs pos="100000">
                    <a:srgbClr val="93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49393"/>
                  </a:gs>
                  <a:gs pos="50000">
                    <a:srgbClr val="33cccc"/>
                  </a:gs>
                  <a:gs pos="100000">
                    <a:srgbClr val="2493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067a4"/>
                  </a:gs>
                  <a:gs pos="50000">
                    <a:srgbClr val="438fe3"/>
                  </a:gs>
                  <a:gs pos="100000">
                    <a:srgbClr val="3067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34" name="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45cfc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600"/>
                </a:gs>
                <a:gs pos="50000">
                  <a:srgbClr val="cc9900"/>
                </a:gs>
                <a:gs pos="100000">
                  <a:srgbClr val="5e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47" name="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57:01Z</dcterms:created>
  <dc:creator>User</dc:creator>
  <dc:description/>
  <dc:language>en-US</dc:language>
  <cp:lastModifiedBy>keke</cp:lastModifiedBy>
  <dcterms:modified xsi:type="dcterms:W3CDTF">2009-04-29T06:05:38Z</dcterms:modified>
  <cp:revision>2</cp:revision>
  <dc:subject/>
  <dc:title>PowerPoint Template</dc:title>
</cp:coreProperties>
</file>