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0965-8581-4F06-A38A-4EB714E3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EC39-C6E4-471B-8F3A-86A96F79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9AFC-CB06-402A-A4AD-D22133D8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7BF7-1BF0-44DB-AF61-D5180C30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256B-B6F8-4511-9BA1-3509AFD6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E2D0-B5A8-4E16-A1AD-31F296D7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AE21-20CD-4F8F-BED5-10C82DA4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55C-39E0-47FA-A18D-9105E483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4EA7-0C4E-46C6-94BC-3BE1983E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CD3F-499D-4A36-BDFF-BF0C3364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CABE-86E4-4EE1-9916-D0AA09C5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2CCC-CF67-4F41-8A39-B210ACB1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7AE1-6E4B-4E93-A984-DACC825BC8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143000" y="4000680"/>
            <a:ext cx="4857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爱情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1214280" y="450072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组合 13"/>
          <p:cNvGrpSpPr/>
          <p:nvPr/>
        </p:nvGrpSpPr>
        <p:grpSpPr>
          <a:xfrm>
            <a:off x="2036880" y="2143080"/>
            <a:ext cx="1606320" cy="1639800"/>
            <a:chOff x="2036880" y="2143080"/>
            <a:chExt cx="1606320" cy="1639800"/>
          </a:xfrm>
        </p:grpSpPr>
        <p:sp>
          <p:nvSpPr>
            <p:cNvPr id="45" name="饼形 9"/>
            <p:cNvSpPr/>
            <p:nvPr/>
          </p:nvSpPr>
          <p:spPr>
            <a:xfrm>
              <a:off x="2036880" y="2963880"/>
              <a:ext cx="820800" cy="819000"/>
            </a:xfrm>
            <a:custGeom>
              <a:avLst/>
              <a:gdLst>
                <a:gd name="textAreaLeft" fmla="*/ 120240 w 820800"/>
                <a:gd name="textAreaRight" fmla="*/ 700560 w 820800"/>
                <a:gd name="textAreaTop" fmla="*/ 119880 h 819000"/>
                <a:gd name="textAreaBottom" fmla="*/ 699120 h 819000"/>
              </a:gdLst>
              <a:ahLst/>
              <a:rect l="textAreaLeft" t="textAreaTop" r="textAreaRight" b="textAreaBottom"/>
              <a:pathLst>
                <a:path w="820460" h="819396">
                  <a:moveTo>
                    <a:pt x="820460" y="409698"/>
                  </a:moveTo>
                  <a:lnTo>
                    <a:pt x="820460" y="409698"/>
                  </a:lnTo>
                  <a:arcTo wR="410230" hR="409698" stAng="0" swAng="16200000"/>
                  <a:lnTo>
                    <a:pt x="410230" y="409698"/>
                  </a:lnTo>
                  <a:close/>
                </a:path>
              </a:pathLst>
            </a:custGeom>
            <a:solidFill>
              <a:srgbClr val="ca5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饼形 10"/>
            <p:cNvSpPr/>
            <p:nvPr/>
          </p:nvSpPr>
          <p:spPr>
            <a:xfrm flipV="1">
              <a:off x="2036880" y="2143080"/>
              <a:ext cx="820800" cy="820800"/>
            </a:xfrm>
            <a:custGeom>
              <a:avLst/>
              <a:gdLst>
                <a:gd name="textAreaLeft" fmla="*/ 120240 w 820800"/>
                <a:gd name="textAreaRight" fmla="*/ 700560 w 820800"/>
                <a:gd name="textAreaTop" fmla="*/ 120240 h 820800"/>
                <a:gd name="textAreaBottom" fmla="*/ 700560 h 820800"/>
              </a:gdLst>
              <a:ahLst/>
              <a:rect l="textAreaLeft" t="textAreaTop" r="textAreaRight" b="textAreaBottom"/>
              <a:pathLst>
                <a:path w="820460" h="820984">
                  <a:moveTo>
                    <a:pt x="820460" y="410492"/>
                  </a:moveTo>
                  <a:lnTo>
                    <a:pt x="820460" y="410492"/>
                  </a:lnTo>
                  <a:arcTo wR="410230" hR="410492" stAng="0" swAng="16200000"/>
                  <a:lnTo>
                    <a:pt x="410230" y="410492"/>
                  </a:lnTo>
                  <a:close/>
                </a:path>
              </a:pathLst>
            </a:custGeom>
            <a:solidFill>
              <a:srgbClr val="df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饼形 11"/>
            <p:cNvSpPr/>
            <p:nvPr/>
          </p:nvSpPr>
          <p:spPr>
            <a:xfrm flipH="1" flipV="1">
              <a:off x="2822400" y="2143080"/>
              <a:ext cx="820800" cy="820800"/>
            </a:xfrm>
            <a:custGeom>
              <a:avLst/>
              <a:gdLst>
                <a:gd name="textAreaLeft" fmla="*/ 120240 w 820800"/>
                <a:gd name="textAreaRight" fmla="*/ 700560 w 820800"/>
                <a:gd name="textAreaTop" fmla="*/ 120240 h 820800"/>
                <a:gd name="textAreaBottom" fmla="*/ 700560 h 820800"/>
              </a:gdLst>
              <a:ahLst/>
              <a:rect l="textAreaLeft" t="textAreaTop" r="textAreaRight" b="textAreaBottom"/>
              <a:pathLst>
                <a:path w="820461" h="820984">
                  <a:moveTo>
                    <a:pt x="820461" y="410492"/>
                  </a:moveTo>
                  <a:lnTo>
                    <a:pt x="820461" y="410492"/>
                  </a:lnTo>
                  <a:arcTo wR="410231" hR="410492" stAng="0" swAng="16200000"/>
                  <a:lnTo>
                    <a:pt x="410231" y="410492"/>
                  </a:lnTo>
                  <a:close/>
                </a:path>
              </a:pathLst>
            </a:custGeom>
            <a:solidFill>
              <a:srgbClr val="ca5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饼形 12"/>
            <p:cNvSpPr/>
            <p:nvPr/>
          </p:nvSpPr>
          <p:spPr>
            <a:xfrm flipH="1">
              <a:off x="2822400" y="2963880"/>
              <a:ext cx="820800" cy="819000"/>
            </a:xfrm>
            <a:custGeom>
              <a:avLst/>
              <a:gdLst>
                <a:gd name="textAreaLeft" fmla="*/ 120240 w 820800"/>
                <a:gd name="textAreaRight" fmla="*/ 700560 w 820800"/>
                <a:gd name="textAreaTop" fmla="*/ 119880 h 819000"/>
                <a:gd name="textAreaBottom" fmla="*/ 699120 h 819000"/>
              </a:gdLst>
              <a:ahLst/>
              <a:rect l="textAreaLeft" t="textAreaTop" r="textAreaRight" b="textAreaBottom"/>
              <a:pathLst>
                <a:path w="820461" h="819396">
                  <a:moveTo>
                    <a:pt x="820461" y="409698"/>
                  </a:moveTo>
                  <a:lnTo>
                    <a:pt x="820461" y="409698"/>
                  </a:lnTo>
                  <a:arcTo wR="410231" hR="409698" stAng="0" swAng="16200000"/>
                  <a:lnTo>
                    <a:pt x="410231" y="409698"/>
                  </a:lnTo>
                  <a:close/>
                </a:path>
              </a:pathLst>
            </a:custGeom>
            <a:solidFill>
              <a:srgbClr val="df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14"/>
          <p:cNvGrpSpPr/>
          <p:nvPr/>
        </p:nvGrpSpPr>
        <p:grpSpPr>
          <a:xfrm>
            <a:off x="3965400" y="2143080"/>
            <a:ext cx="1606680" cy="1639800"/>
            <a:chOff x="3965400" y="2143080"/>
            <a:chExt cx="1606680" cy="1639800"/>
          </a:xfrm>
        </p:grpSpPr>
        <p:sp>
          <p:nvSpPr>
            <p:cNvPr id="50" name="饼形 15"/>
            <p:cNvSpPr/>
            <p:nvPr/>
          </p:nvSpPr>
          <p:spPr>
            <a:xfrm>
              <a:off x="3965400" y="2963880"/>
              <a:ext cx="820800" cy="819000"/>
            </a:xfrm>
            <a:custGeom>
              <a:avLst/>
              <a:gdLst>
                <a:gd name="textAreaLeft" fmla="*/ 120240 w 820800"/>
                <a:gd name="textAreaRight" fmla="*/ 700560 w 820800"/>
                <a:gd name="textAreaTop" fmla="*/ 119880 h 819000"/>
                <a:gd name="textAreaBottom" fmla="*/ 699120 h 819000"/>
              </a:gdLst>
              <a:ahLst/>
              <a:rect l="textAreaLeft" t="textAreaTop" r="textAreaRight" b="textAreaBottom"/>
              <a:pathLst>
                <a:path w="820461" h="819396">
                  <a:moveTo>
                    <a:pt x="820461" y="409698"/>
                  </a:moveTo>
                  <a:lnTo>
                    <a:pt x="820461" y="409698"/>
                  </a:lnTo>
                  <a:arcTo wR="410231" hR="409698" stAng="0" swAng="16200000"/>
                  <a:lnTo>
                    <a:pt x="410231" y="409698"/>
                  </a:lnTo>
                  <a:close/>
                </a:path>
              </a:pathLst>
            </a:custGeom>
            <a:solidFill>
              <a:srgbClr val="ca5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饼形 16"/>
            <p:cNvSpPr/>
            <p:nvPr/>
          </p:nvSpPr>
          <p:spPr>
            <a:xfrm flipV="1">
              <a:off x="3965400" y="2143080"/>
              <a:ext cx="820800" cy="820800"/>
            </a:xfrm>
            <a:custGeom>
              <a:avLst/>
              <a:gdLst>
                <a:gd name="textAreaLeft" fmla="*/ 120240 w 820800"/>
                <a:gd name="textAreaRight" fmla="*/ 700560 w 820800"/>
                <a:gd name="textAreaTop" fmla="*/ 120240 h 820800"/>
                <a:gd name="textAreaBottom" fmla="*/ 700560 h 820800"/>
              </a:gdLst>
              <a:ahLst/>
              <a:rect l="textAreaLeft" t="textAreaTop" r="textAreaRight" b="textAreaBottom"/>
              <a:pathLst>
                <a:path w="820461" h="820984">
                  <a:moveTo>
                    <a:pt x="820461" y="410492"/>
                  </a:moveTo>
                  <a:lnTo>
                    <a:pt x="820461" y="410492"/>
                  </a:lnTo>
                  <a:arcTo wR="410231" hR="410492" stAng="0" swAng="16200000"/>
                  <a:lnTo>
                    <a:pt x="410231" y="410492"/>
                  </a:lnTo>
                  <a:close/>
                </a:path>
              </a:pathLst>
            </a:custGeom>
            <a:solidFill>
              <a:srgbClr val="df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饼形 17"/>
            <p:cNvSpPr/>
            <p:nvPr/>
          </p:nvSpPr>
          <p:spPr>
            <a:xfrm flipH="1" flipV="1">
              <a:off x="4751280" y="2143080"/>
              <a:ext cx="820800" cy="820800"/>
            </a:xfrm>
            <a:custGeom>
              <a:avLst/>
              <a:gdLst>
                <a:gd name="textAreaLeft" fmla="*/ 120240 w 820800"/>
                <a:gd name="textAreaRight" fmla="*/ 700560 w 820800"/>
                <a:gd name="textAreaTop" fmla="*/ 120240 h 820800"/>
                <a:gd name="textAreaBottom" fmla="*/ 700560 h 820800"/>
              </a:gdLst>
              <a:ahLst/>
              <a:rect l="textAreaLeft" t="textAreaTop" r="textAreaRight" b="textAreaBottom"/>
              <a:pathLst>
                <a:path w="820460" h="820984">
                  <a:moveTo>
                    <a:pt x="820460" y="410492"/>
                  </a:moveTo>
                  <a:lnTo>
                    <a:pt x="820460" y="410492"/>
                  </a:lnTo>
                  <a:arcTo wR="410230" hR="410492" stAng="0" swAng="16200000"/>
                  <a:lnTo>
                    <a:pt x="410230" y="410492"/>
                  </a:lnTo>
                  <a:close/>
                </a:path>
              </a:pathLst>
            </a:custGeom>
            <a:solidFill>
              <a:srgbClr val="ca5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饼形 18"/>
            <p:cNvSpPr/>
            <p:nvPr/>
          </p:nvSpPr>
          <p:spPr>
            <a:xfrm flipH="1">
              <a:off x="4751280" y="2963880"/>
              <a:ext cx="820800" cy="819000"/>
            </a:xfrm>
            <a:custGeom>
              <a:avLst/>
              <a:gdLst>
                <a:gd name="textAreaLeft" fmla="*/ 120240 w 820800"/>
                <a:gd name="textAreaRight" fmla="*/ 700560 w 820800"/>
                <a:gd name="textAreaTop" fmla="*/ 119880 h 819000"/>
                <a:gd name="textAreaBottom" fmla="*/ 699120 h 819000"/>
              </a:gdLst>
              <a:ahLst/>
              <a:rect l="textAreaLeft" t="textAreaTop" r="textAreaRight" b="textAreaBottom"/>
              <a:pathLst>
                <a:path w="820460" h="819396">
                  <a:moveTo>
                    <a:pt x="820460" y="409698"/>
                  </a:moveTo>
                  <a:lnTo>
                    <a:pt x="820460" y="409698"/>
                  </a:lnTo>
                  <a:arcTo wR="410230" hR="409698" stAng="0" swAng="16200000"/>
                  <a:lnTo>
                    <a:pt x="410230" y="409698"/>
                  </a:lnTo>
                  <a:close/>
                </a:path>
              </a:pathLst>
            </a:custGeom>
            <a:solidFill>
              <a:srgbClr val="df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19"/>
          <p:cNvGrpSpPr/>
          <p:nvPr/>
        </p:nvGrpSpPr>
        <p:grpSpPr>
          <a:xfrm>
            <a:off x="5823000" y="2143080"/>
            <a:ext cx="1606680" cy="1639800"/>
            <a:chOff x="5823000" y="2143080"/>
            <a:chExt cx="1606680" cy="1639800"/>
          </a:xfrm>
        </p:grpSpPr>
        <p:sp>
          <p:nvSpPr>
            <p:cNvPr id="55" name="饼形 20"/>
            <p:cNvSpPr/>
            <p:nvPr/>
          </p:nvSpPr>
          <p:spPr>
            <a:xfrm>
              <a:off x="5823000" y="2963880"/>
              <a:ext cx="820800" cy="819000"/>
            </a:xfrm>
            <a:custGeom>
              <a:avLst/>
              <a:gdLst>
                <a:gd name="textAreaLeft" fmla="*/ 120240 w 820800"/>
                <a:gd name="textAreaRight" fmla="*/ 700560 w 820800"/>
                <a:gd name="textAreaTop" fmla="*/ 119880 h 819000"/>
                <a:gd name="textAreaBottom" fmla="*/ 699120 h 819000"/>
              </a:gdLst>
              <a:ahLst/>
              <a:rect l="textAreaLeft" t="textAreaTop" r="textAreaRight" b="textAreaBottom"/>
              <a:pathLst>
                <a:path w="820461" h="819396">
                  <a:moveTo>
                    <a:pt x="820461" y="409698"/>
                  </a:moveTo>
                  <a:lnTo>
                    <a:pt x="820461" y="409698"/>
                  </a:lnTo>
                  <a:arcTo wR="410231" hR="409698" stAng="0" swAng="16200000"/>
                  <a:lnTo>
                    <a:pt x="410231" y="409698"/>
                  </a:lnTo>
                  <a:close/>
                </a:path>
              </a:pathLst>
            </a:custGeom>
            <a:solidFill>
              <a:srgbClr val="ca5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饼形 21"/>
            <p:cNvSpPr/>
            <p:nvPr/>
          </p:nvSpPr>
          <p:spPr>
            <a:xfrm flipV="1">
              <a:off x="5823000" y="2143080"/>
              <a:ext cx="820800" cy="820800"/>
            </a:xfrm>
            <a:custGeom>
              <a:avLst/>
              <a:gdLst>
                <a:gd name="textAreaLeft" fmla="*/ 120240 w 820800"/>
                <a:gd name="textAreaRight" fmla="*/ 700560 w 820800"/>
                <a:gd name="textAreaTop" fmla="*/ 120240 h 820800"/>
                <a:gd name="textAreaBottom" fmla="*/ 700560 h 820800"/>
              </a:gdLst>
              <a:ahLst/>
              <a:rect l="textAreaLeft" t="textAreaTop" r="textAreaRight" b="textAreaBottom"/>
              <a:pathLst>
                <a:path w="820461" h="820984">
                  <a:moveTo>
                    <a:pt x="820461" y="410492"/>
                  </a:moveTo>
                  <a:lnTo>
                    <a:pt x="820461" y="410492"/>
                  </a:lnTo>
                  <a:arcTo wR="410231" hR="410492" stAng="0" swAng="16200000"/>
                  <a:lnTo>
                    <a:pt x="410231" y="410492"/>
                  </a:lnTo>
                  <a:close/>
                </a:path>
              </a:pathLst>
            </a:custGeom>
            <a:solidFill>
              <a:srgbClr val="df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饼形 22"/>
            <p:cNvSpPr/>
            <p:nvPr/>
          </p:nvSpPr>
          <p:spPr>
            <a:xfrm flipH="1" flipV="1">
              <a:off x="6608880" y="2143080"/>
              <a:ext cx="820800" cy="820800"/>
            </a:xfrm>
            <a:custGeom>
              <a:avLst/>
              <a:gdLst>
                <a:gd name="textAreaLeft" fmla="*/ 120240 w 820800"/>
                <a:gd name="textAreaRight" fmla="*/ 700560 w 820800"/>
                <a:gd name="textAreaTop" fmla="*/ 120240 h 820800"/>
                <a:gd name="textAreaBottom" fmla="*/ 700560 h 820800"/>
              </a:gdLst>
              <a:ahLst/>
              <a:rect l="textAreaLeft" t="textAreaTop" r="textAreaRight" b="textAreaBottom"/>
              <a:pathLst>
                <a:path w="820460" h="820984">
                  <a:moveTo>
                    <a:pt x="820460" y="410492"/>
                  </a:moveTo>
                  <a:lnTo>
                    <a:pt x="820460" y="410492"/>
                  </a:lnTo>
                  <a:arcTo wR="410230" hR="410492" stAng="0" swAng="16200000"/>
                  <a:lnTo>
                    <a:pt x="410230" y="410492"/>
                  </a:lnTo>
                  <a:close/>
                </a:path>
              </a:pathLst>
            </a:custGeom>
            <a:solidFill>
              <a:srgbClr val="ca5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饼形 23"/>
            <p:cNvSpPr/>
            <p:nvPr/>
          </p:nvSpPr>
          <p:spPr>
            <a:xfrm flipH="1">
              <a:off x="6608880" y="2963880"/>
              <a:ext cx="820800" cy="819000"/>
            </a:xfrm>
            <a:custGeom>
              <a:avLst/>
              <a:gdLst>
                <a:gd name="textAreaLeft" fmla="*/ 120240 w 820800"/>
                <a:gd name="textAreaRight" fmla="*/ 700560 w 820800"/>
                <a:gd name="textAreaTop" fmla="*/ 119880 h 819000"/>
                <a:gd name="textAreaBottom" fmla="*/ 699120 h 819000"/>
              </a:gdLst>
              <a:ahLst/>
              <a:rect l="textAreaLeft" t="textAreaTop" r="textAreaRight" b="textAreaBottom"/>
              <a:pathLst>
                <a:path w="820460" h="819396">
                  <a:moveTo>
                    <a:pt x="820460" y="409698"/>
                  </a:moveTo>
                  <a:lnTo>
                    <a:pt x="820460" y="409698"/>
                  </a:lnTo>
                  <a:arcTo wR="410230" hR="409698" stAng="0" swAng="16200000"/>
                  <a:lnTo>
                    <a:pt x="410230" y="409698"/>
                  </a:lnTo>
                  <a:close/>
                </a:path>
              </a:pathLst>
            </a:custGeom>
            <a:solidFill>
              <a:srgbClr val="df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0"/>
          <p:cNvSpPr/>
          <p:nvPr/>
        </p:nvSpPr>
        <p:spPr>
          <a:xfrm>
            <a:off x="4283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1"/>
          <p:cNvSpPr/>
          <p:nvPr/>
        </p:nvSpPr>
        <p:spPr>
          <a:xfrm>
            <a:off x="23547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2"/>
          <p:cNvSpPr/>
          <p:nvPr/>
        </p:nvSpPr>
        <p:spPr>
          <a:xfrm>
            <a:off x="6140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圆角矩形 11"/>
          <p:cNvSpPr/>
          <p:nvPr/>
        </p:nvSpPr>
        <p:spPr>
          <a:xfrm>
            <a:off x="714240" y="1928880"/>
            <a:ext cx="2428920" cy="2571840"/>
          </a:xfrm>
          <a:custGeom>
            <a:avLst/>
            <a:gdLst>
              <a:gd name="textAreaLeft" fmla="*/ 118440 w 2428920"/>
              <a:gd name="textAreaRight" fmla="*/ 2310480 w 2428920"/>
              <a:gd name="textAreaTop" fmla="*/ 118440 h 2571840"/>
              <a:gd name="textAreaBottom" fmla="*/ 2453400 h 2571840"/>
            </a:gdLst>
            <a:ahLst/>
            <a:rect l="textAreaLeft" t="textAreaTop" r="textAreaRight" b="textAreaBottom"/>
            <a:pathLst>
              <a:path w="21600" h="22871">
                <a:moveTo>
                  <a:pt x="3600" y="0"/>
                </a:moveTo>
                <a:arcTo wR="3600" hR="3600" stAng="16200000" swAng="-5400000"/>
                <a:lnTo>
                  <a:pt x="0" y="19271"/>
                </a:lnTo>
                <a:arcTo wR="3600" hR="3600" stAng="10800000" swAng="-5400000"/>
                <a:lnTo>
                  <a:pt x="18000" y="228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a5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10"/>
          <p:cNvSpPr/>
          <p:nvPr/>
        </p:nvSpPr>
        <p:spPr>
          <a:xfrm>
            <a:off x="785880" y="2000160"/>
            <a:ext cx="2262240" cy="2395800"/>
          </a:xfrm>
          <a:custGeom>
            <a:avLst/>
            <a:gdLst>
              <a:gd name="textAreaLeft" fmla="*/ 110160 w 2262240"/>
              <a:gd name="textAreaRight" fmla="*/ 2152080 w 2262240"/>
              <a:gd name="textAreaTop" fmla="*/ 110160 h 2395800"/>
              <a:gd name="textAreaBottom" fmla="*/ 2285640 h 2395800"/>
            </a:gdLst>
            <a:ahLst/>
            <a:rect l="textAreaLeft" t="textAreaTop" r="textAreaRight" b="textAreaBottom"/>
            <a:pathLst>
              <a:path w="21600" h="22875">
                <a:moveTo>
                  <a:pt x="3600" y="0"/>
                </a:moveTo>
                <a:arcTo wR="3600" hR="3600" stAng="16200000" swAng="-5400000"/>
                <a:lnTo>
                  <a:pt x="0" y="19275"/>
                </a:lnTo>
                <a:arcTo wR="3600" hR="3600" stAng="10800000" swAng="-5400000"/>
                <a:lnTo>
                  <a:pt x="18000" y="228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fb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12"/>
          <p:cNvSpPr/>
          <p:nvPr/>
        </p:nvSpPr>
        <p:spPr>
          <a:xfrm>
            <a:off x="3357720" y="1928880"/>
            <a:ext cx="2428560" cy="2571840"/>
          </a:xfrm>
          <a:custGeom>
            <a:avLst/>
            <a:gdLst>
              <a:gd name="textAreaLeft" fmla="*/ 118440 w 2428560"/>
              <a:gd name="textAreaRight" fmla="*/ 2310120 w 2428560"/>
              <a:gd name="textAreaTop" fmla="*/ 118440 h 2571840"/>
              <a:gd name="textAreaBottom" fmla="*/ 2453400 h 2571840"/>
            </a:gdLst>
            <a:ahLst/>
            <a:rect l="textAreaLeft" t="textAreaTop" r="textAreaRight" b="textAreaBottom"/>
            <a:pathLst>
              <a:path w="21600" h="22874">
                <a:moveTo>
                  <a:pt x="3600" y="0"/>
                </a:moveTo>
                <a:arcTo wR="3600" hR="3600" stAng="16200000" swAng="-5400000"/>
                <a:lnTo>
                  <a:pt x="0" y="19274"/>
                </a:lnTo>
                <a:arcTo wR="3600" hR="3600" stAng="10800000" swAng="-5400000"/>
                <a:lnTo>
                  <a:pt x="18000" y="228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a5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13"/>
          <p:cNvSpPr/>
          <p:nvPr/>
        </p:nvSpPr>
        <p:spPr>
          <a:xfrm>
            <a:off x="3429000" y="2000160"/>
            <a:ext cx="2262240" cy="2395800"/>
          </a:xfrm>
          <a:custGeom>
            <a:avLst/>
            <a:gdLst>
              <a:gd name="textAreaLeft" fmla="*/ 110160 w 2262240"/>
              <a:gd name="textAreaRight" fmla="*/ 2152080 w 2262240"/>
              <a:gd name="textAreaTop" fmla="*/ 110160 h 2395800"/>
              <a:gd name="textAreaBottom" fmla="*/ 2285640 h 2395800"/>
            </a:gdLst>
            <a:ahLst/>
            <a:rect l="textAreaLeft" t="textAreaTop" r="textAreaRight" b="textAreaBottom"/>
            <a:pathLst>
              <a:path w="21600" h="22875">
                <a:moveTo>
                  <a:pt x="3600" y="0"/>
                </a:moveTo>
                <a:arcTo wR="3600" hR="3600" stAng="16200000" swAng="-5400000"/>
                <a:lnTo>
                  <a:pt x="0" y="19275"/>
                </a:lnTo>
                <a:arcTo wR="3600" hR="3600" stAng="10800000" swAng="-5400000"/>
                <a:lnTo>
                  <a:pt x="18000" y="228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fb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14"/>
          <p:cNvSpPr/>
          <p:nvPr/>
        </p:nvSpPr>
        <p:spPr>
          <a:xfrm>
            <a:off x="6072120" y="1928880"/>
            <a:ext cx="2428920" cy="2571840"/>
          </a:xfrm>
          <a:custGeom>
            <a:avLst/>
            <a:gdLst>
              <a:gd name="textAreaLeft" fmla="*/ 118440 w 2428920"/>
              <a:gd name="textAreaRight" fmla="*/ 2310480 w 2428920"/>
              <a:gd name="textAreaTop" fmla="*/ 118440 h 2571840"/>
              <a:gd name="textAreaBottom" fmla="*/ 2453400 h 2571840"/>
            </a:gdLst>
            <a:ahLst/>
            <a:rect l="textAreaLeft" t="textAreaTop" r="textAreaRight" b="textAreaBottom"/>
            <a:pathLst>
              <a:path w="21600" h="22871">
                <a:moveTo>
                  <a:pt x="3600" y="0"/>
                </a:moveTo>
                <a:arcTo wR="3600" hR="3600" stAng="16200000" swAng="-5400000"/>
                <a:lnTo>
                  <a:pt x="0" y="19271"/>
                </a:lnTo>
                <a:arcTo wR="3600" hR="3600" stAng="10800000" swAng="-5400000"/>
                <a:lnTo>
                  <a:pt x="18000" y="228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a5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15"/>
          <p:cNvSpPr/>
          <p:nvPr/>
        </p:nvSpPr>
        <p:spPr>
          <a:xfrm>
            <a:off x="6143760" y="2000160"/>
            <a:ext cx="2261880" cy="2395800"/>
          </a:xfrm>
          <a:custGeom>
            <a:avLst/>
            <a:gdLst>
              <a:gd name="textAreaLeft" fmla="*/ 110160 w 2261880"/>
              <a:gd name="textAreaRight" fmla="*/ 2151720 w 2261880"/>
              <a:gd name="textAreaTop" fmla="*/ 110160 h 2395800"/>
              <a:gd name="textAreaBottom" fmla="*/ 2285640 h 2395800"/>
            </a:gdLst>
            <a:ahLst/>
            <a:rect l="textAreaLeft" t="textAreaTop" r="textAreaRight" b="textAreaBottom"/>
            <a:pathLst>
              <a:path w="21600" h="22879">
                <a:moveTo>
                  <a:pt x="3600" y="0"/>
                </a:moveTo>
                <a:arcTo wR="3600" hR="3600" stAng="16200000" swAng="-5400000"/>
                <a:lnTo>
                  <a:pt x="0" y="19279"/>
                </a:lnTo>
                <a:arcTo wR="3600" hR="3600" stAng="10800000" swAng="-5400000"/>
                <a:lnTo>
                  <a:pt x="18000" y="228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fb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1425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3"/>
          <p:cNvSpPr/>
          <p:nvPr/>
        </p:nvSpPr>
        <p:spPr>
          <a:xfrm>
            <a:off x="67838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4"/>
          <p:cNvSpPr/>
          <p:nvPr/>
        </p:nvSpPr>
        <p:spPr>
          <a:xfrm>
            <a:off x="40690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燕尾形箭头 10"/>
          <p:cNvSpPr/>
          <p:nvPr/>
        </p:nvSpPr>
        <p:spPr>
          <a:xfrm>
            <a:off x="1197000" y="2214720"/>
            <a:ext cx="1874880" cy="1357200"/>
          </a:xfrm>
          <a:custGeom>
            <a:avLst/>
            <a:gdLst>
              <a:gd name="textAreaLeft" fmla="*/ 339120 w 1874880"/>
              <a:gd name="textAreaRight" fmla="*/ 1535760 w 1874880"/>
              <a:gd name="textAreaTop" fmla="*/ 339120 h 1357200"/>
              <a:gd name="textAreaBottom" fmla="*/ 101808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781" y="5400"/>
                </a:lnTo>
                <a:lnTo>
                  <a:pt x="13781" y="0"/>
                </a:lnTo>
                <a:lnTo>
                  <a:pt x="21600" y="10800"/>
                </a:lnTo>
                <a:lnTo>
                  <a:pt x="13781" y="21600"/>
                </a:lnTo>
                <a:lnTo>
                  <a:pt x="13781" y="16200"/>
                </a:lnTo>
                <a:lnTo>
                  <a:pt x="0" y="16200"/>
                </a:lnTo>
                <a:lnTo>
                  <a:pt x="39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a5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燕尾形箭头 11"/>
          <p:cNvSpPr/>
          <p:nvPr/>
        </p:nvSpPr>
        <p:spPr>
          <a:xfrm>
            <a:off x="2911320" y="2214720"/>
            <a:ext cx="1874880" cy="1357200"/>
          </a:xfrm>
          <a:custGeom>
            <a:avLst/>
            <a:gdLst>
              <a:gd name="textAreaLeft" fmla="*/ 339120 w 1874880"/>
              <a:gd name="textAreaRight" fmla="*/ 1535760 w 1874880"/>
              <a:gd name="textAreaTop" fmla="*/ 339120 h 1357200"/>
              <a:gd name="textAreaBottom" fmla="*/ 101808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781" y="5400"/>
                </a:lnTo>
                <a:lnTo>
                  <a:pt x="13781" y="0"/>
                </a:lnTo>
                <a:lnTo>
                  <a:pt x="21600" y="10800"/>
                </a:lnTo>
                <a:lnTo>
                  <a:pt x="13781" y="21600"/>
                </a:lnTo>
                <a:lnTo>
                  <a:pt x="13781" y="16200"/>
                </a:lnTo>
                <a:lnTo>
                  <a:pt x="0" y="16200"/>
                </a:lnTo>
                <a:lnTo>
                  <a:pt x="39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fb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燕尾形箭头 12"/>
          <p:cNvSpPr/>
          <p:nvPr/>
        </p:nvSpPr>
        <p:spPr>
          <a:xfrm>
            <a:off x="4554360" y="2214720"/>
            <a:ext cx="1874880" cy="1357200"/>
          </a:xfrm>
          <a:custGeom>
            <a:avLst/>
            <a:gdLst>
              <a:gd name="textAreaLeft" fmla="*/ 339120 w 1874880"/>
              <a:gd name="textAreaRight" fmla="*/ 1535760 w 1874880"/>
              <a:gd name="textAreaTop" fmla="*/ 339120 h 1357200"/>
              <a:gd name="textAreaBottom" fmla="*/ 101808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781" y="5400"/>
                </a:lnTo>
                <a:lnTo>
                  <a:pt x="13781" y="0"/>
                </a:lnTo>
                <a:lnTo>
                  <a:pt x="21600" y="10800"/>
                </a:lnTo>
                <a:lnTo>
                  <a:pt x="13781" y="21600"/>
                </a:lnTo>
                <a:lnTo>
                  <a:pt x="13781" y="16200"/>
                </a:lnTo>
                <a:lnTo>
                  <a:pt x="0" y="16200"/>
                </a:lnTo>
                <a:lnTo>
                  <a:pt x="39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a5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燕尾形箭头 13"/>
          <p:cNvSpPr/>
          <p:nvPr/>
        </p:nvSpPr>
        <p:spPr>
          <a:xfrm>
            <a:off x="6269040" y="2214720"/>
            <a:ext cx="1874880" cy="1357200"/>
          </a:xfrm>
          <a:custGeom>
            <a:avLst/>
            <a:gdLst>
              <a:gd name="textAreaLeft" fmla="*/ 339120 w 1874880"/>
              <a:gd name="textAreaRight" fmla="*/ 1535760 w 1874880"/>
              <a:gd name="textAreaTop" fmla="*/ 339120 h 1357200"/>
              <a:gd name="textAreaBottom" fmla="*/ 101808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781" y="5400"/>
                </a:lnTo>
                <a:lnTo>
                  <a:pt x="13781" y="0"/>
                </a:lnTo>
                <a:lnTo>
                  <a:pt x="21600" y="10800"/>
                </a:lnTo>
                <a:lnTo>
                  <a:pt x="13781" y="21600"/>
                </a:lnTo>
                <a:lnTo>
                  <a:pt x="13781" y="16200"/>
                </a:lnTo>
                <a:lnTo>
                  <a:pt x="0" y="16200"/>
                </a:lnTo>
                <a:lnTo>
                  <a:pt x="39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fb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34261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69267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50695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15688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空心弧 10"/>
          <p:cNvSpPr/>
          <p:nvPr/>
        </p:nvSpPr>
        <p:spPr>
          <a:xfrm>
            <a:off x="214200" y="2428920"/>
            <a:ext cx="2009880" cy="2009880"/>
          </a:xfrm>
          <a:custGeom>
            <a:avLst/>
            <a:gdLst>
              <a:gd name="textAreaLeft" fmla="*/ 0 w 2009880"/>
              <a:gd name="textAreaRight" fmla="*/ 2010240 w 2009880"/>
              <a:gd name="textAreaTop" fmla="*/ 0 h 2009880"/>
              <a:gd name="textAreaBottom" fmla="*/ 1005120 h 2009880"/>
            </a:gdLst>
            <a:ahLst/>
            <a:rect l="textAreaLeft" t="textAreaTop" r="textAreaRight" b="textAreaBottom"/>
            <a:pathLst>
              <a:path w="2009775" h="2009775">
                <a:moveTo>
                  <a:pt x="0" y="1004886"/>
                </a:moveTo>
                <a:lnTo>
                  <a:pt x="0" y="1004886"/>
                </a:lnTo>
                <a:arcTo wR="1004888" hR="1004888" stAng="-10799997" swAng="10800007"/>
                <a:lnTo>
                  <a:pt x="1507331" y="1004888"/>
                </a:lnTo>
                <a:lnTo>
                  <a:pt x="1507331" y="1004888"/>
                </a:lnTo>
                <a:arcTo wR="502444" hR="502444" stAng="0" swAng="-10800007"/>
                <a:close/>
              </a:path>
            </a:pathLst>
          </a:custGeom>
          <a:solidFill>
            <a:srgbClr val="dfb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空心弧 11"/>
          <p:cNvSpPr/>
          <p:nvPr/>
        </p:nvSpPr>
        <p:spPr>
          <a:xfrm>
            <a:off x="2500200" y="2428920"/>
            <a:ext cx="2009880" cy="2009880"/>
          </a:xfrm>
          <a:custGeom>
            <a:avLst/>
            <a:gdLst>
              <a:gd name="textAreaLeft" fmla="*/ 0 w 2009880"/>
              <a:gd name="textAreaRight" fmla="*/ 2010240 w 2009880"/>
              <a:gd name="textAreaTop" fmla="*/ 0 h 2009880"/>
              <a:gd name="textAreaBottom" fmla="*/ 1005120 h 2009880"/>
            </a:gdLst>
            <a:ahLst/>
            <a:rect l="textAreaLeft" t="textAreaTop" r="textAreaRight" b="textAreaBottom"/>
            <a:pathLst>
              <a:path w="2009775" h="2009775">
                <a:moveTo>
                  <a:pt x="0" y="1004886"/>
                </a:moveTo>
                <a:lnTo>
                  <a:pt x="0" y="1004886"/>
                </a:lnTo>
                <a:arcTo wR="1004888" hR="1004888" stAng="-10799997" swAng="10800007"/>
                <a:lnTo>
                  <a:pt x="1507331" y="1004888"/>
                </a:lnTo>
                <a:lnTo>
                  <a:pt x="1507331" y="1004888"/>
                </a:lnTo>
                <a:arcTo wR="502444" hR="502444" stAng="0" swAng="-10800007"/>
                <a:close/>
              </a:path>
            </a:pathLst>
          </a:custGeom>
          <a:solidFill>
            <a:srgbClr val="ca5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空心弧 12"/>
          <p:cNvSpPr/>
          <p:nvPr/>
        </p:nvSpPr>
        <p:spPr>
          <a:xfrm>
            <a:off x="4714920" y="2428920"/>
            <a:ext cx="2009880" cy="2009880"/>
          </a:xfrm>
          <a:custGeom>
            <a:avLst/>
            <a:gdLst>
              <a:gd name="textAreaLeft" fmla="*/ 0 w 2009880"/>
              <a:gd name="textAreaRight" fmla="*/ 2010240 w 2009880"/>
              <a:gd name="textAreaTop" fmla="*/ 0 h 2009880"/>
              <a:gd name="textAreaBottom" fmla="*/ 1005120 h 2009880"/>
            </a:gdLst>
            <a:ahLst/>
            <a:rect l="textAreaLeft" t="textAreaTop" r="textAreaRight" b="textAreaBottom"/>
            <a:pathLst>
              <a:path w="2009775" h="2009775">
                <a:moveTo>
                  <a:pt x="0" y="1004886"/>
                </a:moveTo>
                <a:lnTo>
                  <a:pt x="0" y="1004886"/>
                </a:lnTo>
                <a:arcTo wR="1004888" hR="1004888" stAng="-10799997" swAng="10800007"/>
                <a:lnTo>
                  <a:pt x="1507331" y="1004888"/>
                </a:lnTo>
                <a:lnTo>
                  <a:pt x="1507331" y="1004888"/>
                </a:lnTo>
                <a:arcTo wR="502444" hR="502444" stAng="0" swAng="-10800007"/>
                <a:close/>
              </a:path>
            </a:pathLst>
          </a:custGeom>
          <a:solidFill>
            <a:srgbClr val="dfb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空心弧 13"/>
          <p:cNvSpPr/>
          <p:nvPr/>
        </p:nvSpPr>
        <p:spPr>
          <a:xfrm>
            <a:off x="7000920" y="2428920"/>
            <a:ext cx="2009880" cy="2009880"/>
          </a:xfrm>
          <a:custGeom>
            <a:avLst/>
            <a:gdLst>
              <a:gd name="textAreaLeft" fmla="*/ 0 w 2009880"/>
              <a:gd name="textAreaRight" fmla="*/ 2010240 w 2009880"/>
              <a:gd name="textAreaTop" fmla="*/ 0 h 2009880"/>
              <a:gd name="textAreaBottom" fmla="*/ 1005120 h 2009880"/>
            </a:gdLst>
            <a:ahLst/>
            <a:rect l="textAreaLeft" t="textAreaTop" r="textAreaRight" b="textAreaBottom"/>
            <a:pathLst>
              <a:path w="2009775" h="2009775">
                <a:moveTo>
                  <a:pt x="0" y="1004886"/>
                </a:moveTo>
                <a:lnTo>
                  <a:pt x="0" y="1004886"/>
                </a:lnTo>
                <a:arcTo wR="1004888" hR="1004888" stAng="-10799997" swAng="10800007"/>
                <a:lnTo>
                  <a:pt x="1507331" y="1004888"/>
                </a:lnTo>
                <a:lnTo>
                  <a:pt x="1507331" y="1004888"/>
                </a:lnTo>
                <a:arcTo wR="502444" hR="502444" stAng="0" swAng="-10800007"/>
                <a:close/>
              </a:path>
            </a:pathLst>
          </a:custGeom>
          <a:solidFill>
            <a:srgbClr val="ca5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29977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3"/>
          <p:cNvSpPr/>
          <p:nvPr/>
        </p:nvSpPr>
        <p:spPr>
          <a:xfrm>
            <a:off x="74980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4"/>
          <p:cNvSpPr/>
          <p:nvPr/>
        </p:nvSpPr>
        <p:spPr>
          <a:xfrm>
            <a:off x="5212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5"/>
          <p:cNvSpPr/>
          <p:nvPr/>
        </p:nvSpPr>
        <p:spPr>
          <a:xfrm>
            <a:off x="7117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折角形 10"/>
          <p:cNvSpPr/>
          <p:nvPr/>
        </p:nvSpPr>
        <p:spPr>
          <a:xfrm>
            <a:off x="714240" y="2143080"/>
            <a:ext cx="2514600" cy="2514600"/>
          </a:xfrm>
          <a:prstGeom prst="foldedCorner">
            <a:avLst>
              <a:gd name="adj" fmla="val 16666"/>
            </a:avLst>
          </a:prstGeom>
          <a:solidFill>
            <a:srgbClr val="ca5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折角形 11"/>
          <p:cNvSpPr/>
          <p:nvPr/>
        </p:nvSpPr>
        <p:spPr>
          <a:xfrm>
            <a:off x="3286080" y="2143080"/>
            <a:ext cx="2514600" cy="2514600"/>
          </a:xfrm>
          <a:prstGeom prst="foldedCorner">
            <a:avLst>
              <a:gd name="adj" fmla="val 16666"/>
            </a:avLst>
          </a:prstGeom>
          <a:solidFill>
            <a:srgbClr val="dfb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折角形 12"/>
          <p:cNvSpPr/>
          <p:nvPr/>
        </p:nvSpPr>
        <p:spPr>
          <a:xfrm>
            <a:off x="5857920" y="2128680"/>
            <a:ext cx="2514600" cy="2514600"/>
          </a:xfrm>
          <a:prstGeom prst="foldedCorner">
            <a:avLst>
              <a:gd name="adj" fmla="val 16666"/>
            </a:avLst>
          </a:prstGeom>
          <a:solidFill>
            <a:srgbClr val="ca5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2"/>
          <p:cNvSpPr/>
          <p:nvPr/>
        </p:nvSpPr>
        <p:spPr>
          <a:xfrm>
            <a:off x="314064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3"/>
          <p:cNvSpPr/>
          <p:nvPr/>
        </p:nvSpPr>
        <p:spPr>
          <a:xfrm>
            <a:off x="628380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4"/>
          <p:cNvSpPr/>
          <p:nvPr/>
        </p:nvSpPr>
        <p:spPr>
          <a:xfrm>
            <a:off x="471204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5"/>
          <p:cNvSpPr/>
          <p:nvPr/>
        </p:nvSpPr>
        <p:spPr>
          <a:xfrm>
            <a:off x="156888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流程图: 数据 10"/>
          <p:cNvSpPr/>
          <p:nvPr/>
        </p:nvSpPr>
        <p:spPr>
          <a:xfrm>
            <a:off x="1233360" y="1714680"/>
            <a:ext cx="3838680" cy="3357360"/>
          </a:xfrm>
          <a:prstGeom prst="flowChartInputOutput">
            <a:avLst/>
          </a:prstGeom>
          <a:solidFill>
            <a:srgbClr val="dfb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流程图: 数据 11"/>
          <p:cNvSpPr/>
          <p:nvPr/>
        </p:nvSpPr>
        <p:spPr>
          <a:xfrm>
            <a:off x="4448160" y="1714680"/>
            <a:ext cx="3838680" cy="3357360"/>
          </a:xfrm>
          <a:prstGeom prst="flowChartInputOutput">
            <a:avLst/>
          </a:prstGeom>
          <a:solidFill>
            <a:srgbClr val="ca5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3"/>
          <p:cNvSpPr/>
          <p:nvPr/>
        </p:nvSpPr>
        <p:spPr>
          <a:xfrm>
            <a:off x="5783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4"/>
          <p:cNvSpPr/>
          <p:nvPr/>
        </p:nvSpPr>
        <p:spPr>
          <a:xfrm>
            <a:off x="27118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6-30T03:12:23Z</dcterms:modified>
  <cp:revision>286</cp:revision>
  <dc:subject/>
  <dc:title>幻灯片 1</dc:title>
</cp:coreProperties>
</file>