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4BB-887A-4AFA-AFC0-54EBE324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C07-2461-434B-A519-D7B3C6B7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B64-967E-4636-846F-D0C3AC4A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536-A17F-430F-BC65-37749EDF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E814-140C-4BB4-BADB-3C2239BF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26BB-96DC-4CF0-9E06-79023FB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17FC-CAAB-4F8A-845E-8A10BC6E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FA42-0114-4236-9DB9-E6B1E435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FAC2-CC82-4BE6-9124-D08C7DF7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ED69-E3F3-4B7E-81C7-2170B71C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FF4A-C80D-4B0E-BC03-8EE7FED3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215-BEC2-4D92-A4E5-500F433A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60C1-4D31-499C-91D4-9D1CB79C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9FCC-7837-48E5-B552-4CB242DF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CA9B-9756-46E6-8490-9613531E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CD78-AFCA-4CFF-8FCA-29DB6A68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CCC2-F675-4C4F-B1A3-84B1C123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943-AEC4-4C79-9DC6-F4C3BB03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975-2805-48F3-8A46-BE4CF3F2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A8D-8A07-49CB-9165-52646404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0CF-0DBA-40E6-9EF2-B98281CC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0D6-98A0-4C26-A95E-D376FBB1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6CC-F8E5-4601-B6DF-6F254F0C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7A6-10E4-463F-8C78-3D96D56C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9F0B-F5E8-4BD5-9A12-27691BC583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9C62-EF56-474C-A83D-B1ECFB3F304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应用文写作研讨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Picture 4" descr="4499633_164253969000_2[1]"/>
          <p:cNvPicPr/>
          <p:nvPr/>
        </p:nvPicPr>
        <p:blipFill>
          <a:blip r:embed="rId1"/>
          <a:stretch/>
        </p:blipFill>
        <p:spPr>
          <a:xfrm>
            <a:off x="1619280" y="2708280"/>
            <a:ext cx="61196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二、掌握精华，善于概括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Picture 4" descr="4499633_164253969000_2[1]"/>
          <p:cNvPicPr/>
          <p:nvPr/>
        </p:nvPicPr>
        <p:blipFill>
          <a:blip r:embed="rId1"/>
          <a:stretch/>
        </p:blipFill>
        <p:spPr>
          <a:xfrm>
            <a:off x="1042920" y="1917720"/>
            <a:ext cx="6875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应用文定义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01360"/>
            <a:ext cx="85406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e0d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e0d"/>
                </a:solidFill>
                <a:latin typeface="Arial"/>
              </a:rPr>
              <a:t>应用文是国家机关、企事业单位、社会团体以及人民群众在行政管理、社会交往与活动过程中形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具有社会法定效力和规范体式</a:t>
            </a:r>
            <a:r>
              <a:rPr b="1" lang="zh-CN" sz="3600" spc="-1" strike="noStrike">
                <a:solidFill>
                  <a:srgbClr val="000e0d"/>
                </a:solidFill>
                <a:latin typeface="Arial"/>
              </a:rPr>
              <a:t>的文书，是依法行政和进行公务活动与社会活动的一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重要工具</a:t>
            </a:r>
            <a:r>
              <a:rPr b="1" lang="zh-CN" sz="3600" spc="-1" strike="noStrike">
                <a:solidFill>
                  <a:srgbClr val="000e0d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应用文的简明性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应用文的写作目的是为了处理或解决实际问题，它的语言在准确得体的基础上必须做到简洁明快、通俗易懂，不能堆砌辞藻、滥用修辞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如何确保应用文主旨鲜明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1615"/>
                </a:solidFill>
                <a:latin typeface="Arial"/>
                <a:ea typeface="仿宋"/>
              </a:rPr>
              <a:t>就是文章的基本思想、作者的态度表现得明确清楚，赞成什么，反对什么，肯定什么，否定什么，都要表述和交代得一清二楚，决不含糊其辞，模棱两可，以利于理解和执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如何使应用文语言平实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3399"/>
                </a:solidFill>
                <a:latin typeface="仿宋"/>
                <a:ea typeface="仿宋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仿宋"/>
                <a:ea typeface="仿宋"/>
              </a:rPr>
              <a:t>应用文是处理事务的工具，又是沟通信息的基本方式，因此，</a:t>
            </a: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强调</a:t>
            </a:r>
            <a:r>
              <a:rPr b="1" lang="zh-CN" sz="4000" spc="-1" strike="noStrike">
                <a:solidFill>
                  <a:srgbClr val="003399"/>
                </a:solidFill>
                <a:latin typeface="仿宋"/>
                <a:ea typeface="仿宋"/>
              </a:rPr>
              <a:t>用语平实和简洁， 文风朴实无华，语言实在。</a:t>
            </a: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强调</a:t>
            </a:r>
            <a:r>
              <a:rPr b="1" lang="zh-CN" sz="4000" spc="-1" strike="noStrike">
                <a:solidFill>
                  <a:srgbClr val="003399"/>
                </a:solidFill>
                <a:latin typeface="仿宋"/>
                <a:ea typeface="仿宋"/>
              </a:rPr>
              <a:t>直接叙述，不追求华丽词藻，也不搞形象描写，更不用含蓄、虚构的写作技巧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如何使应用文语言庄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1615"/>
                </a:solidFill>
                <a:latin typeface="Arial"/>
                <a:ea typeface="仿宋"/>
              </a:rPr>
              <a:t>表达得体、谨慎、严肃，讲究庄严持重，适度得体。应用文语言应适应不同文体的需要，说话讲究分寸、适度。这就要求应用文使用通俗易懂而又规范化的语言，不拿腔作调，不滥用形容词和堆砌词语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</a:rPr>
              <a:t>指示性通知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指示性通知是向下级机关部署工作、阐明工作活动的指导原则，要求下级机关办理或共同执行时所使用的通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是最常用的一种公文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计划的特点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，科学的预见性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、明确的目的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、措施的可行性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、执行的约束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合同的概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合同是平等主体的自然人、法人、其他经济组织之间设立、变更、终止民事权利义务关系的协议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三、联系实际，论述精练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9" name="Picture 4" descr="sy_49413335654[1]"/>
          <p:cNvPicPr/>
          <p:nvPr/>
        </p:nvPicPr>
        <p:blipFill>
          <a:blip r:embed="rId1"/>
          <a:stretch/>
        </p:blipFill>
        <p:spPr>
          <a:xfrm>
            <a:off x="2411280" y="2060640"/>
            <a:ext cx="479124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为明日出彩，而精心写作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7" name="Picture 4" descr="u=56855865,930438126&amp;fm=23&amp;gp=0[1]"/>
          <p:cNvPicPr/>
          <p:nvPr/>
        </p:nvPicPr>
        <p:blipFill>
          <a:blip r:embed="rId1"/>
          <a:stretch/>
        </p:blipFill>
        <p:spPr>
          <a:xfrm>
            <a:off x="900000" y="1917720"/>
            <a:ext cx="74628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论述应用文的实用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功能上是实用性最强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的文体。随着社会经济的发展，人们都离不开应用文这个传递信息，处理问题的工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目的上的实用性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。应用文写作和运用其根本目的都是为了处理或解决实际问题，为实现一定目的而写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容上应具有实用价值。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内容须符合实际，尤其是解决问题，和指导和要求性的应用文中内容应实用，能操作、能实行、</a:t>
            </a:r>
            <a:r>
              <a:rPr b="0" lang="zh-CN" sz="3200" spc="-1" strike="noStrike">
                <a:solidFill>
                  <a:srgbClr val="001615"/>
                </a:solidFill>
                <a:latin typeface="Arial"/>
              </a:rPr>
              <a:t>能实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如何使应用文主旨深刻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1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、要求深刻揭示事物本质及其内在规律，提出有利于发展的、有创见性的的意见、建议和办法，以指导实践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2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、应用文的主题不能停留在表面事实的罗列上，要从事实中归纳出观点，提炼出思想。能反映某种规律性的问题，帮助人们达到对某一客观事物的深刻认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简述报告和请示的区别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70136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行文时间不同</a:t>
            </a: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。请示须在事前行文；而报告在事前、事后及事中皆可行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行文的目的、作用不同</a:t>
            </a: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。请示目的请求上级批准、指示、重在呈请；报告旨在汇报工作，重在呈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写法不同</a:t>
            </a: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。报告的内容可大可小</a:t>
            </a: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;   </a:t>
            </a: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请示一文一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结尾用语不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5</a:t>
            </a: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受文机关处理方式不同</a:t>
            </a: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。请示属必办件，须及时批复；报告多数是阅件，一般不必行文回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e0d"/>
                </a:solidFill>
                <a:latin typeface="楷体"/>
                <a:ea typeface="楷体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总结与计划的区别和联系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计划确定任务目标、制定实施方案。   总结是对计划完成情况的检查、回顾。   两者的区别：内容上，计划是事前的安排，总结是事后的回顾。    两者的联系：计划是总结的前提，总结是计划的结论。计划是衡量工作完成程度的尺度，总结中是对计划中目标任务完成的情况确定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调查报告的特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4064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针对性</a:t>
            </a:r>
            <a:r>
              <a:rPr b="1" lang="zh-CN" sz="3200" spc="-1" strike="noStrike">
                <a:solidFill>
                  <a:srgbClr val="001615"/>
                </a:solidFill>
                <a:latin typeface="仿宋"/>
                <a:ea typeface="仿宋"/>
              </a:rPr>
              <a:t>。明确提出所针对性的问题，分析出问题的症结所在，提出具体可行的建议和对策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真实性</a:t>
            </a:r>
            <a:r>
              <a:rPr b="1" lang="zh-CN" sz="3200" spc="-1" strike="noStrike">
                <a:solidFill>
                  <a:srgbClr val="001615"/>
                </a:solidFill>
                <a:latin typeface="仿宋"/>
                <a:ea typeface="仿宋"/>
              </a:rPr>
              <a:t>。在于用事实说话，材料的真实和准确是首要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典型性</a:t>
            </a:r>
            <a:r>
              <a:rPr b="1" lang="zh-CN" sz="3200" spc="-1" strike="noStrike">
                <a:solidFill>
                  <a:srgbClr val="001615"/>
                </a:solidFill>
                <a:latin typeface="仿宋"/>
                <a:ea typeface="仿宋"/>
              </a:rPr>
              <a:t>。所揭示的问题是具有普遍性，所运用的材料是具有代表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论理性。</a:t>
            </a:r>
            <a:r>
              <a:rPr b="1" lang="zh-CN" sz="3200" spc="-1" strike="noStrike">
                <a:solidFill>
                  <a:srgbClr val="001615"/>
                </a:solidFill>
                <a:latin typeface="仿宋"/>
                <a:ea typeface="仿宋"/>
              </a:rPr>
              <a:t>看法或观点必须从调查的事物中概括出来，并用调查研究所获得的实际材料予以说明 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六、调查报告的写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一）写作四步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调查情况，搜集资料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;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归纳情况，分析问题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提出建议或观点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;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如何实施建议或论证观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二）写作四点总要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归纳全面、分析透彻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;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建议明确，观点鲜明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办法、实施要求符合实际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;4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解决问题方案具体可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论述传播文书表现手法文学化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1615"/>
                </a:solidFill>
                <a:latin typeface="Arial"/>
                <a:ea typeface="仿宋"/>
              </a:rPr>
              <a:t>传播文书语言灵活，多采用各种表现手法，以调动读者的注意力或用来感染读者。</a:t>
            </a:r>
            <a:r>
              <a:rPr b="0" lang="zh-CN" sz="4000" spc="-1" strike="noStrike">
                <a:solidFill>
                  <a:srgbClr val="000c0b"/>
                </a:solidFill>
                <a:latin typeface="楷体"/>
                <a:ea typeface="楷体"/>
              </a:rPr>
              <a:t>例广告、通讯、报告文学写作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615"/>
                </a:solidFill>
                <a:latin typeface="Arial"/>
                <a:ea typeface="仿宋"/>
              </a:rPr>
              <a:t>     </a:t>
            </a:r>
            <a:r>
              <a:rPr b="1" lang="zh-CN" sz="4000" spc="-1" strike="noStrike">
                <a:solidFill>
                  <a:srgbClr val="001615"/>
                </a:solidFill>
                <a:latin typeface="Arial"/>
                <a:ea typeface="仿宋"/>
              </a:rPr>
              <a:t>传播文书在表述上经常运用文学表现手法。这是传播文书区别于其他应用文书的最显著的特征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撰写经济合同应注意的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遵守《合同法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经济合同是依据法而签订的，应严格遵守《合同法》的规定。凡违反《合同法》的合同，均属无效合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格式规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具有固定的格式，以保证合同条款的齐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语言准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语言严谨、正确，数字准确，计量采用法定单位，正确使用术语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四、学以致用，重在写作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8" name="Picture 4" descr="u=3983912369,2963134663&amp;fm=90&amp;gp=0[1]"/>
          <p:cNvPicPr/>
          <p:nvPr/>
        </p:nvPicPr>
        <p:blipFill>
          <a:blip r:embed="rId1"/>
          <a:stretch/>
        </p:blipFill>
        <p:spPr>
          <a:xfrm>
            <a:off x="1547640" y="1628640"/>
            <a:ext cx="608652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应聘文书写作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1615"/>
                </a:solidFill>
                <a:latin typeface="楷体"/>
                <a:ea typeface="楷体"/>
              </a:rPr>
              <a:t>依据应聘文书特点和写作要求，给自己写一份应聘文书。自选其中一类型：自荐信、求职信（求职简历）和应聘书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615"/>
                </a:solidFill>
                <a:latin typeface="楷体"/>
                <a:ea typeface="楷体"/>
              </a:rPr>
              <a:t>  </a:t>
            </a:r>
            <a:r>
              <a:rPr b="0" lang="zh-CN" sz="4400" spc="-1" strike="noStrike">
                <a:solidFill>
                  <a:srgbClr val="001615"/>
                </a:solidFill>
                <a:latin typeface="楷体"/>
                <a:ea typeface="楷体"/>
              </a:rPr>
              <a:t>要求：</a:t>
            </a:r>
            <a:r>
              <a:rPr b="0" lang="zh-CN" sz="4400" spc="-1" strike="noStrike">
                <a:solidFill>
                  <a:srgbClr val="001615"/>
                </a:solidFill>
                <a:latin typeface="楷体"/>
                <a:ea typeface="楷体"/>
              </a:rPr>
              <a:t>1</a:t>
            </a:r>
            <a:r>
              <a:rPr b="0" lang="zh-CN" sz="4400" spc="-1" strike="noStrike">
                <a:solidFill>
                  <a:srgbClr val="001615"/>
                </a:solidFill>
                <a:latin typeface="楷体"/>
                <a:ea typeface="楷体"/>
              </a:rPr>
              <a:t>、具有针对性、自荐性、目的性，</a:t>
            </a:r>
            <a:r>
              <a:rPr b="0" lang="zh-CN" sz="4400" spc="-1" strike="noStrike">
                <a:solidFill>
                  <a:srgbClr val="001615"/>
                </a:solidFill>
                <a:latin typeface="楷体"/>
                <a:ea typeface="楷体"/>
              </a:rPr>
              <a:t>2</a:t>
            </a:r>
            <a:r>
              <a:rPr b="0" lang="zh-CN" sz="4400" spc="-1" strike="noStrike">
                <a:solidFill>
                  <a:srgbClr val="001615"/>
                </a:solidFill>
                <a:latin typeface="楷体"/>
                <a:ea typeface="楷体"/>
              </a:rPr>
              <a:t>、语言规范简明、条理清楚。</a:t>
            </a:r>
            <a:r>
              <a:rPr b="0" lang="zh-CN" sz="4400" spc="-1" strike="noStrike">
                <a:solidFill>
                  <a:srgbClr val="001615"/>
                </a:solidFill>
                <a:latin typeface="楷体"/>
                <a:ea typeface="楷体"/>
              </a:rPr>
              <a:t>3</a:t>
            </a:r>
            <a:r>
              <a:rPr b="0" lang="zh-CN" sz="4400" spc="-1" strike="noStrike">
                <a:solidFill>
                  <a:srgbClr val="001615"/>
                </a:solidFill>
                <a:latin typeface="楷体"/>
                <a:ea typeface="楷体"/>
              </a:rPr>
              <a:t>、字数</a:t>
            </a:r>
            <a:r>
              <a:rPr b="0" lang="zh-CN" sz="4400" spc="-1" strike="noStrike">
                <a:solidFill>
                  <a:srgbClr val="001615"/>
                </a:solidFill>
                <a:latin typeface="楷体"/>
                <a:ea typeface="楷体"/>
              </a:rPr>
              <a:t>800</a:t>
            </a:r>
            <a:r>
              <a:rPr b="0" lang="zh-CN" sz="4400" spc="-1" strike="noStrike">
                <a:solidFill>
                  <a:srgbClr val="001615"/>
                </a:solidFill>
                <a:latin typeface="楷体"/>
                <a:ea typeface="楷体"/>
              </a:rPr>
              <a:t>字以上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76360" y="3141720"/>
            <a:ext cx="1727280" cy="703440"/>
          </a:xfrm>
          <a:prstGeom prst="rect">
            <a:avLst/>
          </a:prstGeom>
          <a:solidFill>
            <a:srgbClr val="d8263f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左顾 </a:t>
            </a:r>
            <a:r>
              <a:rPr b="1" lang="zh-CN" sz="4000" spc="-1" strike="noStrike">
                <a:solidFill>
                  <a:srgbClr val="f0f60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508720" y="3141720"/>
            <a:ext cx="1655640" cy="642600"/>
          </a:xfrm>
          <a:prstGeom prst="rect">
            <a:avLst/>
          </a:prstGeom>
          <a:solidFill>
            <a:srgbClr val="d8263f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右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30600" y="2060640"/>
            <a:ext cx="2384280" cy="3313080"/>
          </a:xfrm>
          <a:prstGeom prst="rect">
            <a:avLst/>
          </a:prstGeom>
          <a:gradFill rotWithShape="0">
            <a:gsLst>
              <a:gs pos="0">
                <a:srgbClr val="1c4245">
                  <a:alpha val="60000"/>
                </a:srgbClr>
              </a:gs>
              <a:gs pos="100000">
                <a:srgbClr val="3d8f95">
                  <a:alpha val="57254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8060c"/>
                </a:solidFill>
                <a:latin typeface="Arial"/>
              </a:rPr>
              <a:t>心中生 花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2560" y="1268280"/>
            <a:ext cx="1944720" cy="1068840"/>
          </a:xfrm>
          <a:prstGeom prst="rect">
            <a:avLst/>
          </a:prstGeom>
          <a:solidFill>
            <a:srgbClr val="dc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应用文写作    要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419640" y="5734080"/>
            <a:ext cx="2160360" cy="703440"/>
          </a:xfrm>
          <a:prstGeom prst="rect">
            <a:avLst/>
          </a:prstGeom>
          <a:solidFill>
            <a:srgbClr val="797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下  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419640" y="620640"/>
            <a:ext cx="2087280" cy="642600"/>
          </a:xfrm>
          <a:prstGeom prst="rect">
            <a:avLst/>
          </a:prstGeom>
          <a:solidFill>
            <a:srgbClr val="9a58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上  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4356000" y="1125000"/>
            <a:ext cx="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356000" y="5013360"/>
            <a:ext cx="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指示性通知写作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每年三至四月是森林火灾高发期，依据公文特点和写作要求，请为河源市和平县人民政府拟写一个《关于切实加强森林防火工作的通知 》的指示性通知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   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要求：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1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，写明发文的缘由，指示的具体内容，执行的具体方法和要求。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2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、格式规范，语言准确、简明、庄重、平实。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3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、字数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800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字以上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Picture 4" descr="任飞翔壮志_图_副本"/>
          <p:cNvPicPr/>
          <p:nvPr/>
        </p:nvPicPr>
        <p:blipFill>
          <a:blip r:embed="rId1"/>
          <a:stretch/>
        </p:blipFill>
        <p:spPr>
          <a:xfrm>
            <a:off x="108000" y="404640"/>
            <a:ext cx="922968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在此深深祝愿同学们：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明日群鹰齐云飞，条条道路任扬鞭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Picture 4" descr="UE-31"/>
          <p:cNvPicPr/>
          <p:nvPr/>
        </p:nvPicPr>
        <p:blipFill>
          <a:blip r:embed="rId1"/>
          <a:stretch/>
        </p:blipFill>
        <p:spPr>
          <a:xfrm>
            <a:off x="1260360" y="2924280"/>
            <a:ext cx="65660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写作者需要全面提高综合素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807"/>
                </a:solidFill>
                <a:latin typeface="Arial"/>
                <a:ea typeface="楷体"/>
              </a:rPr>
              <a:t>应用写作是否正确、集中、鲜明、深刻，与写作者的综合素质有关，绝不仅是应用文写作者文字功力的问题。所以，写作者需要全面提高综合素质，才能写好应用文，才能在职场上脱颖而出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336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、精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熟记，厚积薄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9" name="Picture 3" descr="8886-11042319291461[1]"/>
          <p:cNvPicPr/>
          <p:nvPr/>
        </p:nvPicPr>
        <p:blipFill>
          <a:blip r:embed="rId1"/>
          <a:stretch/>
        </p:blipFill>
        <p:spPr>
          <a:xfrm>
            <a:off x="755640" y="1628640"/>
            <a:ext cx="7736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e0d"/>
                </a:solidFill>
                <a:latin typeface="仿宋"/>
                <a:ea typeface="仿宋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自从出现文字后，人类社会就出现了应用写作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仿宋"/>
                <a:ea typeface="仿宋"/>
              </a:rPr>
              <a:t>   </a:t>
            </a:r>
            <a:r>
              <a:rPr b="1" lang="zh-CN" sz="3200" spc="-1" strike="noStrike">
                <a:solidFill>
                  <a:srgbClr val="003399"/>
                </a:solidFill>
                <a:latin typeface="仿宋"/>
                <a:ea typeface="仿宋"/>
              </a:rPr>
              <a:t>人类最早的写作是为了解决各种实际需要而开始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e0d"/>
                </a:solidFill>
                <a:latin typeface="仿宋"/>
                <a:ea typeface="仿宋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就写作目的而言分就写作目的而言分文学写作和应用写作两大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e0d"/>
                </a:solidFill>
                <a:latin typeface="仿宋"/>
                <a:ea typeface="仿宋"/>
              </a:rPr>
              <a:t>   </a:t>
            </a:r>
            <a:r>
              <a:rPr b="1" lang="zh-CN" sz="3200" spc="-1" strike="noStrike">
                <a:solidFill>
                  <a:srgbClr val="003399"/>
                </a:solidFill>
                <a:latin typeface="仿宋"/>
                <a:ea typeface="仿宋"/>
              </a:rPr>
              <a:t>应用写作特点是：实用性、时效性、程式性、简明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e0d"/>
                </a:solidFill>
                <a:latin typeface="仿宋"/>
                <a:ea typeface="仿宋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应用文写作应确保主旨：正确、鲜明、集中、深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应用写作搜集材料要博、透、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e0d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应用文的语言特点是准确、简明、庄重、平实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e0d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公文是公务文书的总称，有广义和狭义之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e0d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按公文行文关系分上行文、平行文和下行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公文标题一般由“发文机关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事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文种”组成。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615"/>
                </a:solidFill>
                <a:latin typeface="仿宋"/>
                <a:ea typeface="仿宋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向上级机关请示问题，应当一文一事，只写一个主送机关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应用写作中，内容决定形式，形式又为内容服务，二者相辅相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615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应聘文书的三强特点是针对性强、自荐性强、目的性强</a:t>
            </a:r>
            <a:r>
              <a:rPr b="1" lang="zh-CN" sz="3600" spc="-1" strike="noStrike">
                <a:solidFill>
                  <a:srgbClr val="001615"/>
                </a:solidFill>
                <a:latin typeface="仿宋"/>
                <a:ea typeface="仿宋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常用的应聘文书有三类：自荐信、求职信和应聘书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615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求职简历一般有表格和通用式两种形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仿宋"/>
                <a:ea typeface="仿宋"/>
              </a:rPr>
              <a:t>  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规章制度文字表述必须严谨、周密、规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615"/>
                </a:solidFill>
                <a:latin typeface="仿宋"/>
                <a:ea typeface="仿宋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订立合同必须贯彻公平、诚信原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   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合同按形式分，可分为表格式合同、条款式合同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615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商业广告文学艺术性是常借助于文学表现形式进行广告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仿宋"/>
                <a:ea typeface="仿宋"/>
              </a:rPr>
              <a:t>与众不同”、“突破常规，出人意料”能赋于商业广告吸引力和生命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0:17:23Z</dcterms:created>
  <dc:creator>thinker</dc:creator>
  <dc:description/>
  <cp:keywords/>
  <dc:language>en-US</dc:language>
  <cp:lastModifiedBy>Administrator</cp:lastModifiedBy>
  <dcterms:modified xsi:type="dcterms:W3CDTF">2015-09-19T03:32:45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