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png" ContentType="image/png"/>
  <Override PartName="/ppt/media/image4.gif" ContentType="image/gif"/>
  <Override PartName="/ppt/media/image5.jpeg" ContentType="image/jpeg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65CB-52E3-4DC9-887F-EDA8AE76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370728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ACCF-701B-439A-8F9C-0D832676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1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37072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120" y="37072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95DB-39EA-4822-82D5-A70389C3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1400" y="76176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3480" y="76176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37072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1400" y="37072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3480" y="37072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E5CC-28AA-4EE3-B448-DF07B52B6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460D-9854-41E0-ACD7-BE9A6052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7617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CB78-EB1E-4C10-9B60-10A79CD2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6349-D5A2-478F-943E-75119EC8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3755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120" y="761760"/>
            <a:ext cx="3755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1EEE-8557-4B1D-AF3F-8E40C99E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50C8-2928-4B15-8980-04656786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133F-20B8-4847-B8B0-411D6F56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120" y="761760"/>
            <a:ext cx="3755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7072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367D-6F99-49F3-B1A9-7A0819D2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7617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C448-30C8-461A-924A-C14E5A78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3755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1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120" y="37072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1A5D-446A-4F7D-9B7F-AC60AE47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1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70728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7B93-9D5D-4CEC-BDE2-CA53E4CC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70728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B9E3-A78F-4595-B340-BC52AFAA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1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7072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120" y="37072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D840-12C4-4393-8AF7-3365D0A1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1400" y="76176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3480" y="76176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7072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1400" y="37072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3480" y="37072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5561-B7DB-4BF2-B022-2551781E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B116-E55C-424B-BFBF-C8A9E456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3755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120" y="761760"/>
            <a:ext cx="3755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6B06-1350-4ABF-B3B0-D05E5E20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C378-0D2B-44CA-AF63-6533CD19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AE8B-3A54-427F-ACBF-2A993E0D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120" y="761760"/>
            <a:ext cx="3755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37072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F3FA-204A-40EC-A8AB-FE0555CF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3755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120" y="37072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5AB5-91C5-4CCD-BC3E-AFC5F9B8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76176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370728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BA63-02DB-4450-8CF5-B8A255E9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pperplate Gothic Bold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7617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opperplate Gothic Bold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opperplate Gothic Bold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opperplate Gothic Bold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opperplate Gothic Bold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opperplate Gothic Bol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44BD-597C-44FD-8F6C-E65D77DDC076}" type="slidenum">
              <a:rPr b="0" lang="zh-CN" sz="1200" spc="-1" strike="noStrike">
                <a:solidFill>
                  <a:srgbClr val="ffffff"/>
                </a:solidFill>
                <a:latin typeface="Copperplate Gothic Bol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2362320"/>
            <a:ext cx="7924680" cy="121896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pperplate Gothic Bold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opperplate Gothic Bold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opperplate Gothic Bold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opperplate Gothic Bold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opperplate Gothic Bold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opperplate Gothic Bol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1D3C-75F4-45E9-8EDD-817A09E19FA9}" type="slidenum">
              <a:rPr b="0" lang="zh-CN" sz="1200" spc="-1" strike="noStrike">
                <a:solidFill>
                  <a:srgbClr val="ffffff"/>
                </a:solidFill>
                <a:latin typeface="Copperplate Gothic Bol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Franklin Gothic Dem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Franklin Gothic Dem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2362320"/>
            <a:ext cx="7924680" cy="121896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pperplate Gothic Bold"/>
                <a:ea typeface="宋体"/>
              </a:rPr>
              <a:t>Band Class</a:t>
            </a:r>
            <a:endParaRPr b="1" lang="en-US" sz="7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8960" y="3276360"/>
            <a:ext cx="7924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  <a:ea typeface="宋体"/>
              </a:rPr>
              <a:t>Your Subtitle Goes Here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553080" y="426708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54440" y="5680080"/>
            <a:ext cx="28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pt.downhot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43000" y="663480"/>
            <a:ext cx="7829640" cy="59673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pperplate Gothic Bold"/>
                <a:ea typeface="宋体"/>
              </a:rPr>
              <a:t>Your Topic Goes Here</a:t>
            </a: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  <a:ea typeface="宋体"/>
              </a:rPr>
              <a:t>Your subtopics go here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315200" y="48006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2362320"/>
            <a:ext cx="7924680" cy="121896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pperplate Gothic Bold"/>
                <a:ea typeface="宋体"/>
              </a:rPr>
              <a:t>Transitional Page</a:t>
            </a:r>
            <a:endParaRPr b="1" lang="en-US" sz="7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276360"/>
            <a:ext cx="7924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  <a:ea typeface="宋体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162920" y="48769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685800"/>
            <a:ext cx="777240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pperplate Gothic Bold"/>
                <a:ea typeface="宋体"/>
              </a:rPr>
              <a:t>Your Topic Goes Here</a:t>
            </a: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  <a:ea typeface="宋体"/>
              </a:rPr>
              <a:t>Your subtopics go here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934320" y="4495680"/>
            <a:ext cx="22096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6:16:05Z</dcterms:created>
  <dc:creator>Billgates</dc:creator>
  <dc:description/>
  <dc:language>en-US</dc:language>
  <cp:lastModifiedBy>微软中国</cp:lastModifiedBy>
  <dcterms:modified xsi:type="dcterms:W3CDTF">2015-06-26T02:52:05Z</dcterms:modified>
  <cp:revision>2</cp:revision>
  <dc:subject/>
  <dc:title>Band Cla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