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camera.wav" ContentType="audio/x-wav"/>
  <Override PartName="/ppt/media/image22.png" ContentType="image/png"/>
  <Override PartName="/ppt/media/image5.jpeg" ContentType="image/jpeg"/>
  <Override PartName="/ppt/media/laser.wav" ContentType="audio/x-wav"/>
  <Override PartName="/ppt/media/image4.png" ContentType="image/png"/>
  <Override PartName="/ppt/media/image8.jpeg" ContentType="image/jpeg"/>
  <Override PartName="/ppt/media/image3.png" ContentType="image/png"/>
  <Override PartName="/ppt/media/image2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jpeg" ContentType="image/jpeg"/>
  <Override PartName="/ppt/media/image15.png" ContentType="image/png"/>
  <Override PartName="/ppt/media/explode.wav" ContentType="audio/x-wav"/>
  <Override PartName="/ppt/media/image13.jpeg" ContentType="image/jpeg"/>
  <Override PartName="/ppt/media/image23.png" ContentType="image/png"/>
  <Override PartName="/ppt/media/image1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003-A1A5-47EB-88F6-0D14A3E3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200-6F72-4D1C-9A6D-D796967A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0BB-778D-4EBE-8DEA-54440BDB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1E6-9168-4831-B3A5-C8B8234B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A92-76F9-43F3-B32F-23C91CF2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FFE-2891-49F6-A324-2C84C012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29E-20E6-4AFD-9855-EEE47EAE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1B6-A4DF-4BEA-A500-582C6EE2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A01-B80F-4A7B-A80F-AB80241E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672-7DDD-4A0D-8D4D-8480C809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E25-4CBB-4019-A288-FAA7093A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9E0-CA6A-4E74-B32B-E40A5FE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D80A-A3E2-4592-BB40-40D0D43DA4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rcRect l="7001" t="31336" r="55005" b="23335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429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76360" y="2565000"/>
            <a:ext cx="990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5400" y="533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74800" y="765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74800" y="198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98800" y="472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71880" y="184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3320" y="342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95520" y="357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4292640"/>
            <a:ext cx="1447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03280" y="39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比一比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八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入     九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几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土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去     田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2" descr="说一说"/>
          <p:cNvPicPr/>
          <p:nvPr/>
        </p:nvPicPr>
        <p:blipFill>
          <a:blip r:embed="rId1"/>
          <a:stretch/>
        </p:blipFill>
        <p:spPr>
          <a:xfrm>
            <a:off x="395280" y="189000"/>
            <a:ext cx="15638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三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(shān    sān)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(sì    shì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山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(shān    sān)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十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(shí   sí 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( yī       ī ) 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五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(wǔ    ǔ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W020071011541390477859"/>
          <p:cNvPicPr/>
          <p:nvPr/>
        </p:nvPicPr>
        <p:blipFill>
          <a:blip r:embed="rId1"/>
          <a:srcRect l="0" t="60293" r="24014" b="0"/>
          <a:stretch/>
        </p:blipFill>
        <p:spPr>
          <a:xfrm>
            <a:off x="324000" y="476280"/>
            <a:ext cx="8569080" cy="3597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90" name="Text Box 3"/>
          <p:cNvSpPr/>
          <p:nvPr/>
        </p:nvSpPr>
        <p:spPr>
          <a:xfrm>
            <a:off x="1547640" y="4653000"/>
            <a:ext cx="6481800" cy="2287440"/>
          </a:xfrm>
          <a:prstGeom prst="rect">
            <a:avLst/>
          </a:prstGeom>
          <a:solidFill>
            <a:srgbClr val="ffffff">
              <a:alpha val="85000"/>
            </a:srgbClr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q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è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r sān  lǐ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 去   二 三   里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W020071011541390477859"/>
          <p:cNvPicPr/>
          <p:nvPr/>
        </p:nvPicPr>
        <p:blipFill>
          <a:blip r:embed="rId1"/>
          <a:srcRect l="0" t="26779" r="45651" b="37603"/>
          <a:stretch/>
        </p:blipFill>
        <p:spPr>
          <a:xfrm>
            <a:off x="395280" y="404640"/>
            <a:ext cx="8426520" cy="40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92" name="Text Box 4"/>
          <p:cNvSpPr/>
          <p:nvPr/>
        </p:nvSpPr>
        <p:spPr>
          <a:xfrm>
            <a:off x="1619280" y="4869000"/>
            <a:ext cx="6553080" cy="2287440"/>
          </a:xfrm>
          <a:prstGeom prst="rect">
            <a:avLst/>
          </a:prstGeom>
          <a:solidFill>
            <a:srgbClr val="ffffff">
              <a:alpha val="80000"/>
            </a:srgbClr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ān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c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ū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n  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ì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w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ǔ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ji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ā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烟   村  四 五  家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5" descr="W020071011541390477859"/>
          <p:cNvPicPr/>
          <p:nvPr/>
        </p:nvPicPr>
        <p:blipFill>
          <a:blip r:embed="rId1"/>
          <a:srcRect l="35062" t="0" r="0" b="58578"/>
          <a:stretch/>
        </p:blipFill>
        <p:spPr>
          <a:xfrm>
            <a:off x="395280" y="476280"/>
            <a:ext cx="8350200" cy="4105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94" name="Text Box 4"/>
          <p:cNvSpPr/>
          <p:nvPr/>
        </p:nvSpPr>
        <p:spPr>
          <a:xfrm>
            <a:off x="1547640" y="4892760"/>
            <a:ext cx="6553440" cy="2287440"/>
          </a:xfrm>
          <a:prstGeom prst="rect">
            <a:avLst/>
          </a:prstGeom>
          <a:solidFill>
            <a:srgbClr val="ffffff">
              <a:alpha val="78000"/>
            </a:srgbClr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nɡ t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i li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q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ī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zuò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亭  台   六 七  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rcRect l="0" t="0" r="104" b="22"/>
          <a:stretch/>
        </p:blipFill>
        <p:spPr>
          <a:xfrm>
            <a:off x="0" y="0"/>
            <a:ext cx="4145040" cy="4191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rcRect l="0" t="0" r="-97" b="88"/>
          <a:stretch/>
        </p:blipFill>
        <p:spPr>
          <a:xfrm>
            <a:off x="2438280" y="1905120"/>
            <a:ext cx="3502080" cy="44956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rcRect l="0" t="0" r="57" b="0"/>
          <a:stretch/>
        </p:blipFill>
        <p:spPr>
          <a:xfrm>
            <a:off x="5334120" y="2963880"/>
            <a:ext cx="3809880" cy="3886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572000" y="228600"/>
            <a:ext cx="457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亭台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4" name="explode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5" descr="W020071011541390477859"/>
          <p:cNvPicPr/>
          <p:nvPr/>
        </p:nvPicPr>
        <p:blipFill>
          <a:blip r:embed="rId1"/>
          <a:srcRect l="0" t="60293" r="0" b="0"/>
          <a:stretch/>
        </p:blipFill>
        <p:spPr>
          <a:xfrm>
            <a:off x="539640" y="549360"/>
            <a:ext cx="8209080" cy="3668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00" name="Text Box 4"/>
          <p:cNvSpPr/>
          <p:nvPr/>
        </p:nvSpPr>
        <p:spPr>
          <a:xfrm>
            <a:off x="1258920" y="4724280"/>
            <a:ext cx="6912000" cy="2287440"/>
          </a:xfrm>
          <a:prstGeom prst="rect">
            <a:avLst/>
          </a:prstGeom>
          <a:solidFill>
            <a:srgbClr val="ffffff">
              <a:alpha val="80000"/>
            </a:srgbClr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ā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jiǔ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sh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zhī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huā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八  九   十  枝  花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"/>
          <p:cNvSpPr/>
          <p:nvPr/>
        </p:nvSpPr>
        <p:spPr>
          <a:xfrm>
            <a:off x="1258920" y="44280"/>
            <a:ext cx="6553080" cy="6120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692360" y="331920"/>
            <a:ext cx="633564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二三里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     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yí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qù   èr  sān  lǐ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一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去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二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三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里，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y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ān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c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ū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n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ì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   w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ǔ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ji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ā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烟  村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四   五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家。     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tínɡ t</a:t>
            </a:r>
            <a:r>
              <a:rPr b="1" lang="el-GR" sz="3600" spc="-1" strike="noStrike">
                <a:solidFill>
                  <a:srgbClr val="3333cc"/>
                </a:solidFill>
                <a:latin typeface="Arial"/>
                <a:ea typeface="黑体"/>
              </a:rPr>
              <a:t>ά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i liù  q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ī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zuò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亭  台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六   七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座 ，             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b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ā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jiǔ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hí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zhī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huā 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八  九   十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 枝  花。</a:t>
            </a:r>
            <a:r>
              <a:rPr b="1" lang="zh-CN" sz="4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08000" y="6021360"/>
            <a:ext cx="8820000" cy="79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诗中的“二三”、“四五”、“六七”、“八九十”等数字是指真实的数量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说说你是怎么理解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>
            <a:lum bright="70000" contrast="-70000"/>
          </a:blip>
          <a:srcRect l="7001" t="31336" r="55005" b="23335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762120" y="533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549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í  qù  èr  sān  l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9907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905040"/>
            <a:ext cx="27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去二三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184464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í  qù  èr sān  l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2" action="ppaction://hlinksldjump"/>
          </p:cNvPr>
          <p:cNvSpPr/>
          <p:nvPr/>
        </p:nvSpPr>
        <p:spPr>
          <a:xfrm>
            <a:off x="250920" y="223992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去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 三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里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2971800"/>
            <a:ext cx="30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ān  cūn   sì   wǔ   ji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3" action="ppaction://hlinksldjump"/>
          </p:cNvPr>
          <p:cNvSpPr/>
          <p:nvPr/>
        </p:nvSpPr>
        <p:spPr>
          <a:xfrm>
            <a:off x="324000" y="33526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烟  村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  五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4114800"/>
            <a:ext cx="31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ínɡ  tái   liù   qī   zu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48769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rId4" action="ppaction://hlinksldjump"/>
          </p:cNvPr>
          <p:cNvSpPr/>
          <p:nvPr/>
        </p:nvSpPr>
        <p:spPr>
          <a:xfrm>
            <a:off x="324000" y="44496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亭  台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六  七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360" y="571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4000" y="51814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ā   jiǔ   shí   zhī  hu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6324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rId5" action="ppaction://hlinksldjump"/>
          </p:cNvPr>
          <p:cNvSpPr/>
          <p:nvPr/>
        </p:nvSpPr>
        <p:spPr>
          <a:xfrm>
            <a:off x="324000" y="56386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八  九  十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枝 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6093000"/>
            <a:ext cx="863640" cy="765000"/>
          </a:xfrm>
          <a:custGeom>
            <a:avLst/>
            <a:gdLst>
              <a:gd name="textAreaLeft" fmla="*/ 49320 w 863640"/>
              <a:gd name="textAreaRight" fmla="*/ 814320 w 863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4384" h="21600">
                <a:moveTo>
                  <a:pt x="0" y="0"/>
                </a:moveTo>
                <a:lnTo>
                  <a:pt x="24384" y="0"/>
                </a:lnTo>
                <a:lnTo>
                  <a:pt x="24384" y="21600"/>
                </a:lnTo>
                <a:lnTo>
                  <a:pt x="0" y="21600"/>
                </a:lnTo>
                <a:close/>
              </a:path>
              <a:path fill="lightenLess" w="24384" h="21600">
                <a:moveTo>
                  <a:pt x="0" y="0"/>
                </a:moveTo>
                <a:lnTo>
                  <a:pt x="24384" y="0"/>
                </a:lnTo>
                <a:lnTo>
                  <a:pt x="22984" y="1400"/>
                </a:lnTo>
                <a:lnTo>
                  <a:pt x="1400" y="1400"/>
                </a:lnTo>
                <a:close/>
              </a:path>
              <a:path fill="darken" w="24384" h="21600">
                <a:moveTo>
                  <a:pt x="24384" y="0"/>
                </a:moveTo>
                <a:lnTo>
                  <a:pt x="24384" y="21600"/>
                </a:lnTo>
                <a:lnTo>
                  <a:pt x="22984" y="20200"/>
                </a:lnTo>
                <a:lnTo>
                  <a:pt x="22984" y="1400"/>
                </a:lnTo>
                <a:close/>
              </a:path>
              <a:path fill="darkenLess" w="24384" h="21600">
                <a:moveTo>
                  <a:pt x="2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84" y="20200"/>
                </a:lnTo>
                <a:close/>
              </a:path>
              <a:path fill="lighten" w="2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84" h="21600">
                <a:moveTo>
                  <a:pt x="5185" y="7493"/>
                </a:moveTo>
                <a:lnTo>
                  <a:pt x="8693" y="7493"/>
                </a:lnTo>
                <a:lnTo>
                  <a:pt x="8693" y="12828"/>
                </a:lnTo>
                <a:cubicBezTo>
                  <a:pt x="8693" y="13751"/>
                  <a:pt x="9494" y="14482"/>
                  <a:pt x="10530" y="14482"/>
                </a:cubicBezTo>
                <a:lnTo>
                  <a:pt x="12192" y="14482"/>
                </a:lnTo>
                <a:cubicBezTo>
                  <a:pt x="13228" y="14482"/>
                  <a:pt x="14028" y="13751"/>
                  <a:pt x="14028" y="12828"/>
                </a:cubicBezTo>
                <a:lnTo>
                  <a:pt x="14028" y="7493"/>
                </a:lnTo>
                <a:lnTo>
                  <a:pt x="12192" y="7493"/>
                </a:lnTo>
                <a:lnTo>
                  <a:pt x="15700" y="3985"/>
                </a:lnTo>
                <a:lnTo>
                  <a:pt x="19372" y="7493"/>
                </a:lnTo>
                <a:lnTo>
                  <a:pt x="17536" y="7493"/>
                </a:lnTo>
                <a:lnTo>
                  <a:pt x="17536" y="12828"/>
                </a:lnTo>
                <a:cubicBezTo>
                  <a:pt x="17536" y="15596"/>
                  <a:pt x="14960" y="18155"/>
                  <a:pt x="12192" y="18155"/>
                </a:cubicBezTo>
                <a:lnTo>
                  <a:pt x="10530" y="18155"/>
                </a:lnTo>
                <a:cubicBezTo>
                  <a:pt x="7762" y="18155"/>
                  <a:pt x="5185" y="15596"/>
                  <a:pt x="5185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rId6" action="ppaction://hlinksldjump"/>
          </p:cNvPr>
          <p:cNvSpPr/>
          <p:nvPr/>
        </p:nvSpPr>
        <p:spPr>
          <a:xfrm>
            <a:off x="6300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7"/>
          <a:stretch/>
        </p:blipFill>
        <p:spPr>
          <a:xfrm>
            <a:off x="3564000" y="571680"/>
            <a:ext cx="5580000" cy="5715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5"/>
          <p:cNvSpPr/>
          <p:nvPr/>
        </p:nvSpPr>
        <p:spPr>
          <a:xfrm>
            <a:off x="2664000" y="0"/>
            <a:ext cx="6480000" cy="549360"/>
          </a:xfrm>
          <a:prstGeom prst="cloudCallout">
            <a:avLst>
              <a:gd name="adj1" fmla="val -75893"/>
              <a:gd name="adj2" fmla="val 132657"/>
            </a:avLst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为古诗配上自己喜欢的动作，背诵课文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257228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32000" y="536256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404640"/>
            <a:ext cx="459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108000" y="907920"/>
            <a:ext cx="9144000" cy="4247640"/>
          </a:xfrm>
          <a:prstGeom prst="rect">
            <a:avLst/>
          </a:prstGeom>
          <a:solidFill>
            <a:srgbClr val="ffffff">
              <a:alpha val="70000"/>
            </a:srgbClr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yī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è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ān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l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ù    q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ǔ  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763640" y="549360"/>
            <a:ext cx="5400720" cy="68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Dotum"/>
                <a:ea typeface="Dotum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yǒng xuě  shī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咏  雪 诗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郑板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i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片二片三四片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六七八九十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DotumChe"/>
                <a:ea typeface="DotumChe"/>
              </a:rPr>
              <a:t>qiān wàn  wú shù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片万片无数片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DotumChe"/>
                <a:ea typeface="DotumChe"/>
              </a:rPr>
              <a:t>fēi rù lú  zǒng  ji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入芦花总不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908000" y="549360"/>
            <a:ext cx="63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谜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一线二线三四线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五六七八九十线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千条线，万条线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掉进河里都不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050920" y="1484280"/>
            <a:ext cx="60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一片一片又一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两片三片四五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六片七片八九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香山红叶红满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3"/>
          <p:cNvSpPr/>
          <p:nvPr/>
        </p:nvSpPr>
        <p:spPr>
          <a:xfrm>
            <a:off x="0" y="404640"/>
            <a:ext cx="880740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4" descr="2H303013a6"/>
          <p:cNvPicPr/>
          <p:nvPr/>
        </p:nvPicPr>
        <p:blipFill>
          <a:blip r:embed="rId1"/>
          <a:srcRect l="0" t="6878" r="87502" b="60386"/>
          <a:stretch/>
        </p:blipFill>
        <p:spPr>
          <a:xfrm>
            <a:off x="1547640" y="189000"/>
            <a:ext cx="1090800" cy="12920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5"/>
          <p:cNvGrpSpPr/>
          <p:nvPr/>
        </p:nvGrpSpPr>
        <p:grpSpPr>
          <a:xfrm>
            <a:off x="1116000" y="3500280"/>
            <a:ext cx="1999800" cy="1049040"/>
            <a:chOff x="1116000" y="3500280"/>
            <a:chExt cx="1999800" cy="1049040"/>
          </a:xfrm>
        </p:grpSpPr>
        <p:pic>
          <p:nvPicPr>
            <p:cNvPr id="332" name="Picture 6" descr="9_065103_1"/>
            <p:cNvPicPr/>
            <p:nvPr/>
          </p:nvPicPr>
          <p:blipFill>
            <a:blip r:embed="rId2"/>
            <a:srcRect l="0" t="10284" r="79566" b="66558"/>
            <a:stretch/>
          </p:blipFill>
          <p:spPr>
            <a:xfrm>
              <a:off x="1116000" y="3500280"/>
              <a:ext cx="573120" cy="64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7" descr="9_065103_1"/>
            <p:cNvPicPr/>
            <p:nvPr/>
          </p:nvPicPr>
          <p:blipFill>
            <a:blip r:embed="rId3"/>
            <a:srcRect l="0" t="10284" r="79566" b="66558"/>
            <a:stretch/>
          </p:blipFill>
          <p:spPr>
            <a:xfrm>
              <a:off x="1653840" y="3500280"/>
              <a:ext cx="573120" cy="64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" descr="9_065103_1"/>
            <p:cNvPicPr/>
            <p:nvPr/>
          </p:nvPicPr>
          <p:blipFill>
            <a:blip r:embed="rId4"/>
            <a:srcRect l="0" t="10284" r="79566" b="66558"/>
            <a:stretch/>
          </p:blipFill>
          <p:spPr>
            <a:xfrm>
              <a:off x="2138400" y="3500280"/>
              <a:ext cx="573120" cy="64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9" descr="9_065103_1"/>
            <p:cNvPicPr/>
            <p:nvPr/>
          </p:nvPicPr>
          <p:blipFill>
            <a:blip r:embed="rId5"/>
            <a:srcRect l="0" t="10284" r="79566" b="66558"/>
            <a:stretch/>
          </p:blipFill>
          <p:spPr>
            <a:xfrm>
              <a:off x="2542680" y="3500280"/>
              <a:ext cx="573120" cy="64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10" descr="9_065103_1"/>
            <p:cNvPicPr/>
            <p:nvPr/>
          </p:nvPicPr>
          <p:blipFill>
            <a:blip r:embed="rId6"/>
            <a:srcRect l="0" t="10284" r="79566" b="66558"/>
            <a:stretch/>
          </p:blipFill>
          <p:spPr>
            <a:xfrm>
              <a:off x="1331280" y="3903840"/>
              <a:ext cx="573120" cy="64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11" descr="9_065103_1"/>
            <p:cNvPicPr/>
            <p:nvPr/>
          </p:nvPicPr>
          <p:blipFill>
            <a:blip r:embed="rId7"/>
            <a:srcRect l="0" t="10284" r="79566" b="66558"/>
            <a:stretch/>
          </p:blipFill>
          <p:spPr>
            <a:xfrm>
              <a:off x="1896120" y="3903840"/>
              <a:ext cx="573120" cy="64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12" descr="9_065103_1"/>
            <p:cNvPicPr/>
            <p:nvPr/>
          </p:nvPicPr>
          <p:blipFill>
            <a:blip r:embed="rId8"/>
            <a:srcRect l="0" t="10284" r="79566" b="66558"/>
            <a:stretch/>
          </p:blipFill>
          <p:spPr>
            <a:xfrm>
              <a:off x="2380320" y="3903840"/>
              <a:ext cx="573120" cy="64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13"/>
          <p:cNvGrpSpPr/>
          <p:nvPr/>
        </p:nvGrpSpPr>
        <p:grpSpPr>
          <a:xfrm>
            <a:off x="5724360" y="981000"/>
            <a:ext cx="1698480" cy="585360"/>
            <a:chOff x="5724360" y="981000"/>
            <a:chExt cx="1698480" cy="585360"/>
          </a:xfrm>
        </p:grpSpPr>
        <p:pic>
          <p:nvPicPr>
            <p:cNvPr id="340" name="Picture 14" descr="ai288"/>
            <p:cNvPicPr/>
            <p:nvPr/>
          </p:nvPicPr>
          <p:blipFill>
            <a:blip r:embed="rId9"/>
            <a:srcRect l="82128" t="64475" r="8286" b="23598"/>
            <a:stretch/>
          </p:blipFill>
          <p:spPr>
            <a:xfrm>
              <a:off x="5724360" y="981000"/>
              <a:ext cx="606600" cy="56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15" descr="ai288"/>
            <p:cNvPicPr/>
            <p:nvPr/>
          </p:nvPicPr>
          <p:blipFill>
            <a:blip r:embed="rId10"/>
            <a:srcRect l="82128" t="64475" r="8286" b="23598"/>
            <a:stretch/>
          </p:blipFill>
          <p:spPr>
            <a:xfrm>
              <a:off x="6270840" y="997920"/>
              <a:ext cx="6066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16" descr="ai288"/>
            <p:cNvPicPr/>
            <p:nvPr/>
          </p:nvPicPr>
          <p:blipFill>
            <a:blip r:embed="rId11"/>
            <a:srcRect l="82128" t="64475" r="8286" b="23598"/>
            <a:stretch/>
          </p:blipFill>
          <p:spPr>
            <a:xfrm>
              <a:off x="6816240" y="997920"/>
              <a:ext cx="60660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17"/>
          <p:cNvGrpSpPr/>
          <p:nvPr/>
        </p:nvGrpSpPr>
        <p:grpSpPr>
          <a:xfrm>
            <a:off x="5076720" y="3284640"/>
            <a:ext cx="2908080" cy="1091880"/>
            <a:chOff x="5076720" y="3284640"/>
            <a:chExt cx="2908080" cy="1091880"/>
          </a:xfrm>
        </p:grpSpPr>
        <p:pic>
          <p:nvPicPr>
            <p:cNvPr id="344" name="Picture 18" descr="200787113051112_2"/>
            <p:cNvPicPr/>
            <p:nvPr/>
          </p:nvPicPr>
          <p:blipFill>
            <a:blip r:embed="rId12"/>
            <a:stretch/>
          </p:blipFill>
          <p:spPr>
            <a:xfrm>
              <a:off x="5076720" y="3606840"/>
              <a:ext cx="726480" cy="4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19" descr="200787113051112_2"/>
            <p:cNvPicPr/>
            <p:nvPr/>
          </p:nvPicPr>
          <p:blipFill>
            <a:blip r:embed="rId13"/>
            <a:stretch/>
          </p:blipFill>
          <p:spPr>
            <a:xfrm>
              <a:off x="5803200" y="3606840"/>
              <a:ext cx="726480" cy="4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0" descr="200787113051112_2"/>
            <p:cNvPicPr/>
            <p:nvPr/>
          </p:nvPicPr>
          <p:blipFill>
            <a:blip r:embed="rId14"/>
            <a:stretch/>
          </p:blipFill>
          <p:spPr>
            <a:xfrm>
              <a:off x="6529680" y="3606840"/>
              <a:ext cx="726480" cy="4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21" descr="200787113051112_2"/>
            <p:cNvPicPr/>
            <p:nvPr/>
          </p:nvPicPr>
          <p:blipFill>
            <a:blip r:embed="rId15"/>
            <a:stretch/>
          </p:blipFill>
          <p:spPr>
            <a:xfrm>
              <a:off x="7176240" y="3606840"/>
              <a:ext cx="726480" cy="4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22" descr="200787113051112_2"/>
            <p:cNvPicPr/>
            <p:nvPr/>
          </p:nvPicPr>
          <p:blipFill>
            <a:blip r:embed="rId16"/>
            <a:stretch/>
          </p:blipFill>
          <p:spPr>
            <a:xfrm>
              <a:off x="5076720" y="3929400"/>
              <a:ext cx="726480" cy="4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23" descr="200787113051112_2"/>
            <p:cNvPicPr/>
            <p:nvPr/>
          </p:nvPicPr>
          <p:blipFill>
            <a:blip r:embed="rId17"/>
            <a:stretch/>
          </p:blipFill>
          <p:spPr>
            <a:xfrm>
              <a:off x="5803200" y="3929400"/>
              <a:ext cx="726480" cy="4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24" descr="200787113051112_2"/>
            <p:cNvPicPr/>
            <p:nvPr/>
          </p:nvPicPr>
          <p:blipFill>
            <a:blip r:embed="rId18"/>
            <a:stretch/>
          </p:blipFill>
          <p:spPr>
            <a:xfrm>
              <a:off x="6529680" y="3929400"/>
              <a:ext cx="726480" cy="4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25" descr="200787113051112_2"/>
            <p:cNvPicPr/>
            <p:nvPr/>
          </p:nvPicPr>
          <p:blipFill>
            <a:blip r:embed="rId19"/>
            <a:stretch/>
          </p:blipFill>
          <p:spPr>
            <a:xfrm>
              <a:off x="7258320" y="3929400"/>
              <a:ext cx="726480" cy="4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26" descr="200787113051112_2"/>
            <p:cNvPicPr/>
            <p:nvPr/>
          </p:nvPicPr>
          <p:blipFill>
            <a:blip r:embed="rId20"/>
            <a:stretch/>
          </p:blipFill>
          <p:spPr>
            <a:xfrm>
              <a:off x="6046920" y="3284640"/>
              <a:ext cx="726480" cy="44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Text Box 27"/>
          <p:cNvSpPr/>
          <p:nvPr/>
        </p:nvSpPr>
        <p:spPr>
          <a:xfrm>
            <a:off x="250920" y="1413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   ）头牛    （   ）条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1"/>
          <p:cNvSpPr/>
          <p:nvPr/>
        </p:nvSpPr>
        <p:spPr>
          <a:xfrm>
            <a:off x="900000" y="1628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2"/>
          <p:cNvSpPr/>
          <p:nvPr/>
        </p:nvSpPr>
        <p:spPr>
          <a:xfrm>
            <a:off x="5364000" y="1557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3"/>
          <p:cNvSpPr/>
          <p:nvPr/>
        </p:nvSpPr>
        <p:spPr>
          <a:xfrm>
            <a:off x="826920" y="4653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4"/>
          <p:cNvSpPr/>
          <p:nvPr/>
        </p:nvSpPr>
        <p:spPr>
          <a:xfrm>
            <a:off x="5580000" y="45086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0920" y="4581360"/>
            <a:ext cx="835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    ）棵树               （   ）架飞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832040" y="765000"/>
            <a:ext cx="5832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量词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一头牛，两匹马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三条鲤鱼四只鸭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五本书，六支笔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七棵果树八朵花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九架飞机十辆车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量词千万别说差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133720" y="160020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í   qù   èr  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ān </a:t>
            </a:r>
            <a:r>
              <a:rPr b="0" lang="en-US" sz="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33720" y="274320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yān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ūn 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ì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wǔ  ji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38862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tínɡ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方正姚体"/>
              </a:rPr>
              <a:t>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i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liù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qī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zu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33720" y="502920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ā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jiǔ  shí  zhī  hu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22860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í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qù  </a:t>
            </a:r>
            <a:r>
              <a:rPr b="0" lang="en-US" sz="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èr sān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95640" y="1916280"/>
            <a:ext cx="603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 去 二 三 里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95640" y="3068640"/>
            <a:ext cx="596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 村 四 五 家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09680" y="4191120"/>
            <a:ext cx="60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亭 台 六 七 座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09680" y="541008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 九 十 枝 花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40000" y="83664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  去 二 三 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2286000" y="4419720"/>
            <a:ext cx="55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2" action="ppaction://hlinksldjump"/>
          </p:cNvPr>
          <p:cNvSpPr/>
          <p:nvPr/>
        </p:nvSpPr>
        <p:spPr>
          <a:xfrm>
            <a:off x="1979640" y="386064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1258920" y="44280"/>
            <a:ext cx="6553080" cy="6120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692360" y="331920"/>
            <a:ext cx="633564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二三里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     </a:t>
            </a:r>
            <a:br>
              <a:rPr sz="5400"/>
            </a:b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y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qù   èr  sān  lǐ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(   )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去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(  ) (  )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里，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y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ān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c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ū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n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ì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    w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ǔ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 ji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ā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烟  村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（ ）（ ）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家。     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tínɡ t</a:t>
            </a:r>
            <a:r>
              <a:rPr b="1" lang="el-GR" sz="3600" spc="-1" strike="noStrike">
                <a:solidFill>
                  <a:srgbClr val="3333cc"/>
                </a:solidFill>
                <a:latin typeface="Arial"/>
                <a:ea typeface="黑体"/>
              </a:rPr>
              <a:t>ά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i liù   q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ī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zuò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亭  台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（ ） （ ）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座 ，             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b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ā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　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jiǔ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hí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zhī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huā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（）（　）（　）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枝  　花。</a:t>
            </a:r>
            <a:r>
              <a:rPr b="1" lang="zh-CN" sz="4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3352680" y="2209680"/>
          <a:ext cx="2286000" cy="229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1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6" name="Group 13"/>
          <p:cNvGrpSpPr/>
          <p:nvPr/>
        </p:nvGrpSpPr>
        <p:grpSpPr>
          <a:xfrm>
            <a:off x="3733920" y="838080"/>
            <a:ext cx="1447560" cy="1447920"/>
            <a:chOff x="3733920" y="838080"/>
            <a:chExt cx="1447560" cy="1447920"/>
          </a:xfrm>
        </p:grpSpPr>
        <p:sp>
          <p:nvSpPr>
            <p:cNvPr id="377" name="Line 14"/>
            <p:cNvSpPr/>
            <p:nvPr/>
          </p:nvSpPr>
          <p:spPr>
            <a:xfrm flipV="1">
              <a:off x="4495680" y="1447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15"/>
            <p:cNvSpPr/>
            <p:nvPr/>
          </p:nvSpPr>
          <p:spPr>
            <a:xfrm>
              <a:off x="3733920" y="8380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竖中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6"/>
          <p:cNvGrpSpPr/>
          <p:nvPr/>
        </p:nvGrpSpPr>
        <p:grpSpPr>
          <a:xfrm>
            <a:off x="2133720" y="3885840"/>
            <a:ext cx="1676160" cy="1511640"/>
            <a:chOff x="2133720" y="3885840"/>
            <a:chExt cx="1676160" cy="1511640"/>
          </a:xfrm>
        </p:grpSpPr>
        <p:sp>
          <p:nvSpPr>
            <p:cNvPr id="380" name="Line 17"/>
            <p:cNvSpPr/>
            <p:nvPr/>
          </p:nvSpPr>
          <p:spPr>
            <a:xfrm flipV="1">
              <a:off x="2971800" y="3885840"/>
              <a:ext cx="8380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18"/>
            <p:cNvSpPr/>
            <p:nvPr/>
          </p:nvSpPr>
          <p:spPr>
            <a:xfrm>
              <a:off x="2133720" y="48769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下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19"/>
          <p:cNvGrpSpPr/>
          <p:nvPr/>
        </p:nvGrpSpPr>
        <p:grpSpPr>
          <a:xfrm>
            <a:off x="5105520" y="3962520"/>
            <a:ext cx="1752480" cy="1358640"/>
            <a:chOff x="5105520" y="3962520"/>
            <a:chExt cx="1752480" cy="1358640"/>
          </a:xfrm>
        </p:grpSpPr>
        <p:sp>
          <p:nvSpPr>
            <p:cNvPr id="383" name="Line 20"/>
            <p:cNvSpPr/>
            <p:nvPr/>
          </p:nvSpPr>
          <p:spPr>
            <a:xfrm>
              <a:off x="5105520" y="3962520"/>
              <a:ext cx="106668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1"/>
            <p:cNvSpPr/>
            <p:nvPr/>
          </p:nvSpPr>
          <p:spPr>
            <a:xfrm>
              <a:off x="5410080" y="48006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下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22"/>
          <p:cNvGrpSpPr/>
          <p:nvPr/>
        </p:nvGrpSpPr>
        <p:grpSpPr>
          <a:xfrm>
            <a:off x="1981080" y="1219320"/>
            <a:ext cx="1905120" cy="1523880"/>
            <a:chOff x="1981080" y="1219320"/>
            <a:chExt cx="1905120" cy="1523880"/>
          </a:xfrm>
        </p:grpSpPr>
        <p:sp>
          <p:nvSpPr>
            <p:cNvPr id="386" name="Line 23"/>
            <p:cNvSpPr/>
            <p:nvPr/>
          </p:nvSpPr>
          <p:spPr>
            <a:xfrm>
              <a:off x="2895480" y="1828800"/>
              <a:ext cx="9907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24"/>
            <p:cNvSpPr/>
            <p:nvPr/>
          </p:nvSpPr>
          <p:spPr>
            <a:xfrm>
              <a:off x="1981080" y="121932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上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Group 25"/>
          <p:cNvGrpSpPr/>
          <p:nvPr/>
        </p:nvGrpSpPr>
        <p:grpSpPr>
          <a:xfrm>
            <a:off x="5257800" y="1143000"/>
            <a:ext cx="1447920" cy="1523520"/>
            <a:chOff x="5257800" y="1143000"/>
            <a:chExt cx="1447920" cy="1523520"/>
          </a:xfrm>
        </p:grpSpPr>
        <p:sp>
          <p:nvSpPr>
            <p:cNvPr id="389" name="Line 26"/>
            <p:cNvSpPr/>
            <p:nvPr/>
          </p:nvSpPr>
          <p:spPr>
            <a:xfrm flipV="1">
              <a:off x="5257800" y="1676160"/>
              <a:ext cx="68580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5410080" y="11430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上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Group 28"/>
          <p:cNvGrpSpPr/>
          <p:nvPr/>
        </p:nvGrpSpPr>
        <p:grpSpPr>
          <a:xfrm>
            <a:off x="5486400" y="2590920"/>
            <a:ext cx="1585800" cy="947160"/>
            <a:chOff x="5486400" y="2590920"/>
            <a:chExt cx="1585800" cy="947160"/>
          </a:xfrm>
        </p:grpSpPr>
        <p:sp>
          <p:nvSpPr>
            <p:cNvPr id="392" name="Line 29"/>
            <p:cNvSpPr/>
            <p:nvPr/>
          </p:nvSpPr>
          <p:spPr>
            <a:xfrm>
              <a:off x="5486400" y="33526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30"/>
            <p:cNvSpPr/>
            <p:nvPr/>
          </p:nvSpPr>
          <p:spPr>
            <a:xfrm>
              <a:off x="6400800" y="2590920"/>
              <a:ext cx="67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横中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Text Box 32"/>
          <p:cNvSpPr/>
          <p:nvPr/>
        </p:nvSpPr>
        <p:spPr>
          <a:xfrm>
            <a:off x="324000" y="333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认识田字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3"/>
          <p:cNvSpPr/>
          <p:nvPr/>
        </p:nvSpPr>
        <p:spPr>
          <a:xfrm>
            <a:off x="1547640" y="5511960"/>
            <a:ext cx="7128000" cy="1326240"/>
          </a:xfrm>
          <a:prstGeom prst="rect">
            <a:avLst/>
          </a:prstGeom>
          <a:solidFill>
            <a:srgbClr val="cc99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田字格，四方方，写好汉字它来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左上格、左下格，右上格、右下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横中线、竖中线，各个方位记心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270960" y="551664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di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989000"/>
            <a:ext cx="223344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096000" y="5516640"/>
            <a:ext cx="18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横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hé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132000" y="2997360"/>
            <a:ext cx="2448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楷体_GB2312"/>
              </a:rPr>
              <a:t>一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9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2000" y="536256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404640"/>
            <a:ext cx="459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24000" y="836640"/>
            <a:ext cx="8424720" cy="4702320"/>
          </a:xfrm>
          <a:prstGeom prst="rect">
            <a:avLst/>
          </a:prstGeom>
          <a:solidFill>
            <a:srgbClr val="ffffff">
              <a:alpha val="70000"/>
            </a:srgbClr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yī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è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ān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     二     三      四     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l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ù    q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ǔ  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七       八          九       十</a:t>
            </a:r>
            <a:br>
              <a:rPr sz="4000"/>
            </a:b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599640" y="5516640"/>
            <a:ext cx="15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竖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h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628640"/>
            <a:ext cx="2341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557880" y="55897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撇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i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1706400"/>
            <a:ext cx="1130400" cy="2298960"/>
          </a:xfrm>
          <a:custGeom>
            <a:avLst/>
            <a:gdLst/>
            <a:ahLst/>
            <a:rect l="l" t="t" r="r" b="b"/>
            <a:pathLst>
              <a:path w="551" h="1345">
                <a:moveTo>
                  <a:pt x="408" y="791"/>
                </a:moveTo>
                <a:lnTo>
                  <a:pt x="396" y="822"/>
                </a:lnTo>
                <a:lnTo>
                  <a:pt x="382" y="850"/>
                </a:lnTo>
                <a:lnTo>
                  <a:pt x="370" y="879"/>
                </a:lnTo>
                <a:lnTo>
                  <a:pt x="358" y="908"/>
                </a:lnTo>
                <a:lnTo>
                  <a:pt x="343" y="934"/>
                </a:lnTo>
                <a:lnTo>
                  <a:pt x="329" y="960"/>
                </a:lnTo>
                <a:lnTo>
                  <a:pt x="315" y="986"/>
                </a:lnTo>
                <a:lnTo>
                  <a:pt x="300" y="1013"/>
                </a:lnTo>
                <a:lnTo>
                  <a:pt x="269" y="1060"/>
                </a:lnTo>
                <a:lnTo>
                  <a:pt x="238" y="1108"/>
                </a:lnTo>
                <a:lnTo>
                  <a:pt x="203" y="1151"/>
                </a:lnTo>
                <a:lnTo>
                  <a:pt x="167" y="1197"/>
                </a:lnTo>
                <a:lnTo>
                  <a:pt x="148" y="1216"/>
                </a:lnTo>
                <a:lnTo>
                  <a:pt x="131" y="1235"/>
                </a:lnTo>
                <a:lnTo>
                  <a:pt x="114" y="1254"/>
                </a:lnTo>
                <a:lnTo>
                  <a:pt x="100" y="1268"/>
                </a:lnTo>
                <a:lnTo>
                  <a:pt x="86" y="1283"/>
                </a:lnTo>
                <a:lnTo>
                  <a:pt x="74" y="1297"/>
                </a:lnTo>
                <a:lnTo>
                  <a:pt x="62" y="1306"/>
                </a:lnTo>
                <a:lnTo>
                  <a:pt x="52" y="1316"/>
                </a:lnTo>
                <a:lnTo>
                  <a:pt x="43" y="1326"/>
                </a:lnTo>
                <a:lnTo>
                  <a:pt x="33" y="1333"/>
                </a:lnTo>
                <a:lnTo>
                  <a:pt x="26" y="1337"/>
                </a:lnTo>
                <a:lnTo>
                  <a:pt x="19" y="1342"/>
                </a:lnTo>
                <a:lnTo>
                  <a:pt x="14" y="1342"/>
                </a:lnTo>
                <a:lnTo>
                  <a:pt x="9" y="1345"/>
                </a:lnTo>
                <a:lnTo>
                  <a:pt x="5" y="1342"/>
                </a:lnTo>
                <a:lnTo>
                  <a:pt x="2" y="1340"/>
                </a:lnTo>
                <a:lnTo>
                  <a:pt x="0" y="1337"/>
                </a:lnTo>
                <a:lnTo>
                  <a:pt x="0" y="1333"/>
                </a:lnTo>
                <a:lnTo>
                  <a:pt x="0" y="1326"/>
                </a:lnTo>
                <a:lnTo>
                  <a:pt x="0" y="1316"/>
                </a:lnTo>
                <a:lnTo>
                  <a:pt x="2" y="1306"/>
                </a:lnTo>
                <a:lnTo>
                  <a:pt x="5" y="1297"/>
                </a:lnTo>
                <a:lnTo>
                  <a:pt x="9" y="1283"/>
                </a:lnTo>
                <a:lnTo>
                  <a:pt x="14" y="1268"/>
                </a:lnTo>
                <a:lnTo>
                  <a:pt x="21" y="1251"/>
                </a:lnTo>
                <a:lnTo>
                  <a:pt x="28" y="1235"/>
                </a:lnTo>
                <a:lnTo>
                  <a:pt x="38" y="1216"/>
                </a:lnTo>
                <a:lnTo>
                  <a:pt x="47" y="1197"/>
                </a:lnTo>
                <a:lnTo>
                  <a:pt x="59" y="1175"/>
                </a:lnTo>
                <a:lnTo>
                  <a:pt x="74" y="1151"/>
                </a:lnTo>
                <a:lnTo>
                  <a:pt x="88" y="1125"/>
                </a:lnTo>
                <a:lnTo>
                  <a:pt x="102" y="1099"/>
                </a:lnTo>
                <a:lnTo>
                  <a:pt x="119" y="1075"/>
                </a:lnTo>
                <a:lnTo>
                  <a:pt x="136" y="1048"/>
                </a:lnTo>
                <a:lnTo>
                  <a:pt x="150" y="1022"/>
                </a:lnTo>
                <a:lnTo>
                  <a:pt x="164" y="996"/>
                </a:lnTo>
                <a:lnTo>
                  <a:pt x="179" y="967"/>
                </a:lnTo>
                <a:lnTo>
                  <a:pt x="191" y="941"/>
                </a:lnTo>
                <a:lnTo>
                  <a:pt x="217" y="881"/>
                </a:lnTo>
                <a:lnTo>
                  <a:pt x="229" y="853"/>
                </a:lnTo>
                <a:lnTo>
                  <a:pt x="238" y="822"/>
                </a:lnTo>
                <a:lnTo>
                  <a:pt x="250" y="791"/>
                </a:lnTo>
                <a:lnTo>
                  <a:pt x="260" y="759"/>
                </a:lnTo>
                <a:lnTo>
                  <a:pt x="269" y="728"/>
                </a:lnTo>
                <a:lnTo>
                  <a:pt x="277" y="695"/>
                </a:lnTo>
                <a:lnTo>
                  <a:pt x="286" y="664"/>
                </a:lnTo>
                <a:lnTo>
                  <a:pt x="293" y="631"/>
                </a:lnTo>
                <a:lnTo>
                  <a:pt x="300" y="597"/>
                </a:lnTo>
                <a:lnTo>
                  <a:pt x="305" y="561"/>
                </a:lnTo>
                <a:lnTo>
                  <a:pt x="312" y="528"/>
                </a:lnTo>
                <a:lnTo>
                  <a:pt x="317" y="490"/>
                </a:lnTo>
                <a:lnTo>
                  <a:pt x="320" y="454"/>
                </a:lnTo>
                <a:lnTo>
                  <a:pt x="324" y="416"/>
                </a:lnTo>
                <a:lnTo>
                  <a:pt x="327" y="377"/>
                </a:lnTo>
                <a:lnTo>
                  <a:pt x="331" y="339"/>
                </a:lnTo>
                <a:lnTo>
                  <a:pt x="331" y="299"/>
                </a:lnTo>
                <a:lnTo>
                  <a:pt x="334" y="258"/>
                </a:lnTo>
                <a:lnTo>
                  <a:pt x="334" y="217"/>
                </a:lnTo>
                <a:lnTo>
                  <a:pt x="336" y="177"/>
                </a:lnTo>
                <a:lnTo>
                  <a:pt x="336" y="134"/>
                </a:lnTo>
                <a:lnTo>
                  <a:pt x="334" y="88"/>
                </a:lnTo>
                <a:lnTo>
                  <a:pt x="334" y="45"/>
                </a:lnTo>
                <a:lnTo>
                  <a:pt x="331" y="0"/>
                </a:lnTo>
                <a:lnTo>
                  <a:pt x="355" y="19"/>
                </a:lnTo>
                <a:lnTo>
                  <a:pt x="379" y="36"/>
                </a:lnTo>
                <a:lnTo>
                  <a:pt x="401" y="53"/>
                </a:lnTo>
                <a:lnTo>
                  <a:pt x="422" y="67"/>
                </a:lnTo>
                <a:lnTo>
                  <a:pt x="439" y="81"/>
                </a:lnTo>
                <a:lnTo>
                  <a:pt x="456" y="96"/>
                </a:lnTo>
                <a:lnTo>
                  <a:pt x="472" y="110"/>
                </a:lnTo>
                <a:lnTo>
                  <a:pt x="487" y="122"/>
                </a:lnTo>
                <a:lnTo>
                  <a:pt x="499" y="134"/>
                </a:lnTo>
                <a:lnTo>
                  <a:pt x="508" y="143"/>
                </a:lnTo>
                <a:lnTo>
                  <a:pt x="518" y="155"/>
                </a:lnTo>
                <a:lnTo>
                  <a:pt x="527" y="165"/>
                </a:lnTo>
                <a:lnTo>
                  <a:pt x="534" y="172"/>
                </a:lnTo>
                <a:lnTo>
                  <a:pt x="539" y="182"/>
                </a:lnTo>
                <a:lnTo>
                  <a:pt x="544" y="189"/>
                </a:lnTo>
                <a:lnTo>
                  <a:pt x="546" y="193"/>
                </a:lnTo>
                <a:lnTo>
                  <a:pt x="549" y="213"/>
                </a:lnTo>
                <a:lnTo>
                  <a:pt x="551" y="234"/>
                </a:lnTo>
                <a:lnTo>
                  <a:pt x="551" y="256"/>
                </a:lnTo>
                <a:lnTo>
                  <a:pt x="549" y="282"/>
                </a:lnTo>
                <a:lnTo>
                  <a:pt x="549" y="294"/>
                </a:lnTo>
                <a:lnTo>
                  <a:pt x="546" y="308"/>
                </a:lnTo>
                <a:lnTo>
                  <a:pt x="544" y="322"/>
                </a:lnTo>
                <a:lnTo>
                  <a:pt x="542" y="337"/>
                </a:lnTo>
                <a:lnTo>
                  <a:pt x="539" y="353"/>
                </a:lnTo>
                <a:lnTo>
                  <a:pt x="539" y="370"/>
                </a:lnTo>
                <a:lnTo>
                  <a:pt x="537" y="387"/>
                </a:lnTo>
                <a:lnTo>
                  <a:pt x="534" y="404"/>
                </a:lnTo>
                <a:lnTo>
                  <a:pt x="530" y="423"/>
                </a:lnTo>
                <a:lnTo>
                  <a:pt x="522" y="442"/>
                </a:lnTo>
                <a:lnTo>
                  <a:pt x="518" y="461"/>
                </a:lnTo>
                <a:lnTo>
                  <a:pt x="513" y="482"/>
                </a:lnTo>
                <a:lnTo>
                  <a:pt x="506" y="504"/>
                </a:lnTo>
                <a:lnTo>
                  <a:pt x="499" y="525"/>
                </a:lnTo>
                <a:lnTo>
                  <a:pt x="491" y="549"/>
                </a:lnTo>
                <a:lnTo>
                  <a:pt x="484" y="573"/>
                </a:lnTo>
                <a:lnTo>
                  <a:pt x="477" y="597"/>
                </a:lnTo>
                <a:lnTo>
                  <a:pt x="468" y="623"/>
                </a:lnTo>
                <a:lnTo>
                  <a:pt x="458" y="650"/>
                </a:lnTo>
                <a:lnTo>
                  <a:pt x="448" y="676"/>
                </a:lnTo>
                <a:lnTo>
                  <a:pt x="439" y="705"/>
                </a:lnTo>
                <a:lnTo>
                  <a:pt x="429" y="733"/>
                </a:lnTo>
                <a:lnTo>
                  <a:pt x="417" y="762"/>
                </a:lnTo>
                <a:lnTo>
                  <a:pt x="408" y="791"/>
                </a:lnTo>
                <a:lnTo>
                  <a:pt x="408" y="791"/>
                </a:lnTo>
              </a:path>
            </a:pathLst>
          </a:custGeom>
          <a:solidFill>
            <a:srgbClr val="80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744360" y="5661000"/>
            <a:ext cx="13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捺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n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64000" y="2060640"/>
            <a:ext cx="2448000" cy="1368360"/>
          </a:xfrm>
          <a:custGeom>
            <a:avLst/>
            <a:gdLst/>
            <a:ahLst/>
            <a:rect l="l" t="t" r="r" b="b"/>
            <a:pathLst>
              <a:path w="1796" h="1035">
                <a:moveTo>
                  <a:pt x="0" y="57"/>
                </a:moveTo>
                <a:lnTo>
                  <a:pt x="5" y="52"/>
                </a:lnTo>
                <a:lnTo>
                  <a:pt x="10" y="45"/>
                </a:lnTo>
                <a:lnTo>
                  <a:pt x="17" y="33"/>
                </a:lnTo>
                <a:lnTo>
                  <a:pt x="27" y="21"/>
                </a:lnTo>
                <a:lnTo>
                  <a:pt x="31" y="16"/>
                </a:lnTo>
                <a:lnTo>
                  <a:pt x="34" y="12"/>
                </a:lnTo>
                <a:lnTo>
                  <a:pt x="38" y="7"/>
                </a:lnTo>
                <a:lnTo>
                  <a:pt x="43" y="4"/>
                </a:lnTo>
                <a:lnTo>
                  <a:pt x="48" y="4"/>
                </a:lnTo>
                <a:lnTo>
                  <a:pt x="55" y="2"/>
                </a:lnTo>
                <a:lnTo>
                  <a:pt x="62" y="2"/>
                </a:lnTo>
                <a:lnTo>
                  <a:pt x="70" y="0"/>
                </a:lnTo>
                <a:lnTo>
                  <a:pt x="79" y="0"/>
                </a:lnTo>
                <a:lnTo>
                  <a:pt x="91" y="0"/>
                </a:lnTo>
                <a:lnTo>
                  <a:pt x="98" y="2"/>
                </a:lnTo>
                <a:lnTo>
                  <a:pt x="108" y="2"/>
                </a:lnTo>
                <a:lnTo>
                  <a:pt x="115" y="7"/>
                </a:lnTo>
                <a:lnTo>
                  <a:pt x="127" y="12"/>
                </a:lnTo>
                <a:lnTo>
                  <a:pt x="139" y="16"/>
                </a:lnTo>
                <a:lnTo>
                  <a:pt x="151" y="24"/>
                </a:lnTo>
                <a:lnTo>
                  <a:pt x="165" y="33"/>
                </a:lnTo>
                <a:lnTo>
                  <a:pt x="179" y="43"/>
                </a:lnTo>
                <a:lnTo>
                  <a:pt x="196" y="55"/>
                </a:lnTo>
                <a:lnTo>
                  <a:pt x="215" y="69"/>
                </a:lnTo>
                <a:lnTo>
                  <a:pt x="234" y="83"/>
                </a:lnTo>
                <a:lnTo>
                  <a:pt x="256" y="97"/>
                </a:lnTo>
                <a:lnTo>
                  <a:pt x="277" y="117"/>
                </a:lnTo>
                <a:lnTo>
                  <a:pt x="301" y="136"/>
                </a:lnTo>
                <a:lnTo>
                  <a:pt x="325" y="157"/>
                </a:lnTo>
                <a:lnTo>
                  <a:pt x="354" y="179"/>
                </a:lnTo>
                <a:lnTo>
                  <a:pt x="409" y="224"/>
                </a:lnTo>
                <a:lnTo>
                  <a:pt x="461" y="269"/>
                </a:lnTo>
                <a:lnTo>
                  <a:pt x="514" y="312"/>
                </a:lnTo>
                <a:lnTo>
                  <a:pt x="568" y="355"/>
                </a:lnTo>
                <a:lnTo>
                  <a:pt x="619" y="396"/>
                </a:lnTo>
                <a:lnTo>
                  <a:pt x="671" y="434"/>
                </a:lnTo>
                <a:lnTo>
                  <a:pt x="724" y="474"/>
                </a:lnTo>
                <a:lnTo>
                  <a:pt x="774" y="513"/>
                </a:lnTo>
                <a:lnTo>
                  <a:pt x="800" y="534"/>
                </a:lnTo>
                <a:lnTo>
                  <a:pt x="826" y="553"/>
                </a:lnTo>
                <a:lnTo>
                  <a:pt x="857" y="575"/>
                </a:lnTo>
                <a:lnTo>
                  <a:pt x="888" y="594"/>
                </a:lnTo>
                <a:lnTo>
                  <a:pt x="922" y="613"/>
                </a:lnTo>
                <a:lnTo>
                  <a:pt x="955" y="634"/>
                </a:lnTo>
                <a:lnTo>
                  <a:pt x="991" y="653"/>
                </a:lnTo>
                <a:lnTo>
                  <a:pt x="1029" y="670"/>
                </a:lnTo>
                <a:lnTo>
                  <a:pt x="1067" y="689"/>
                </a:lnTo>
                <a:lnTo>
                  <a:pt x="1108" y="708"/>
                </a:lnTo>
                <a:lnTo>
                  <a:pt x="1151" y="725"/>
                </a:lnTo>
                <a:lnTo>
                  <a:pt x="1196" y="744"/>
                </a:lnTo>
                <a:lnTo>
                  <a:pt x="1242" y="761"/>
                </a:lnTo>
                <a:lnTo>
                  <a:pt x="1287" y="780"/>
                </a:lnTo>
                <a:lnTo>
                  <a:pt x="1337" y="796"/>
                </a:lnTo>
                <a:lnTo>
                  <a:pt x="1387" y="813"/>
                </a:lnTo>
                <a:lnTo>
                  <a:pt x="1411" y="820"/>
                </a:lnTo>
                <a:lnTo>
                  <a:pt x="1437" y="830"/>
                </a:lnTo>
                <a:lnTo>
                  <a:pt x="1459" y="837"/>
                </a:lnTo>
                <a:lnTo>
                  <a:pt x="1483" y="844"/>
                </a:lnTo>
                <a:lnTo>
                  <a:pt x="1504" y="854"/>
                </a:lnTo>
                <a:lnTo>
                  <a:pt x="1526" y="861"/>
                </a:lnTo>
                <a:lnTo>
                  <a:pt x="1547" y="868"/>
                </a:lnTo>
                <a:lnTo>
                  <a:pt x="1566" y="873"/>
                </a:lnTo>
                <a:lnTo>
                  <a:pt x="1585" y="880"/>
                </a:lnTo>
                <a:lnTo>
                  <a:pt x="1602" y="887"/>
                </a:lnTo>
                <a:lnTo>
                  <a:pt x="1619" y="894"/>
                </a:lnTo>
                <a:lnTo>
                  <a:pt x="1636" y="899"/>
                </a:lnTo>
                <a:lnTo>
                  <a:pt x="1652" y="904"/>
                </a:lnTo>
                <a:lnTo>
                  <a:pt x="1667" y="911"/>
                </a:lnTo>
                <a:lnTo>
                  <a:pt x="1681" y="916"/>
                </a:lnTo>
                <a:lnTo>
                  <a:pt x="1693" y="920"/>
                </a:lnTo>
                <a:lnTo>
                  <a:pt x="1707" y="925"/>
                </a:lnTo>
                <a:lnTo>
                  <a:pt x="1717" y="930"/>
                </a:lnTo>
                <a:lnTo>
                  <a:pt x="1729" y="935"/>
                </a:lnTo>
                <a:lnTo>
                  <a:pt x="1738" y="940"/>
                </a:lnTo>
                <a:lnTo>
                  <a:pt x="1748" y="942"/>
                </a:lnTo>
                <a:lnTo>
                  <a:pt x="1757" y="947"/>
                </a:lnTo>
                <a:lnTo>
                  <a:pt x="1764" y="949"/>
                </a:lnTo>
                <a:lnTo>
                  <a:pt x="1772" y="951"/>
                </a:lnTo>
                <a:lnTo>
                  <a:pt x="1776" y="956"/>
                </a:lnTo>
                <a:lnTo>
                  <a:pt x="1781" y="959"/>
                </a:lnTo>
                <a:lnTo>
                  <a:pt x="1786" y="961"/>
                </a:lnTo>
                <a:lnTo>
                  <a:pt x="1791" y="963"/>
                </a:lnTo>
                <a:lnTo>
                  <a:pt x="1793" y="963"/>
                </a:lnTo>
                <a:lnTo>
                  <a:pt x="1796" y="966"/>
                </a:lnTo>
                <a:lnTo>
                  <a:pt x="1796" y="968"/>
                </a:lnTo>
                <a:lnTo>
                  <a:pt x="1796" y="968"/>
                </a:lnTo>
                <a:lnTo>
                  <a:pt x="1793" y="971"/>
                </a:lnTo>
                <a:lnTo>
                  <a:pt x="1788" y="973"/>
                </a:lnTo>
                <a:lnTo>
                  <a:pt x="1784" y="975"/>
                </a:lnTo>
                <a:lnTo>
                  <a:pt x="1774" y="978"/>
                </a:lnTo>
                <a:lnTo>
                  <a:pt x="1764" y="982"/>
                </a:lnTo>
                <a:lnTo>
                  <a:pt x="1753" y="985"/>
                </a:lnTo>
                <a:lnTo>
                  <a:pt x="1741" y="987"/>
                </a:lnTo>
                <a:lnTo>
                  <a:pt x="1726" y="992"/>
                </a:lnTo>
                <a:lnTo>
                  <a:pt x="1707" y="994"/>
                </a:lnTo>
                <a:lnTo>
                  <a:pt x="1690" y="997"/>
                </a:lnTo>
                <a:lnTo>
                  <a:pt x="1669" y="999"/>
                </a:lnTo>
                <a:lnTo>
                  <a:pt x="1645" y="1004"/>
                </a:lnTo>
                <a:lnTo>
                  <a:pt x="1621" y="1006"/>
                </a:lnTo>
                <a:lnTo>
                  <a:pt x="1595" y="1009"/>
                </a:lnTo>
                <a:lnTo>
                  <a:pt x="1566" y="1011"/>
                </a:lnTo>
                <a:lnTo>
                  <a:pt x="1535" y="1013"/>
                </a:lnTo>
                <a:lnTo>
                  <a:pt x="1504" y="1016"/>
                </a:lnTo>
                <a:lnTo>
                  <a:pt x="1473" y="1018"/>
                </a:lnTo>
                <a:lnTo>
                  <a:pt x="1447" y="1021"/>
                </a:lnTo>
                <a:lnTo>
                  <a:pt x="1421" y="1021"/>
                </a:lnTo>
                <a:lnTo>
                  <a:pt x="1394" y="1023"/>
                </a:lnTo>
                <a:lnTo>
                  <a:pt x="1371" y="1025"/>
                </a:lnTo>
                <a:lnTo>
                  <a:pt x="1349" y="1028"/>
                </a:lnTo>
                <a:lnTo>
                  <a:pt x="1330" y="1028"/>
                </a:lnTo>
                <a:lnTo>
                  <a:pt x="1311" y="1030"/>
                </a:lnTo>
                <a:lnTo>
                  <a:pt x="1292" y="1033"/>
                </a:lnTo>
                <a:lnTo>
                  <a:pt x="1275" y="1033"/>
                </a:lnTo>
                <a:lnTo>
                  <a:pt x="1261" y="1033"/>
                </a:lnTo>
                <a:lnTo>
                  <a:pt x="1249" y="1035"/>
                </a:lnTo>
                <a:lnTo>
                  <a:pt x="1237" y="1035"/>
                </a:lnTo>
                <a:lnTo>
                  <a:pt x="1225" y="1035"/>
                </a:lnTo>
                <a:lnTo>
                  <a:pt x="1218" y="1035"/>
                </a:lnTo>
                <a:lnTo>
                  <a:pt x="1196" y="1035"/>
                </a:lnTo>
                <a:lnTo>
                  <a:pt x="1177" y="1033"/>
                </a:lnTo>
                <a:lnTo>
                  <a:pt x="1158" y="1033"/>
                </a:lnTo>
                <a:lnTo>
                  <a:pt x="1139" y="1028"/>
                </a:lnTo>
                <a:lnTo>
                  <a:pt x="1122" y="1025"/>
                </a:lnTo>
                <a:lnTo>
                  <a:pt x="1108" y="1021"/>
                </a:lnTo>
                <a:lnTo>
                  <a:pt x="1094" y="1018"/>
                </a:lnTo>
                <a:lnTo>
                  <a:pt x="1079" y="1013"/>
                </a:lnTo>
                <a:lnTo>
                  <a:pt x="1070" y="1009"/>
                </a:lnTo>
                <a:lnTo>
                  <a:pt x="1060" y="999"/>
                </a:lnTo>
                <a:lnTo>
                  <a:pt x="1046" y="990"/>
                </a:lnTo>
                <a:lnTo>
                  <a:pt x="1032" y="978"/>
                </a:lnTo>
                <a:lnTo>
                  <a:pt x="1012" y="963"/>
                </a:lnTo>
                <a:lnTo>
                  <a:pt x="993" y="947"/>
                </a:lnTo>
                <a:lnTo>
                  <a:pt x="974" y="928"/>
                </a:lnTo>
                <a:lnTo>
                  <a:pt x="950" y="906"/>
                </a:lnTo>
                <a:lnTo>
                  <a:pt x="924" y="882"/>
                </a:lnTo>
                <a:lnTo>
                  <a:pt x="912" y="868"/>
                </a:lnTo>
                <a:lnTo>
                  <a:pt x="898" y="856"/>
                </a:lnTo>
                <a:lnTo>
                  <a:pt x="884" y="842"/>
                </a:lnTo>
                <a:lnTo>
                  <a:pt x="869" y="825"/>
                </a:lnTo>
                <a:lnTo>
                  <a:pt x="855" y="811"/>
                </a:lnTo>
                <a:lnTo>
                  <a:pt x="838" y="794"/>
                </a:lnTo>
                <a:lnTo>
                  <a:pt x="822" y="780"/>
                </a:lnTo>
                <a:lnTo>
                  <a:pt x="805" y="761"/>
                </a:lnTo>
                <a:lnTo>
                  <a:pt x="788" y="744"/>
                </a:lnTo>
                <a:lnTo>
                  <a:pt x="769" y="725"/>
                </a:lnTo>
                <a:lnTo>
                  <a:pt x="752" y="706"/>
                </a:lnTo>
                <a:lnTo>
                  <a:pt x="733" y="687"/>
                </a:lnTo>
                <a:lnTo>
                  <a:pt x="714" y="668"/>
                </a:lnTo>
                <a:lnTo>
                  <a:pt x="695" y="646"/>
                </a:lnTo>
                <a:lnTo>
                  <a:pt x="654" y="608"/>
                </a:lnTo>
                <a:lnTo>
                  <a:pt x="616" y="570"/>
                </a:lnTo>
                <a:lnTo>
                  <a:pt x="580" y="534"/>
                </a:lnTo>
                <a:lnTo>
                  <a:pt x="545" y="498"/>
                </a:lnTo>
                <a:lnTo>
                  <a:pt x="511" y="467"/>
                </a:lnTo>
                <a:lnTo>
                  <a:pt x="480" y="436"/>
                </a:lnTo>
                <a:lnTo>
                  <a:pt x="449" y="405"/>
                </a:lnTo>
                <a:lnTo>
                  <a:pt x="420" y="379"/>
                </a:lnTo>
                <a:lnTo>
                  <a:pt x="392" y="353"/>
                </a:lnTo>
                <a:lnTo>
                  <a:pt x="366" y="326"/>
                </a:lnTo>
                <a:lnTo>
                  <a:pt x="342" y="305"/>
                </a:lnTo>
                <a:lnTo>
                  <a:pt x="318" y="284"/>
                </a:lnTo>
                <a:lnTo>
                  <a:pt x="296" y="262"/>
                </a:lnTo>
                <a:lnTo>
                  <a:pt x="275" y="245"/>
                </a:lnTo>
                <a:lnTo>
                  <a:pt x="256" y="229"/>
                </a:lnTo>
                <a:lnTo>
                  <a:pt x="239" y="212"/>
                </a:lnTo>
                <a:lnTo>
                  <a:pt x="222" y="198"/>
                </a:lnTo>
                <a:lnTo>
                  <a:pt x="208" y="183"/>
                </a:lnTo>
                <a:lnTo>
                  <a:pt x="191" y="171"/>
                </a:lnTo>
                <a:lnTo>
                  <a:pt x="177" y="160"/>
                </a:lnTo>
                <a:lnTo>
                  <a:pt x="165" y="148"/>
                </a:lnTo>
                <a:lnTo>
                  <a:pt x="151" y="138"/>
                </a:lnTo>
                <a:lnTo>
                  <a:pt x="139" y="128"/>
                </a:lnTo>
                <a:lnTo>
                  <a:pt x="127" y="119"/>
                </a:lnTo>
                <a:lnTo>
                  <a:pt x="117" y="112"/>
                </a:lnTo>
                <a:lnTo>
                  <a:pt x="105" y="105"/>
                </a:lnTo>
                <a:lnTo>
                  <a:pt x="96" y="97"/>
                </a:lnTo>
                <a:lnTo>
                  <a:pt x="89" y="93"/>
                </a:lnTo>
                <a:lnTo>
                  <a:pt x="79" y="88"/>
                </a:lnTo>
                <a:lnTo>
                  <a:pt x="72" y="83"/>
                </a:lnTo>
                <a:lnTo>
                  <a:pt x="65" y="81"/>
                </a:lnTo>
                <a:lnTo>
                  <a:pt x="58" y="78"/>
                </a:lnTo>
                <a:lnTo>
                  <a:pt x="46" y="74"/>
                </a:lnTo>
                <a:lnTo>
                  <a:pt x="34" y="71"/>
                </a:lnTo>
                <a:lnTo>
                  <a:pt x="24" y="69"/>
                </a:lnTo>
                <a:lnTo>
                  <a:pt x="17" y="66"/>
                </a:lnTo>
                <a:lnTo>
                  <a:pt x="10" y="64"/>
                </a:lnTo>
                <a:lnTo>
                  <a:pt x="5" y="62"/>
                </a:lnTo>
                <a:lnTo>
                  <a:pt x="3" y="59"/>
                </a:lnTo>
                <a:lnTo>
                  <a:pt x="0" y="57"/>
                </a:lnTo>
                <a:lnTo>
                  <a:pt x="0" y="57"/>
                </a:lnTo>
              </a:path>
            </a:pathLst>
          </a:custGeom>
          <a:solidFill>
            <a:srgbClr val="00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564000" y="1700280"/>
            <a:ext cx="1800000" cy="1871640"/>
          </a:xfrm>
          <a:custGeom>
            <a:avLst/>
            <a:gdLst/>
            <a:ahLst/>
            <a:rect l="l" t="t" r="r" b="b"/>
            <a:pathLst>
              <a:path w="974" h="1523">
                <a:moveTo>
                  <a:pt x="974" y="222"/>
                </a:moveTo>
                <a:lnTo>
                  <a:pt x="974" y="227"/>
                </a:lnTo>
                <a:lnTo>
                  <a:pt x="974" y="231"/>
                </a:lnTo>
                <a:lnTo>
                  <a:pt x="972" y="236"/>
                </a:lnTo>
                <a:lnTo>
                  <a:pt x="969" y="243"/>
                </a:lnTo>
                <a:lnTo>
                  <a:pt x="967" y="248"/>
                </a:lnTo>
                <a:lnTo>
                  <a:pt x="962" y="253"/>
                </a:lnTo>
                <a:lnTo>
                  <a:pt x="960" y="258"/>
                </a:lnTo>
                <a:lnTo>
                  <a:pt x="953" y="262"/>
                </a:lnTo>
                <a:lnTo>
                  <a:pt x="948" y="267"/>
                </a:lnTo>
                <a:lnTo>
                  <a:pt x="941" y="274"/>
                </a:lnTo>
                <a:lnTo>
                  <a:pt x="933" y="279"/>
                </a:lnTo>
                <a:lnTo>
                  <a:pt x="926" y="284"/>
                </a:lnTo>
                <a:lnTo>
                  <a:pt x="917" y="289"/>
                </a:lnTo>
                <a:lnTo>
                  <a:pt x="907" y="293"/>
                </a:lnTo>
                <a:lnTo>
                  <a:pt x="895" y="301"/>
                </a:lnTo>
                <a:lnTo>
                  <a:pt x="883" y="305"/>
                </a:lnTo>
                <a:lnTo>
                  <a:pt x="879" y="310"/>
                </a:lnTo>
                <a:lnTo>
                  <a:pt x="871" y="317"/>
                </a:lnTo>
                <a:lnTo>
                  <a:pt x="864" y="327"/>
                </a:lnTo>
                <a:lnTo>
                  <a:pt x="857" y="336"/>
                </a:lnTo>
                <a:lnTo>
                  <a:pt x="850" y="351"/>
                </a:lnTo>
                <a:lnTo>
                  <a:pt x="843" y="367"/>
                </a:lnTo>
                <a:lnTo>
                  <a:pt x="836" y="384"/>
                </a:lnTo>
                <a:lnTo>
                  <a:pt x="826" y="403"/>
                </a:lnTo>
                <a:lnTo>
                  <a:pt x="819" y="425"/>
                </a:lnTo>
                <a:lnTo>
                  <a:pt x="809" y="449"/>
                </a:lnTo>
                <a:lnTo>
                  <a:pt x="802" y="475"/>
                </a:lnTo>
                <a:lnTo>
                  <a:pt x="793" y="504"/>
                </a:lnTo>
                <a:lnTo>
                  <a:pt x="783" y="535"/>
                </a:lnTo>
                <a:lnTo>
                  <a:pt x="774" y="568"/>
                </a:lnTo>
                <a:lnTo>
                  <a:pt x="764" y="601"/>
                </a:lnTo>
                <a:lnTo>
                  <a:pt x="752" y="640"/>
                </a:lnTo>
                <a:lnTo>
                  <a:pt x="742" y="678"/>
                </a:lnTo>
                <a:lnTo>
                  <a:pt x="731" y="718"/>
                </a:lnTo>
                <a:lnTo>
                  <a:pt x="721" y="761"/>
                </a:lnTo>
                <a:lnTo>
                  <a:pt x="709" y="807"/>
                </a:lnTo>
                <a:lnTo>
                  <a:pt x="697" y="855"/>
                </a:lnTo>
                <a:lnTo>
                  <a:pt x="685" y="905"/>
                </a:lnTo>
                <a:lnTo>
                  <a:pt x="671" y="957"/>
                </a:lnTo>
                <a:lnTo>
                  <a:pt x="659" y="1012"/>
                </a:lnTo>
                <a:lnTo>
                  <a:pt x="647" y="1067"/>
                </a:lnTo>
                <a:lnTo>
                  <a:pt x="633" y="1127"/>
                </a:lnTo>
                <a:lnTo>
                  <a:pt x="618" y="1186"/>
                </a:lnTo>
                <a:lnTo>
                  <a:pt x="604" y="1249"/>
                </a:lnTo>
                <a:lnTo>
                  <a:pt x="590" y="1315"/>
                </a:lnTo>
                <a:lnTo>
                  <a:pt x="575" y="1382"/>
                </a:lnTo>
                <a:lnTo>
                  <a:pt x="561" y="1452"/>
                </a:lnTo>
                <a:lnTo>
                  <a:pt x="544" y="1523"/>
                </a:lnTo>
                <a:lnTo>
                  <a:pt x="363" y="1523"/>
                </a:lnTo>
                <a:lnTo>
                  <a:pt x="372" y="1483"/>
                </a:lnTo>
                <a:lnTo>
                  <a:pt x="382" y="1442"/>
                </a:lnTo>
                <a:lnTo>
                  <a:pt x="392" y="1401"/>
                </a:lnTo>
                <a:lnTo>
                  <a:pt x="401" y="1363"/>
                </a:lnTo>
                <a:lnTo>
                  <a:pt x="408" y="1325"/>
                </a:lnTo>
                <a:lnTo>
                  <a:pt x="418" y="1287"/>
                </a:lnTo>
                <a:lnTo>
                  <a:pt x="425" y="1251"/>
                </a:lnTo>
                <a:lnTo>
                  <a:pt x="434" y="1215"/>
                </a:lnTo>
                <a:lnTo>
                  <a:pt x="442" y="1179"/>
                </a:lnTo>
                <a:lnTo>
                  <a:pt x="449" y="1144"/>
                </a:lnTo>
                <a:lnTo>
                  <a:pt x="456" y="1110"/>
                </a:lnTo>
                <a:lnTo>
                  <a:pt x="463" y="1077"/>
                </a:lnTo>
                <a:lnTo>
                  <a:pt x="470" y="1046"/>
                </a:lnTo>
                <a:lnTo>
                  <a:pt x="477" y="1012"/>
                </a:lnTo>
                <a:lnTo>
                  <a:pt x="485" y="981"/>
                </a:lnTo>
                <a:lnTo>
                  <a:pt x="492" y="952"/>
                </a:lnTo>
                <a:lnTo>
                  <a:pt x="497" y="921"/>
                </a:lnTo>
                <a:lnTo>
                  <a:pt x="504" y="893"/>
                </a:lnTo>
                <a:lnTo>
                  <a:pt x="511" y="867"/>
                </a:lnTo>
                <a:lnTo>
                  <a:pt x="516" y="838"/>
                </a:lnTo>
                <a:lnTo>
                  <a:pt x="520" y="812"/>
                </a:lnTo>
                <a:lnTo>
                  <a:pt x="528" y="785"/>
                </a:lnTo>
                <a:lnTo>
                  <a:pt x="532" y="761"/>
                </a:lnTo>
                <a:lnTo>
                  <a:pt x="537" y="738"/>
                </a:lnTo>
                <a:lnTo>
                  <a:pt x="542" y="714"/>
                </a:lnTo>
                <a:lnTo>
                  <a:pt x="547" y="690"/>
                </a:lnTo>
                <a:lnTo>
                  <a:pt x="551" y="668"/>
                </a:lnTo>
                <a:lnTo>
                  <a:pt x="556" y="647"/>
                </a:lnTo>
                <a:lnTo>
                  <a:pt x="561" y="625"/>
                </a:lnTo>
                <a:lnTo>
                  <a:pt x="563" y="606"/>
                </a:lnTo>
                <a:lnTo>
                  <a:pt x="568" y="587"/>
                </a:lnTo>
                <a:lnTo>
                  <a:pt x="571" y="568"/>
                </a:lnTo>
                <a:lnTo>
                  <a:pt x="578" y="532"/>
                </a:lnTo>
                <a:lnTo>
                  <a:pt x="585" y="499"/>
                </a:lnTo>
                <a:lnTo>
                  <a:pt x="590" y="468"/>
                </a:lnTo>
                <a:lnTo>
                  <a:pt x="594" y="439"/>
                </a:lnTo>
                <a:lnTo>
                  <a:pt x="599" y="410"/>
                </a:lnTo>
                <a:lnTo>
                  <a:pt x="604" y="384"/>
                </a:lnTo>
                <a:lnTo>
                  <a:pt x="606" y="363"/>
                </a:lnTo>
                <a:lnTo>
                  <a:pt x="611" y="341"/>
                </a:lnTo>
                <a:lnTo>
                  <a:pt x="614" y="322"/>
                </a:lnTo>
                <a:lnTo>
                  <a:pt x="614" y="305"/>
                </a:lnTo>
                <a:lnTo>
                  <a:pt x="616" y="291"/>
                </a:lnTo>
                <a:lnTo>
                  <a:pt x="616" y="277"/>
                </a:lnTo>
                <a:lnTo>
                  <a:pt x="616" y="267"/>
                </a:lnTo>
                <a:lnTo>
                  <a:pt x="614" y="260"/>
                </a:lnTo>
                <a:lnTo>
                  <a:pt x="614" y="253"/>
                </a:lnTo>
                <a:lnTo>
                  <a:pt x="611" y="250"/>
                </a:lnTo>
                <a:lnTo>
                  <a:pt x="606" y="246"/>
                </a:lnTo>
                <a:lnTo>
                  <a:pt x="602" y="246"/>
                </a:lnTo>
                <a:lnTo>
                  <a:pt x="594" y="243"/>
                </a:lnTo>
                <a:lnTo>
                  <a:pt x="587" y="241"/>
                </a:lnTo>
                <a:lnTo>
                  <a:pt x="575" y="241"/>
                </a:lnTo>
                <a:lnTo>
                  <a:pt x="563" y="238"/>
                </a:lnTo>
                <a:lnTo>
                  <a:pt x="551" y="238"/>
                </a:lnTo>
                <a:lnTo>
                  <a:pt x="535" y="238"/>
                </a:lnTo>
                <a:lnTo>
                  <a:pt x="518" y="238"/>
                </a:lnTo>
                <a:lnTo>
                  <a:pt x="501" y="238"/>
                </a:lnTo>
                <a:lnTo>
                  <a:pt x="482" y="241"/>
                </a:lnTo>
                <a:lnTo>
                  <a:pt x="461" y="241"/>
                </a:lnTo>
                <a:lnTo>
                  <a:pt x="439" y="243"/>
                </a:lnTo>
                <a:lnTo>
                  <a:pt x="415" y="246"/>
                </a:lnTo>
                <a:lnTo>
                  <a:pt x="389" y="246"/>
                </a:lnTo>
                <a:lnTo>
                  <a:pt x="363" y="250"/>
                </a:lnTo>
                <a:lnTo>
                  <a:pt x="310" y="255"/>
                </a:lnTo>
                <a:lnTo>
                  <a:pt x="258" y="260"/>
                </a:lnTo>
                <a:lnTo>
                  <a:pt x="210" y="265"/>
                </a:lnTo>
                <a:lnTo>
                  <a:pt x="186" y="267"/>
                </a:lnTo>
                <a:lnTo>
                  <a:pt x="162" y="270"/>
                </a:lnTo>
                <a:lnTo>
                  <a:pt x="138" y="270"/>
                </a:lnTo>
                <a:lnTo>
                  <a:pt x="117" y="272"/>
                </a:lnTo>
                <a:lnTo>
                  <a:pt x="95" y="274"/>
                </a:lnTo>
                <a:lnTo>
                  <a:pt x="74" y="274"/>
                </a:lnTo>
                <a:lnTo>
                  <a:pt x="55" y="277"/>
                </a:lnTo>
                <a:lnTo>
                  <a:pt x="36" y="277"/>
                </a:lnTo>
                <a:lnTo>
                  <a:pt x="17" y="277"/>
                </a:lnTo>
                <a:lnTo>
                  <a:pt x="0" y="277"/>
                </a:lnTo>
                <a:lnTo>
                  <a:pt x="0" y="152"/>
                </a:lnTo>
                <a:lnTo>
                  <a:pt x="36" y="150"/>
                </a:lnTo>
                <a:lnTo>
                  <a:pt x="69" y="148"/>
                </a:lnTo>
                <a:lnTo>
                  <a:pt x="103" y="145"/>
                </a:lnTo>
                <a:lnTo>
                  <a:pt x="134" y="143"/>
                </a:lnTo>
                <a:lnTo>
                  <a:pt x="165" y="138"/>
                </a:lnTo>
                <a:lnTo>
                  <a:pt x="193" y="136"/>
                </a:lnTo>
                <a:lnTo>
                  <a:pt x="220" y="133"/>
                </a:lnTo>
                <a:lnTo>
                  <a:pt x="246" y="131"/>
                </a:lnTo>
                <a:lnTo>
                  <a:pt x="272" y="129"/>
                </a:lnTo>
                <a:lnTo>
                  <a:pt x="296" y="126"/>
                </a:lnTo>
                <a:lnTo>
                  <a:pt x="318" y="124"/>
                </a:lnTo>
                <a:lnTo>
                  <a:pt x="339" y="121"/>
                </a:lnTo>
                <a:lnTo>
                  <a:pt x="360" y="119"/>
                </a:lnTo>
                <a:lnTo>
                  <a:pt x="380" y="117"/>
                </a:lnTo>
                <a:lnTo>
                  <a:pt x="399" y="114"/>
                </a:lnTo>
                <a:lnTo>
                  <a:pt x="415" y="112"/>
                </a:lnTo>
                <a:lnTo>
                  <a:pt x="444" y="105"/>
                </a:lnTo>
                <a:lnTo>
                  <a:pt x="470" y="100"/>
                </a:lnTo>
                <a:lnTo>
                  <a:pt x="497" y="93"/>
                </a:lnTo>
                <a:lnTo>
                  <a:pt x="520" y="86"/>
                </a:lnTo>
                <a:lnTo>
                  <a:pt x="544" y="78"/>
                </a:lnTo>
                <a:lnTo>
                  <a:pt x="563" y="69"/>
                </a:lnTo>
                <a:lnTo>
                  <a:pt x="583" y="57"/>
                </a:lnTo>
                <a:lnTo>
                  <a:pt x="590" y="50"/>
                </a:lnTo>
                <a:lnTo>
                  <a:pt x="597" y="43"/>
                </a:lnTo>
                <a:lnTo>
                  <a:pt x="611" y="31"/>
                </a:lnTo>
                <a:lnTo>
                  <a:pt x="625" y="24"/>
                </a:lnTo>
                <a:lnTo>
                  <a:pt x="640" y="16"/>
                </a:lnTo>
                <a:lnTo>
                  <a:pt x="654" y="9"/>
                </a:lnTo>
                <a:lnTo>
                  <a:pt x="668" y="7"/>
                </a:lnTo>
                <a:lnTo>
                  <a:pt x="680" y="2"/>
                </a:lnTo>
                <a:lnTo>
                  <a:pt x="692" y="0"/>
                </a:lnTo>
                <a:lnTo>
                  <a:pt x="702" y="0"/>
                </a:lnTo>
                <a:lnTo>
                  <a:pt x="704" y="2"/>
                </a:lnTo>
                <a:lnTo>
                  <a:pt x="709" y="7"/>
                </a:lnTo>
                <a:lnTo>
                  <a:pt x="714" y="9"/>
                </a:lnTo>
                <a:lnTo>
                  <a:pt x="719" y="14"/>
                </a:lnTo>
                <a:lnTo>
                  <a:pt x="726" y="16"/>
                </a:lnTo>
                <a:lnTo>
                  <a:pt x="733" y="21"/>
                </a:lnTo>
                <a:lnTo>
                  <a:pt x="740" y="26"/>
                </a:lnTo>
                <a:lnTo>
                  <a:pt x="750" y="31"/>
                </a:lnTo>
                <a:lnTo>
                  <a:pt x="762" y="35"/>
                </a:lnTo>
                <a:lnTo>
                  <a:pt x="771" y="43"/>
                </a:lnTo>
                <a:lnTo>
                  <a:pt x="783" y="47"/>
                </a:lnTo>
                <a:lnTo>
                  <a:pt x="797" y="55"/>
                </a:lnTo>
                <a:lnTo>
                  <a:pt x="812" y="62"/>
                </a:lnTo>
                <a:lnTo>
                  <a:pt x="826" y="69"/>
                </a:lnTo>
                <a:lnTo>
                  <a:pt x="840" y="76"/>
                </a:lnTo>
                <a:lnTo>
                  <a:pt x="857" y="83"/>
                </a:lnTo>
                <a:lnTo>
                  <a:pt x="871" y="93"/>
                </a:lnTo>
                <a:lnTo>
                  <a:pt x="886" y="102"/>
                </a:lnTo>
                <a:lnTo>
                  <a:pt x="898" y="112"/>
                </a:lnTo>
                <a:lnTo>
                  <a:pt x="910" y="121"/>
                </a:lnTo>
                <a:lnTo>
                  <a:pt x="919" y="131"/>
                </a:lnTo>
                <a:lnTo>
                  <a:pt x="929" y="141"/>
                </a:lnTo>
                <a:lnTo>
                  <a:pt x="938" y="150"/>
                </a:lnTo>
                <a:lnTo>
                  <a:pt x="945" y="157"/>
                </a:lnTo>
                <a:lnTo>
                  <a:pt x="953" y="167"/>
                </a:lnTo>
                <a:lnTo>
                  <a:pt x="957" y="174"/>
                </a:lnTo>
                <a:lnTo>
                  <a:pt x="965" y="181"/>
                </a:lnTo>
                <a:lnTo>
                  <a:pt x="967" y="191"/>
                </a:lnTo>
                <a:lnTo>
                  <a:pt x="972" y="198"/>
                </a:lnTo>
                <a:lnTo>
                  <a:pt x="974" y="205"/>
                </a:lnTo>
                <a:lnTo>
                  <a:pt x="974" y="215"/>
                </a:lnTo>
                <a:lnTo>
                  <a:pt x="974" y="222"/>
                </a:lnTo>
                <a:lnTo>
                  <a:pt x="974" y="222"/>
                </a:lnTo>
              </a:path>
            </a:pathLst>
          </a:custGeom>
          <a:solidFill>
            <a:srgbClr val="3333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70720" y="5157720"/>
            <a:ext cx="28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横折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héngzh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140360" y="1628640"/>
            <a:ext cx="1295280" cy="2087640"/>
          </a:xfrm>
          <a:custGeom>
            <a:avLst/>
            <a:gdLst/>
            <a:ahLst/>
            <a:rect l="l" t="t" r="r" b="b"/>
            <a:pathLst>
              <a:path w="735" h="1123">
                <a:moveTo>
                  <a:pt x="202" y="244"/>
                </a:moveTo>
                <a:lnTo>
                  <a:pt x="202" y="263"/>
                </a:lnTo>
                <a:lnTo>
                  <a:pt x="202" y="280"/>
                </a:lnTo>
                <a:lnTo>
                  <a:pt x="202" y="299"/>
                </a:lnTo>
                <a:lnTo>
                  <a:pt x="200" y="320"/>
                </a:lnTo>
                <a:lnTo>
                  <a:pt x="200" y="342"/>
                </a:lnTo>
                <a:lnTo>
                  <a:pt x="198" y="366"/>
                </a:lnTo>
                <a:lnTo>
                  <a:pt x="195" y="380"/>
                </a:lnTo>
                <a:lnTo>
                  <a:pt x="193" y="392"/>
                </a:lnTo>
                <a:lnTo>
                  <a:pt x="193" y="406"/>
                </a:lnTo>
                <a:lnTo>
                  <a:pt x="191" y="420"/>
                </a:lnTo>
                <a:lnTo>
                  <a:pt x="186" y="451"/>
                </a:lnTo>
                <a:lnTo>
                  <a:pt x="183" y="483"/>
                </a:lnTo>
                <a:lnTo>
                  <a:pt x="181" y="514"/>
                </a:lnTo>
                <a:lnTo>
                  <a:pt x="181" y="545"/>
                </a:lnTo>
                <a:lnTo>
                  <a:pt x="181" y="576"/>
                </a:lnTo>
                <a:lnTo>
                  <a:pt x="183" y="609"/>
                </a:lnTo>
                <a:lnTo>
                  <a:pt x="186" y="645"/>
                </a:lnTo>
                <a:lnTo>
                  <a:pt x="191" y="681"/>
                </a:lnTo>
                <a:lnTo>
                  <a:pt x="191" y="697"/>
                </a:lnTo>
                <a:lnTo>
                  <a:pt x="191" y="714"/>
                </a:lnTo>
                <a:lnTo>
                  <a:pt x="191" y="731"/>
                </a:lnTo>
                <a:lnTo>
                  <a:pt x="193" y="745"/>
                </a:lnTo>
                <a:lnTo>
                  <a:pt x="193" y="760"/>
                </a:lnTo>
                <a:lnTo>
                  <a:pt x="195" y="774"/>
                </a:lnTo>
                <a:lnTo>
                  <a:pt x="198" y="786"/>
                </a:lnTo>
                <a:lnTo>
                  <a:pt x="200" y="798"/>
                </a:lnTo>
                <a:lnTo>
                  <a:pt x="205" y="810"/>
                </a:lnTo>
                <a:lnTo>
                  <a:pt x="207" y="819"/>
                </a:lnTo>
                <a:lnTo>
                  <a:pt x="212" y="829"/>
                </a:lnTo>
                <a:lnTo>
                  <a:pt x="217" y="836"/>
                </a:lnTo>
                <a:lnTo>
                  <a:pt x="222" y="843"/>
                </a:lnTo>
                <a:lnTo>
                  <a:pt x="226" y="848"/>
                </a:lnTo>
                <a:lnTo>
                  <a:pt x="233" y="853"/>
                </a:lnTo>
                <a:lnTo>
                  <a:pt x="241" y="857"/>
                </a:lnTo>
                <a:lnTo>
                  <a:pt x="248" y="862"/>
                </a:lnTo>
                <a:lnTo>
                  <a:pt x="255" y="867"/>
                </a:lnTo>
                <a:lnTo>
                  <a:pt x="262" y="872"/>
                </a:lnTo>
                <a:lnTo>
                  <a:pt x="272" y="877"/>
                </a:lnTo>
                <a:lnTo>
                  <a:pt x="279" y="879"/>
                </a:lnTo>
                <a:lnTo>
                  <a:pt x="288" y="881"/>
                </a:lnTo>
                <a:lnTo>
                  <a:pt x="298" y="884"/>
                </a:lnTo>
                <a:lnTo>
                  <a:pt x="307" y="884"/>
                </a:lnTo>
                <a:lnTo>
                  <a:pt x="327" y="884"/>
                </a:lnTo>
                <a:lnTo>
                  <a:pt x="346" y="881"/>
                </a:lnTo>
                <a:lnTo>
                  <a:pt x="370" y="879"/>
                </a:lnTo>
                <a:lnTo>
                  <a:pt x="391" y="874"/>
                </a:lnTo>
                <a:lnTo>
                  <a:pt x="415" y="867"/>
                </a:lnTo>
                <a:lnTo>
                  <a:pt x="436" y="865"/>
                </a:lnTo>
                <a:lnTo>
                  <a:pt x="458" y="862"/>
                </a:lnTo>
                <a:lnTo>
                  <a:pt x="477" y="860"/>
                </a:lnTo>
                <a:lnTo>
                  <a:pt x="496" y="857"/>
                </a:lnTo>
                <a:lnTo>
                  <a:pt x="513" y="857"/>
                </a:lnTo>
                <a:lnTo>
                  <a:pt x="529" y="857"/>
                </a:lnTo>
                <a:lnTo>
                  <a:pt x="544" y="857"/>
                </a:lnTo>
                <a:lnTo>
                  <a:pt x="558" y="857"/>
                </a:lnTo>
                <a:lnTo>
                  <a:pt x="572" y="860"/>
                </a:lnTo>
                <a:lnTo>
                  <a:pt x="587" y="865"/>
                </a:lnTo>
                <a:lnTo>
                  <a:pt x="603" y="869"/>
                </a:lnTo>
                <a:lnTo>
                  <a:pt x="618" y="877"/>
                </a:lnTo>
                <a:lnTo>
                  <a:pt x="634" y="884"/>
                </a:lnTo>
                <a:lnTo>
                  <a:pt x="651" y="893"/>
                </a:lnTo>
                <a:lnTo>
                  <a:pt x="670" y="905"/>
                </a:lnTo>
                <a:lnTo>
                  <a:pt x="685" y="917"/>
                </a:lnTo>
                <a:lnTo>
                  <a:pt x="696" y="929"/>
                </a:lnTo>
                <a:lnTo>
                  <a:pt x="706" y="941"/>
                </a:lnTo>
                <a:lnTo>
                  <a:pt x="716" y="953"/>
                </a:lnTo>
                <a:lnTo>
                  <a:pt x="723" y="963"/>
                </a:lnTo>
                <a:lnTo>
                  <a:pt x="730" y="972"/>
                </a:lnTo>
                <a:lnTo>
                  <a:pt x="732" y="979"/>
                </a:lnTo>
                <a:lnTo>
                  <a:pt x="732" y="984"/>
                </a:lnTo>
                <a:lnTo>
                  <a:pt x="735" y="986"/>
                </a:lnTo>
                <a:lnTo>
                  <a:pt x="732" y="994"/>
                </a:lnTo>
                <a:lnTo>
                  <a:pt x="732" y="998"/>
                </a:lnTo>
                <a:lnTo>
                  <a:pt x="730" y="1006"/>
                </a:lnTo>
                <a:lnTo>
                  <a:pt x="728" y="1010"/>
                </a:lnTo>
                <a:lnTo>
                  <a:pt x="723" y="1018"/>
                </a:lnTo>
                <a:lnTo>
                  <a:pt x="718" y="1022"/>
                </a:lnTo>
                <a:lnTo>
                  <a:pt x="711" y="1029"/>
                </a:lnTo>
                <a:lnTo>
                  <a:pt x="706" y="1034"/>
                </a:lnTo>
                <a:lnTo>
                  <a:pt x="696" y="1041"/>
                </a:lnTo>
                <a:lnTo>
                  <a:pt x="689" y="1046"/>
                </a:lnTo>
                <a:lnTo>
                  <a:pt x="680" y="1053"/>
                </a:lnTo>
                <a:lnTo>
                  <a:pt x="670" y="1058"/>
                </a:lnTo>
                <a:lnTo>
                  <a:pt x="658" y="1065"/>
                </a:lnTo>
                <a:lnTo>
                  <a:pt x="646" y="1072"/>
                </a:lnTo>
                <a:lnTo>
                  <a:pt x="634" y="1077"/>
                </a:lnTo>
                <a:lnTo>
                  <a:pt x="620" y="1084"/>
                </a:lnTo>
                <a:lnTo>
                  <a:pt x="591" y="1094"/>
                </a:lnTo>
                <a:lnTo>
                  <a:pt x="560" y="1106"/>
                </a:lnTo>
                <a:lnTo>
                  <a:pt x="529" y="1113"/>
                </a:lnTo>
                <a:lnTo>
                  <a:pt x="496" y="1118"/>
                </a:lnTo>
                <a:lnTo>
                  <a:pt x="479" y="1120"/>
                </a:lnTo>
                <a:lnTo>
                  <a:pt x="463" y="1123"/>
                </a:lnTo>
                <a:lnTo>
                  <a:pt x="446" y="1123"/>
                </a:lnTo>
                <a:lnTo>
                  <a:pt x="427" y="1123"/>
                </a:lnTo>
                <a:lnTo>
                  <a:pt x="410" y="1123"/>
                </a:lnTo>
                <a:lnTo>
                  <a:pt x="391" y="1120"/>
                </a:lnTo>
                <a:lnTo>
                  <a:pt x="372" y="1118"/>
                </a:lnTo>
                <a:lnTo>
                  <a:pt x="353" y="1115"/>
                </a:lnTo>
                <a:lnTo>
                  <a:pt x="334" y="1115"/>
                </a:lnTo>
                <a:lnTo>
                  <a:pt x="312" y="1115"/>
                </a:lnTo>
                <a:lnTo>
                  <a:pt x="293" y="1113"/>
                </a:lnTo>
                <a:lnTo>
                  <a:pt x="276" y="1111"/>
                </a:lnTo>
                <a:lnTo>
                  <a:pt x="257" y="1106"/>
                </a:lnTo>
                <a:lnTo>
                  <a:pt x="241" y="1103"/>
                </a:lnTo>
                <a:lnTo>
                  <a:pt x="226" y="1099"/>
                </a:lnTo>
                <a:lnTo>
                  <a:pt x="212" y="1094"/>
                </a:lnTo>
                <a:lnTo>
                  <a:pt x="198" y="1089"/>
                </a:lnTo>
                <a:lnTo>
                  <a:pt x="186" y="1082"/>
                </a:lnTo>
                <a:lnTo>
                  <a:pt x="174" y="1075"/>
                </a:lnTo>
                <a:lnTo>
                  <a:pt x="162" y="1068"/>
                </a:lnTo>
                <a:lnTo>
                  <a:pt x="152" y="1060"/>
                </a:lnTo>
                <a:lnTo>
                  <a:pt x="143" y="1053"/>
                </a:lnTo>
                <a:lnTo>
                  <a:pt x="133" y="1044"/>
                </a:lnTo>
                <a:lnTo>
                  <a:pt x="126" y="1034"/>
                </a:lnTo>
                <a:lnTo>
                  <a:pt x="117" y="1025"/>
                </a:lnTo>
                <a:lnTo>
                  <a:pt x="109" y="1013"/>
                </a:lnTo>
                <a:lnTo>
                  <a:pt x="100" y="1001"/>
                </a:lnTo>
                <a:lnTo>
                  <a:pt x="93" y="986"/>
                </a:lnTo>
                <a:lnTo>
                  <a:pt x="86" y="972"/>
                </a:lnTo>
                <a:lnTo>
                  <a:pt x="78" y="955"/>
                </a:lnTo>
                <a:lnTo>
                  <a:pt x="74" y="936"/>
                </a:lnTo>
                <a:lnTo>
                  <a:pt x="69" y="917"/>
                </a:lnTo>
                <a:lnTo>
                  <a:pt x="62" y="898"/>
                </a:lnTo>
                <a:lnTo>
                  <a:pt x="57" y="877"/>
                </a:lnTo>
                <a:lnTo>
                  <a:pt x="54" y="855"/>
                </a:lnTo>
                <a:lnTo>
                  <a:pt x="50" y="831"/>
                </a:lnTo>
                <a:lnTo>
                  <a:pt x="47" y="807"/>
                </a:lnTo>
                <a:lnTo>
                  <a:pt x="43" y="781"/>
                </a:lnTo>
                <a:lnTo>
                  <a:pt x="40" y="755"/>
                </a:lnTo>
                <a:lnTo>
                  <a:pt x="38" y="729"/>
                </a:lnTo>
                <a:lnTo>
                  <a:pt x="35" y="700"/>
                </a:lnTo>
                <a:lnTo>
                  <a:pt x="33" y="669"/>
                </a:lnTo>
                <a:lnTo>
                  <a:pt x="31" y="635"/>
                </a:lnTo>
                <a:lnTo>
                  <a:pt x="28" y="602"/>
                </a:lnTo>
                <a:lnTo>
                  <a:pt x="26" y="564"/>
                </a:lnTo>
                <a:lnTo>
                  <a:pt x="23" y="523"/>
                </a:lnTo>
                <a:lnTo>
                  <a:pt x="21" y="483"/>
                </a:lnTo>
                <a:lnTo>
                  <a:pt x="19" y="437"/>
                </a:lnTo>
                <a:lnTo>
                  <a:pt x="16" y="392"/>
                </a:lnTo>
                <a:lnTo>
                  <a:pt x="14" y="342"/>
                </a:lnTo>
                <a:lnTo>
                  <a:pt x="12" y="291"/>
                </a:lnTo>
                <a:lnTo>
                  <a:pt x="9" y="237"/>
                </a:lnTo>
                <a:lnTo>
                  <a:pt x="7" y="182"/>
                </a:lnTo>
                <a:lnTo>
                  <a:pt x="4" y="124"/>
                </a:lnTo>
                <a:lnTo>
                  <a:pt x="2" y="65"/>
                </a:lnTo>
                <a:lnTo>
                  <a:pt x="0" y="0"/>
                </a:lnTo>
                <a:lnTo>
                  <a:pt x="26" y="22"/>
                </a:lnTo>
                <a:lnTo>
                  <a:pt x="47" y="43"/>
                </a:lnTo>
                <a:lnTo>
                  <a:pt x="69" y="62"/>
                </a:lnTo>
                <a:lnTo>
                  <a:pt x="90" y="81"/>
                </a:lnTo>
                <a:lnTo>
                  <a:pt x="107" y="98"/>
                </a:lnTo>
                <a:lnTo>
                  <a:pt x="124" y="115"/>
                </a:lnTo>
                <a:lnTo>
                  <a:pt x="140" y="131"/>
                </a:lnTo>
                <a:lnTo>
                  <a:pt x="152" y="148"/>
                </a:lnTo>
                <a:lnTo>
                  <a:pt x="164" y="163"/>
                </a:lnTo>
                <a:lnTo>
                  <a:pt x="174" y="177"/>
                </a:lnTo>
                <a:lnTo>
                  <a:pt x="183" y="189"/>
                </a:lnTo>
                <a:lnTo>
                  <a:pt x="191" y="201"/>
                </a:lnTo>
                <a:lnTo>
                  <a:pt x="195" y="213"/>
                </a:lnTo>
                <a:lnTo>
                  <a:pt x="200" y="225"/>
                </a:lnTo>
                <a:lnTo>
                  <a:pt x="202" y="234"/>
                </a:lnTo>
                <a:lnTo>
                  <a:pt x="202" y="244"/>
                </a:lnTo>
                <a:lnTo>
                  <a:pt x="202" y="244"/>
                </a:lnTo>
              </a:path>
            </a:pathLst>
          </a:custGeom>
          <a:solidFill>
            <a:srgbClr val="9933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63880" y="55166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竖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h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w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484280"/>
            <a:ext cx="2448000" cy="2808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614320" y="5516640"/>
            <a:ext cx="50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竖弯钩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h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wā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gō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802880" y="5589720"/>
            <a:ext cx="70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横折弯钩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hén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zh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wā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gō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857680" y="1608120"/>
            <a:ext cx="3009600" cy="2397240"/>
          </a:xfrm>
          <a:custGeom>
            <a:avLst/>
            <a:gdLst/>
            <a:ahLst/>
            <a:rect l="l" t="t" r="r" b="b"/>
            <a:pathLst>
              <a:path w="2293" h="1749">
                <a:moveTo>
                  <a:pt x="1744" y="1749"/>
                </a:moveTo>
                <a:lnTo>
                  <a:pt x="1704" y="1749"/>
                </a:lnTo>
                <a:lnTo>
                  <a:pt x="1661" y="1747"/>
                </a:lnTo>
                <a:lnTo>
                  <a:pt x="1622" y="1744"/>
                </a:lnTo>
                <a:lnTo>
                  <a:pt x="1582" y="1739"/>
                </a:lnTo>
                <a:lnTo>
                  <a:pt x="1544" y="1732"/>
                </a:lnTo>
                <a:lnTo>
                  <a:pt x="1508" y="1725"/>
                </a:lnTo>
                <a:lnTo>
                  <a:pt x="1470" y="1716"/>
                </a:lnTo>
                <a:lnTo>
                  <a:pt x="1436" y="1704"/>
                </a:lnTo>
                <a:lnTo>
                  <a:pt x="1401" y="1689"/>
                </a:lnTo>
                <a:lnTo>
                  <a:pt x="1370" y="1673"/>
                </a:lnTo>
                <a:lnTo>
                  <a:pt x="1339" y="1658"/>
                </a:lnTo>
                <a:lnTo>
                  <a:pt x="1310" y="1639"/>
                </a:lnTo>
                <a:lnTo>
                  <a:pt x="1298" y="1630"/>
                </a:lnTo>
                <a:lnTo>
                  <a:pt x="1284" y="1618"/>
                </a:lnTo>
                <a:lnTo>
                  <a:pt x="1272" y="1608"/>
                </a:lnTo>
                <a:lnTo>
                  <a:pt x="1260" y="1596"/>
                </a:lnTo>
                <a:lnTo>
                  <a:pt x="1250" y="1582"/>
                </a:lnTo>
                <a:lnTo>
                  <a:pt x="1238" y="1570"/>
                </a:lnTo>
                <a:lnTo>
                  <a:pt x="1229" y="1556"/>
                </a:lnTo>
                <a:lnTo>
                  <a:pt x="1219" y="1541"/>
                </a:lnTo>
                <a:lnTo>
                  <a:pt x="1210" y="1527"/>
                </a:lnTo>
                <a:lnTo>
                  <a:pt x="1200" y="1513"/>
                </a:lnTo>
                <a:lnTo>
                  <a:pt x="1193" y="1498"/>
                </a:lnTo>
                <a:lnTo>
                  <a:pt x="1186" y="1484"/>
                </a:lnTo>
                <a:lnTo>
                  <a:pt x="1172" y="1453"/>
                </a:lnTo>
                <a:lnTo>
                  <a:pt x="1162" y="1420"/>
                </a:lnTo>
                <a:lnTo>
                  <a:pt x="1152" y="1386"/>
                </a:lnTo>
                <a:lnTo>
                  <a:pt x="1145" y="1351"/>
                </a:lnTo>
                <a:lnTo>
                  <a:pt x="1141" y="1312"/>
                </a:lnTo>
                <a:lnTo>
                  <a:pt x="1136" y="1274"/>
                </a:lnTo>
                <a:lnTo>
                  <a:pt x="1133" y="1236"/>
                </a:lnTo>
                <a:lnTo>
                  <a:pt x="1131" y="1198"/>
                </a:lnTo>
                <a:lnTo>
                  <a:pt x="1131" y="1162"/>
                </a:lnTo>
                <a:lnTo>
                  <a:pt x="1133" y="1126"/>
                </a:lnTo>
                <a:lnTo>
                  <a:pt x="1136" y="1093"/>
                </a:lnTo>
                <a:lnTo>
                  <a:pt x="1138" y="1060"/>
                </a:lnTo>
                <a:lnTo>
                  <a:pt x="1143" y="1029"/>
                </a:lnTo>
                <a:lnTo>
                  <a:pt x="1145" y="998"/>
                </a:lnTo>
                <a:lnTo>
                  <a:pt x="1148" y="981"/>
                </a:lnTo>
                <a:lnTo>
                  <a:pt x="1150" y="964"/>
                </a:lnTo>
                <a:lnTo>
                  <a:pt x="1152" y="945"/>
                </a:lnTo>
                <a:lnTo>
                  <a:pt x="1155" y="924"/>
                </a:lnTo>
                <a:lnTo>
                  <a:pt x="1160" y="902"/>
                </a:lnTo>
                <a:lnTo>
                  <a:pt x="1162" y="881"/>
                </a:lnTo>
                <a:lnTo>
                  <a:pt x="1167" y="854"/>
                </a:lnTo>
                <a:lnTo>
                  <a:pt x="1172" y="828"/>
                </a:lnTo>
                <a:lnTo>
                  <a:pt x="1176" y="802"/>
                </a:lnTo>
                <a:lnTo>
                  <a:pt x="1181" y="771"/>
                </a:lnTo>
                <a:lnTo>
                  <a:pt x="1186" y="740"/>
                </a:lnTo>
                <a:lnTo>
                  <a:pt x="1191" y="707"/>
                </a:lnTo>
                <a:lnTo>
                  <a:pt x="1198" y="673"/>
                </a:lnTo>
                <a:lnTo>
                  <a:pt x="1205" y="635"/>
                </a:lnTo>
                <a:lnTo>
                  <a:pt x="1212" y="597"/>
                </a:lnTo>
                <a:lnTo>
                  <a:pt x="1219" y="556"/>
                </a:lnTo>
                <a:lnTo>
                  <a:pt x="1222" y="537"/>
                </a:lnTo>
                <a:lnTo>
                  <a:pt x="1224" y="518"/>
                </a:lnTo>
                <a:lnTo>
                  <a:pt x="1226" y="499"/>
                </a:lnTo>
                <a:lnTo>
                  <a:pt x="1229" y="480"/>
                </a:lnTo>
                <a:lnTo>
                  <a:pt x="1231" y="463"/>
                </a:lnTo>
                <a:lnTo>
                  <a:pt x="1234" y="447"/>
                </a:lnTo>
                <a:lnTo>
                  <a:pt x="1236" y="430"/>
                </a:lnTo>
                <a:lnTo>
                  <a:pt x="1238" y="413"/>
                </a:lnTo>
                <a:lnTo>
                  <a:pt x="1241" y="399"/>
                </a:lnTo>
                <a:lnTo>
                  <a:pt x="1243" y="385"/>
                </a:lnTo>
                <a:lnTo>
                  <a:pt x="1246" y="370"/>
                </a:lnTo>
                <a:lnTo>
                  <a:pt x="1248" y="358"/>
                </a:lnTo>
                <a:lnTo>
                  <a:pt x="1250" y="344"/>
                </a:lnTo>
                <a:lnTo>
                  <a:pt x="1250" y="332"/>
                </a:lnTo>
                <a:lnTo>
                  <a:pt x="1253" y="322"/>
                </a:lnTo>
                <a:lnTo>
                  <a:pt x="1255" y="311"/>
                </a:lnTo>
                <a:lnTo>
                  <a:pt x="1255" y="301"/>
                </a:lnTo>
                <a:lnTo>
                  <a:pt x="1257" y="291"/>
                </a:lnTo>
                <a:lnTo>
                  <a:pt x="1257" y="282"/>
                </a:lnTo>
                <a:lnTo>
                  <a:pt x="1260" y="275"/>
                </a:lnTo>
                <a:lnTo>
                  <a:pt x="1260" y="260"/>
                </a:lnTo>
                <a:lnTo>
                  <a:pt x="1262" y="249"/>
                </a:lnTo>
                <a:lnTo>
                  <a:pt x="1262" y="239"/>
                </a:lnTo>
                <a:lnTo>
                  <a:pt x="1262" y="229"/>
                </a:lnTo>
                <a:lnTo>
                  <a:pt x="1262" y="225"/>
                </a:lnTo>
                <a:lnTo>
                  <a:pt x="1260" y="222"/>
                </a:lnTo>
                <a:lnTo>
                  <a:pt x="1257" y="220"/>
                </a:lnTo>
                <a:lnTo>
                  <a:pt x="1253" y="220"/>
                </a:lnTo>
                <a:lnTo>
                  <a:pt x="1246" y="220"/>
                </a:lnTo>
                <a:lnTo>
                  <a:pt x="1236" y="220"/>
                </a:lnTo>
                <a:lnTo>
                  <a:pt x="1226" y="222"/>
                </a:lnTo>
                <a:lnTo>
                  <a:pt x="1214" y="227"/>
                </a:lnTo>
                <a:lnTo>
                  <a:pt x="1200" y="229"/>
                </a:lnTo>
                <a:lnTo>
                  <a:pt x="1183" y="237"/>
                </a:lnTo>
                <a:lnTo>
                  <a:pt x="1164" y="241"/>
                </a:lnTo>
                <a:lnTo>
                  <a:pt x="1145" y="249"/>
                </a:lnTo>
                <a:lnTo>
                  <a:pt x="1124" y="256"/>
                </a:lnTo>
                <a:lnTo>
                  <a:pt x="1100" y="263"/>
                </a:lnTo>
                <a:lnTo>
                  <a:pt x="1076" y="272"/>
                </a:lnTo>
                <a:lnTo>
                  <a:pt x="1050" y="282"/>
                </a:lnTo>
                <a:lnTo>
                  <a:pt x="1021" y="291"/>
                </a:lnTo>
                <a:lnTo>
                  <a:pt x="990" y="303"/>
                </a:lnTo>
                <a:lnTo>
                  <a:pt x="928" y="325"/>
                </a:lnTo>
                <a:lnTo>
                  <a:pt x="866" y="349"/>
                </a:lnTo>
                <a:lnTo>
                  <a:pt x="802" y="373"/>
                </a:lnTo>
                <a:lnTo>
                  <a:pt x="737" y="396"/>
                </a:lnTo>
                <a:lnTo>
                  <a:pt x="606" y="447"/>
                </a:lnTo>
                <a:lnTo>
                  <a:pt x="475" y="499"/>
                </a:lnTo>
                <a:lnTo>
                  <a:pt x="442" y="511"/>
                </a:lnTo>
                <a:lnTo>
                  <a:pt x="408" y="523"/>
                </a:lnTo>
                <a:lnTo>
                  <a:pt x="379" y="535"/>
                </a:lnTo>
                <a:lnTo>
                  <a:pt x="351" y="544"/>
                </a:lnTo>
                <a:lnTo>
                  <a:pt x="325" y="554"/>
                </a:lnTo>
                <a:lnTo>
                  <a:pt x="301" y="563"/>
                </a:lnTo>
                <a:lnTo>
                  <a:pt x="277" y="571"/>
                </a:lnTo>
                <a:lnTo>
                  <a:pt x="258" y="578"/>
                </a:lnTo>
                <a:lnTo>
                  <a:pt x="239" y="585"/>
                </a:lnTo>
                <a:lnTo>
                  <a:pt x="222" y="590"/>
                </a:lnTo>
                <a:lnTo>
                  <a:pt x="208" y="594"/>
                </a:lnTo>
                <a:lnTo>
                  <a:pt x="196" y="597"/>
                </a:lnTo>
                <a:lnTo>
                  <a:pt x="184" y="599"/>
                </a:lnTo>
                <a:lnTo>
                  <a:pt x="177" y="602"/>
                </a:lnTo>
                <a:lnTo>
                  <a:pt x="170" y="604"/>
                </a:lnTo>
                <a:lnTo>
                  <a:pt x="165" y="604"/>
                </a:lnTo>
                <a:lnTo>
                  <a:pt x="155" y="602"/>
                </a:lnTo>
                <a:lnTo>
                  <a:pt x="146" y="599"/>
                </a:lnTo>
                <a:lnTo>
                  <a:pt x="136" y="594"/>
                </a:lnTo>
                <a:lnTo>
                  <a:pt x="127" y="587"/>
                </a:lnTo>
                <a:lnTo>
                  <a:pt x="112" y="580"/>
                </a:lnTo>
                <a:lnTo>
                  <a:pt x="100" y="568"/>
                </a:lnTo>
                <a:lnTo>
                  <a:pt x="86" y="559"/>
                </a:lnTo>
                <a:lnTo>
                  <a:pt x="72" y="544"/>
                </a:lnTo>
                <a:lnTo>
                  <a:pt x="62" y="540"/>
                </a:lnTo>
                <a:lnTo>
                  <a:pt x="53" y="532"/>
                </a:lnTo>
                <a:lnTo>
                  <a:pt x="45" y="525"/>
                </a:lnTo>
                <a:lnTo>
                  <a:pt x="38" y="520"/>
                </a:lnTo>
                <a:lnTo>
                  <a:pt x="31" y="513"/>
                </a:lnTo>
                <a:lnTo>
                  <a:pt x="26" y="506"/>
                </a:lnTo>
                <a:lnTo>
                  <a:pt x="22" y="501"/>
                </a:lnTo>
                <a:lnTo>
                  <a:pt x="17" y="494"/>
                </a:lnTo>
                <a:lnTo>
                  <a:pt x="12" y="489"/>
                </a:lnTo>
                <a:lnTo>
                  <a:pt x="7" y="482"/>
                </a:lnTo>
                <a:lnTo>
                  <a:pt x="3" y="473"/>
                </a:lnTo>
                <a:lnTo>
                  <a:pt x="0" y="461"/>
                </a:lnTo>
                <a:lnTo>
                  <a:pt x="0" y="454"/>
                </a:lnTo>
                <a:lnTo>
                  <a:pt x="17" y="451"/>
                </a:lnTo>
                <a:lnTo>
                  <a:pt x="38" y="451"/>
                </a:lnTo>
                <a:lnTo>
                  <a:pt x="60" y="449"/>
                </a:lnTo>
                <a:lnTo>
                  <a:pt x="84" y="447"/>
                </a:lnTo>
                <a:lnTo>
                  <a:pt x="110" y="442"/>
                </a:lnTo>
                <a:lnTo>
                  <a:pt x="139" y="437"/>
                </a:lnTo>
                <a:lnTo>
                  <a:pt x="170" y="432"/>
                </a:lnTo>
                <a:lnTo>
                  <a:pt x="201" y="425"/>
                </a:lnTo>
                <a:lnTo>
                  <a:pt x="234" y="418"/>
                </a:lnTo>
                <a:lnTo>
                  <a:pt x="270" y="411"/>
                </a:lnTo>
                <a:lnTo>
                  <a:pt x="308" y="401"/>
                </a:lnTo>
                <a:lnTo>
                  <a:pt x="348" y="389"/>
                </a:lnTo>
                <a:lnTo>
                  <a:pt x="389" y="377"/>
                </a:lnTo>
                <a:lnTo>
                  <a:pt x="432" y="365"/>
                </a:lnTo>
                <a:lnTo>
                  <a:pt x="480" y="351"/>
                </a:lnTo>
                <a:lnTo>
                  <a:pt x="525" y="337"/>
                </a:lnTo>
                <a:lnTo>
                  <a:pt x="573" y="322"/>
                </a:lnTo>
                <a:lnTo>
                  <a:pt x="618" y="308"/>
                </a:lnTo>
                <a:lnTo>
                  <a:pt x="663" y="294"/>
                </a:lnTo>
                <a:lnTo>
                  <a:pt x="704" y="280"/>
                </a:lnTo>
                <a:lnTo>
                  <a:pt x="745" y="268"/>
                </a:lnTo>
                <a:lnTo>
                  <a:pt x="783" y="256"/>
                </a:lnTo>
                <a:lnTo>
                  <a:pt x="818" y="244"/>
                </a:lnTo>
                <a:lnTo>
                  <a:pt x="854" y="232"/>
                </a:lnTo>
                <a:lnTo>
                  <a:pt x="888" y="220"/>
                </a:lnTo>
                <a:lnTo>
                  <a:pt x="919" y="210"/>
                </a:lnTo>
                <a:lnTo>
                  <a:pt x="947" y="198"/>
                </a:lnTo>
                <a:lnTo>
                  <a:pt x="976" y="189"/>
                </a:lnTo>
                <a:lnTo>
                  <a:pt x="1002" y="179"/>
                </a:lnTo>
                <a:lnTo>
                  <a:pt x="1028" y="170"/>
                </a:lnTo>
                <a:lnTo>
                  <a:pt x="1052" y="160"/>
                </a:lnTo>
                <a:lnTo>
                  <a:pt x="1074" y="153"/>
                </a:lnTo>
                <a:lnTo>
                  <a:pt x="1095" y="146"/>
                </a:lnTo>
                <a:lnTo>
                  <a:pt x="1114" y="139"/>
                </a:lnTo>
                <a:lnTo>
                  <a:pt x="1131" y="132"/>
                </a:lnTo>
                <a:lnTo>
                  <a:pt x="1150" y="127"/>
                </a:lnTo>
                <a:lnTo>
                  <a:pt x="1164" y="120"/>
                </a:lnTo>
                <a:lnTo>
                  <a:pt x="1181" y="113"/>
                </a:lnTo>
                <a:lnTo>
                  <a:pt x="1195" y="105"/>
                </a:lnTo>
                <a:lnTo>
                  <a:pt x="1207" y="101"/>
                </a:lnTo>
                <a:lnTo>
                  <a:pt x="1219" y="94"/>
                </a:lnTo>
                <a:lnTo>
                  <a:pt x="1231" y="86"/>
                </a:lnTo>
                <a:lnTo>
                  <a:pt x="1241" y="82"/>
                </a:lnTo>
                <a:lnTo>
                  <a:pt x="1250" y="74"/>
                </a:lnTo>
                <a:lnTo>
                  <a:pt x="1260" y="67"/>
                </a:lnTo>
                <a:lnTo>
                  <a:pt x="1267" y="60"/>
                </a:lnTo>
                <a:lnTo>
                  <a:pt x="1274" y="55"/>
                </a:lnTo>
                <a:lnTo>
                  <a:pt x="1281" y="48"/>
                </a:lnTo>
                <a:lnTo>
                  <a:pt x="1288" y="36"/>
                </a:lnTo>
                <a:lnTo>
                  <a:pt x="1296" y="27"/>
                </a:lnTo>
                <a:lnTo>
                  <a:pt x="1303" y="17"/>
                </a:lnTo>
                <a:lnTo>
                  <a:pt x="1312" y="12"/>
                </a:lnTo>
                <a:lnTo>
                  <a:pt x="1322" y="8"/>
                </a:lnTo>
                <a:lnTo>
                  <a:pt x="1331" y="3"/>
                </a:lnTo>
                <a:lnTo>
                  <a:pt x="1341" y="3"/>
                </a:lnTo>
                <a:lnTo>
                  <a:pt x="1353" y="0"/>
                </a:lnTo>
                <a:lnTo>
                  <a:pt x="1362" y="3"/>
                </a:lnTo>
                <a:lnTo>
                  <a:pt x="1372" y="5"/>
                </a:lnTo>
                <a:lnTo>
                  <a:pt x="1384" y="12"/>
                </a:lnTo>
                <a:lnTo>
                  <a:pt x="1398" y="20"/>
                </a:lnTo>
                <a:lnTo>
                  <a:pt x="1413" y="29"/>
                </a:lnTo>
                <a:lnTo>
                  <a:pt x="1429" y="41"/>
                </a:lnTo>
                <a:lnTo>
                  <a:pt x="1448" y="55"/>
                </a:lnTo>
                <a:lnTo>
                  <a:pt x="1467" y="72"/>
                </a:lnTo>
                <a:lnTo>
                  <a:pt x="1475" y="79"/>
                </a:lnTo>
                <a:lnTo>
                  <a:pt x="1484" y="89"/>
                </a:lnTo>
                <a:lnTo>
                  <a:pt x="1491" y="96"/>
                </a:lnTo>
                <a:lnTo>
                  <a:pt x="1498" y="103"/>
                </a:lnTo>
                <a:lnTo>
                  <a:pt x="1506" y="110"/>
                </a:lnTo>
                <a:lnTo>
                  <a:pt x="1513" y="117"/>
                </a:lnTo>
                <a:lnTo>
                  <a:pt x="1517" y="125"/>
                </a:lnTo>
                <a:lnTo>
                  <a:pt x="1522" y="132"/>
                </a:lnTo>
                <a:lnTo>
                  <a:pt x="1525" y="136"/>
                </a:lnTo>
                <a:lnTo>
                  <a:pt x="1529" y="141"/>
                </a:lnTo>
                <a:lnTo>
                  <a:pt x="1534" y="151"/>
                </a:lnTo>
                <a:lnTo>
                  <a:pt x="1537" y="158"/>
                </a:lnTo>
                <a:lnTo>
                  <a:pt x="1539" y="163"/>
                </a:lnTo>
                <a:lnTo>
                  <a:pt x="1539" y="172"/>
                </a:lnTo>
                <a:lnTo>
                  <a:pt x="1537" y="182"/>
                </a:lnTo>
                <a:lnTo>
                  <a:pt x="1534" y="189"/>
                </a:lnTo>
                <a:lnTo>
                  <a:pt x="1529" y="196"/>
                </a:lnTo>
                <a:lnTo>
                  <a:pt x="1525" y="203"/>
                </a:lnTo>
                <a:lnTo>
                  <a:pt x="1517" y="210"/>
                </a:lnTo>
                <a:lnTo>
                  <a:pt x="1508" y="218"/>
                </a:lnTo>
                <a:lnTo>
                  <a:pt x="1496" y="222"/>
                </a:lnTo>
                <a:lnTo>
                  <a:pt x="1491" y="227"/>
                </a:lnTo>
                <a:lnTo>
                  <a:pt x="1486" y="232"/>
                </a:lnTo>
                <a:lnTo>
                  <a:pt x="1479" y="239"/>
                </a:lnTo>
                <a:lnTo>
                  <a:pt x="1475" y="246"/>
                </a:lnTo>
                <a:lnTo>
                  <a:pt x="1467" y="253"/>
                </a:lnTo>
                <a:lnTo>
                  <a:pt x="1463" y="263"/>
                </a:lnTo>
                <a:lnTo>
                  <a:pt x="1455" y="272"/>
                </a:lnTo>
                <a:lnTo>
                  <a:pt x="1451" y="282"/>
                </a:lnTo>
                <a:lnTo>
                  <a:pt x="1446" y="294"/>
                </a:lnTo>
                <a:lnTo>
                  <a:pt x="1439" y="306"/>
                </a:lnTo>
                <a:lnTo>
                  <a:pt x="1434" y="318"/>
                </a:lnTo>
                <a:lnTo>
                  <a:pt x="1427" y="332"/>
                </a:lnTo>
                <a:lnTo>
                  <a:pt x="1422" y="346"/>
                </a:lnTo>
                <a:lnTo>
                  <a:pt x="1415" y="363"/>
                </a:lnTo>
                <a:lnTo>
                  <a:pt x="1410" y="377"/>
                </a:lnTo>
                <a:lnTo>
                  <a:pt x="1405" y="394"/>
                </a:lnTo>
                <a:lnTo>
                  <a:pt x="1393" y="430"/>
                </a:lnTo>
                <a:lnTo>
                  <a:pt x="1381" y="468"/>
                </a:lnTo>
                <a:lnTo>
                  <a:pt x="1370" y="509"/>
                </a:lnTo>
                <a:lnTo>
                  <a:pt x="1358" y="549"/>
                </a:lnTo>
                <a:lnTo>
                  <a:pt x="1346" y="592"/>
                </a:lnTo>
                <a:lnTo>
                  <a:pt x="1334" y="637"/>
                </a:lnTo>
                <a:lnTo>
                  <a:pt x="1322" y="683"/>
                </a:lnTo>
                <a:lnTo>
                  <a:pt x="1312" y="730"/>
                </a:lnTo>
                <a:lnTo>
                  <a:pt x="1300" y="780"/>
                </a:lnTo>
                <a:lnTo>
                  <a:pt x="1291" y="831"/>
                </a:lnTo>
                <a:lnTo>
                  <a:pt x="1284" y="878"/>
                </a:lnTo>
                <a:lnTo>
                  <a:pt x="1279" y="924"/>
                </a:lnTo>
                <a:lnTo>
                  <a:pt x="1272" y="967"/>
                </a:lnTo>
                <a:lnTo>
                  <a:pt x="1267" y="1009"/>
                </a:lnTo>
                <a:lnTo>
                  <a:pt x="1265" y="1050"/>
                </a:lnTo>
                <a:lnTo>
                  <a:pt x="1260" y="1088"/>
                </a:lnTo>
                <a:lnTo>
                  <a:pt x="1257" y="1126"/>
                </a:lnTo>
                <a:lnTo>
                  <a:pt x="1255" y="1162"/>
                </a:lnTo>
                <a:lnTo>
                  <a:pt x="1255" y="1196"/>
                </a:lnTo>
                <a:lnTo>
                  <a:pt x="1257" y="1229"/>
                </a:lnTo>
                <a:lnTo>
                  <a:pt x="1260" y="1258"/>
                </a:lnTo>
                <a:lnTo>
                  <a:pt x="1262" y="1284"/>
                </a:lnTo>
                <a:lnTo>
                  <a:pt x="1267" y="1310"/>
                </a:lnTo>
                <a:lnTo>
                  <a:pt x="1269" y="1331"/>
                </a:lnTo>
                <a:lnTo>
                  <a:pt x="1274" y="1353"/>
                </a:lnTo>
                <a:lnTo>
                  <a:pt x="1281" y="1374"/>
                </a:lnTo>
                <a:lnTo>
                  <a:pt x="1291" y="1394"/>
                </a:lnTo>
                <a:lnTo>
                  <a:pt x="1300" y="1410"/>
                </a:lnTo>
                <a:lnTo>
                  <a:pt x="1315" y="1427"/>
                </a:lnTo>
                <a:lnTo>
                  <a:pt x="1329" y="1444"/>
                </a:lnTo>
                <a:lnTo>
                  <a:pt x="1346" y="1458"/>
                </a:lnTo>
                <a:lnTo>
                  <a:pt x="1362" y="1472"/>
                </a:lnTo>
                <a:lnTo>
                  <a:pt x="1384" y="1484"/>
                </a:lnTo>
                <a:lnTo>
                  <a:pt x="1403" y="1496"/>
                </a:lnTo>
                <a:lnTo>
                  <a:pt x="1427" y="1506"/>
                </a:lnTo>
                <a:lnTo>
                  <a:pt x="1448" y="1515"/>
                </a:lnTo>
                <a:lnTo>
                  <a:pt x="1475" y="1522"/>
                </a:lnTo>
                <a:lnTo>
                  <a:pt x="1501" y="1529"/>
                </a:lnTo>
                <a:lnTo>
                  <a:pt x="1529" y="1537"/>
                </a:lnTo>
                <a:lnTo>
                  <a:pt x="1558" y="1541"/>
                </a:lnTo>
                <a:lnTo>
                  <a:pt x="1591" y="1544"/>
                </a:lnTo>
                <a:lnTo>
                  <a:pt x="1622" y="1546"/>
                </a:lnTo>
                <a:lnTo>
                  <a:pt x="1656" y="1549"/>
                </a:lnTo>
                <a:lnTo>
                  <a:pt x="1689" y="1549"/>
                </a:lnTo>
                <a:lnTo>
                  <a:pt x="1723" y="1546"/>
                </a:lnTo>
                <a:lnTo>
                  <a:pt x="1758" y="1541"/>
                </a:lnTo>
                <a:lnTo>
                  <a:pt x="1792" y="1537"/>
                </a:lnTo>
                <a:lnTo>
                  <a:pt x="1828" y="1529"/>
                </a:lnTo>
                <a:lnTo>
                  <a:pt x="1861" y="1522"/>
                </a:lnTo>
                <a:lnTo>
                  <a:pt x="1894" y="1515"/>
                </a:lnTo>
                <a:lnTo>
                  <a:pt x="1923" y="1508"/>
                </a:lnTo>
                <a:lnTo>
                  <a:pt x="1937" y="1501"/>
                </a:lnTo>
                <a:lnTo>
                  <a:pt x="1952" y="1496"/>
                </a:lnTo>
                <a:lnTo>
                  <a:pt x="1964" y="1489"/>
                </a:lnTo>
                <a:lnTo>
                  <a:pt x="1976" y="1484"/>
                </a:lnTo>
                <a:lnTo>
                  <a:pt x="1987" y="1477"/>
                </a:lnTo>
                <a:lnTo>
                  <a:pt x="1997" y="1470"/>
                </a:lnTo>
                <a:lnTo>
                  <a:pt x="2009" y="1460"/>
                </a:lnTo>
                <a:lnTo>
                  <a:pt x="2018" y="1453"/>
                </a:lnTo>
                <a:lnTo>
                  <a:pt x="2026" y="1446"/>
                </a:lnTo>
                <a:lnTo>
                  <a:pt x="2035" y="1436"/>
                </a:lnTo>
                <a:lnTo>
                  <a:pt x="2040" y="1427"/>
                </a:lnTo>
                <a:lnTo>
                  <a:pt x="2047" y="1417"/>
                </a:lnTo>
                <a:lnTo>
                  <a:pt x="2052" y="1405"/>
                </a:lnTo>
                <a:lnTo>
                  <a:pt x="2057" y="1394"/>
                </a:lnTo>
                <a:lnTo>
                  <a:pt x="2064" y="1379"/>
                </a:lnTo>
                <a:lnTo>
                  <a:pt x="2069" y="1365"/>
                </a:lnTo>
                <a:lnTo>
                  <a:pt x="2073" y="1348"/>
                </a:lnTo>
                <a:lnTo>
                  <a:pt x="2081" y="1331"/>
                </a:lnTo>
                <a:lnTo>
                  <a:pt x="2085" y="1312"/>
                </a:lnTo>
                <a:lnTo>
                  <a:pt x="2090" y="1293"/>
                </a:lnTo>
                <a:lnTo>
                  <a:pt x="2095" y="1272"/>
                </a:lnTo>
                <a:lnTo>
                  <a:pt x="2100" y="1250"/>
                </a:lnTo>
                <a:lnTo>
                  <a:pt x="2104" y="1227"/>
                </a:lnTo>
                <a:lnTo>
                  <a:pt x="2109" y="1200"/>
                </a:lnTo>
                <a:lnTo>
                  <a:pt x="2114" y="1174"/>
                </a:lnTo>
                <a:lnTo>
                  <a:pt x="2116" y="1148"/>
                </a:lnTo>
                <a:lnTo>
                  <a:pt x="2121" y="1122"/>
                </a:lnTo>
                <a:lnTo>
                  <a:pt x="2126" y="1098"/>
                </a:lnTo>
                <a:lnTo>
                  <a:pt x="2128" y="1076"/>
                </a:lnTo>
                <a:lnTo>
                  <a:pt x="2133" y="1057"/>
                </a:lnTo>
                <a:lnTo>
                  <a:pt x="2135" y="1038"/>
                </a:lnTo>
                <a:lnTo>
                  <a:pt x="2140" y="1019"/>
                </a:lnTo>
                <a:lnTo>
                  <a:pt x="2145" y="1005"/>
                </a:lnTo>
                <a:lnTo>
                  <a:pt x="2147" y="990"/>
                </a:lnTo>
                <a:lnTo>
                  <a:pt x="2152" y="978"/>
                </a:lnTo>
                <a:lnTo>
                  <a:pt x="2157" y="969"/>
                </a:lnTo>
                <a:lnTo>
                  <a:pt x="2159" y="959"/>
                </a:lnTo>
                <a:lnTo>
                  <a:pt x="2164" y="952"/>
                </a:lnTo>
                <a:lnTo>
                  <a:pt x="2166" y="945"/>
                </a:lnTo>
                <a:lnTo>
                  <a:pt x="2171" y="943"/>
                </a:lnTo>
                <a:lnTo>
                  <a:pt x="2176" y="940"/>
                </a:lnTo>
                <a:lnTo>
                  <a:pt x="2178" y="938"/>
                </a:lnTo>
                <a:lnTo>
                  <a:pt x="2183" y="943"/>
                </a:lnTo>
                <a:lnTo>
                  <a:pt x="2185" y="945"/>
                </a:lnTo>
                <a:lnTo>
                  <a:pt x="2190" y="952"/>
                </a:lnTo>
                <a:lnTo>
                  <a:pt x="2193" y="959"/>
                </a:lnTo>
                <a:lnTo>
                  <a:pt x="2195" y="967"/>
                </a:lnTo>
                <a:lnTo>
                  <a:pt x="2197" y="976"/>
                </a:lnTo>
                <a:lnTo>
                  <a:pt x="2202" y="988"/>
                </a:lnTo>
                <a:lnTo>
                  <a:pt x="2205" y="1002"/>
                </a:lnTo>
                <a:lnTo>
                  <a:pt x="2207" y="1017"/>
                </a:lnTo>
                <a:lnTo>
                  <a:pt x="2209" y="1031"/>
                </a:lnTo>
                <a:lnTo>
                  <a:pt x="2209" y="1048"/>
                </a:lnTo>
                <a:lnTo>
                  <a:pt x="2212" y="1067"/>
                </a:lnTo>
                <a:lnTo>
                  <a:pt x="2214" y="1088"/>
                </a:lnTo>
                <a:lnTo>
                  <a:pt x="2216" y="1110"/>
                </a:lnTo>
                <a:lnTo>
                  <a:pt x="2219" y="1134"/>
                </a:lnTo>
                <a:lnTo>
                  <a:pt x="2221" y="1160"/>
                </a:lnTo>
                <a:lnTo>
                  <a:pt x="2221" y="1184"/>
                </a:lnTo>
                <a:lnTo>
                  <a:pt x="2224" y="1210"/>
                </a:lnTo>
                <a:lnTo>
                  <a:pt x="2228" y="1234"/>
                </a:lnTo>
                <a:lnTo>
                  <a:pt x="2231" y="1255"/>
                </a:lnTo>
                <a:lnTo>
                  <a:pt x="2233" y="1279"/>
                </a:lnTo>
                <a:lnTo>
                  <a:pt x="2236" y="1300"/>
                </a:lnTo>
                <a:lnTo>
                  <a:pt x="2240" y="1322"/>
                </a:lnTo>
                <a:lnTo>
                  <a:pt x="2243" y="1341"/>
                </a:lnTo>
                <a:lnTo>
                  <a:pt x="2248" y="1360"/>
                </a:lnTo>
                <a:lnTo>
                  <a:pt x="2252" y="1379"/>
                </a:lnTo>
                <a:lnTo>
                  <a:pt x="2257" y="1396"/>
                </a:lnTo>
                <a:lnTo>
                  <a:pt x="2262" y="1413"/>
                </a:lnTo>
                <a:lnTo>
                  <a:pt x="2267" y="1429"/>
                </a:lnTo>
                <a:lnTo>
                  <a:pt x="2271" y="1444"/>
                </a:lnTo>
                <a:lnTo>
                  <a:pt x="2276" y="1458"/>
                </a:lnTo>
                <a:lnTo>
                  <a:pt x="2283" y="1472"/>
                </a:lnTo>
                <a:lnTo>
                  <a:pt x="2288" y="1484"/>
                </a:lnTo>
                <a:lnTo>
                  <a:pt x="2290" y="1496"/>
                </a:lnTo>
                <a:lnTo>
                  <a:pt x="2293" y="1508"/>
                </a:lnTo>
                <a:lnTo>
                  <a:pt x="2290" y="1522"/>
                </a:lnTo>
                <a:lnTo>
                  <a:pt x="2290" y="1532"/>
                </a:lnTo>
                <a:lnTo>
                  <a:pt x="2286" y="1544"/>
                </a:lnTo>
                <a:lnTo>
                  <a:pt x="2279" y="1556"/>
                </a:lnTo>
                <a:lnTo>
                  <a:pt x="2271" y="1568"/>
                </a:lnTo>
                <a:lnTo>
                  <a:pt x="2262" y="1580"/>
                </a:lnTo>
                <a:lnTo>
                  <a:pt x="2250" y="1589"/>
                </a:lnTo>
                <a:lnTo>
                  <a:pt x="2238" y="1601"/>
                </a:lnTo>
                <a:lnTo>
                  <a:pt x="2221" y="1613"/>
                </a:lnTo>
                <a:lnTo>
                  <a:pt x="2205" y="1622"/>
                </a:lnTo>
                <a:lnTo>
                  <a:pt x="2183" y="1634"/>
                </a:lnTo>
                <a:lnTo>
                  <a:pt x="2162" y="1646"/>
                </a:lnTo>
                <a:lnTo>
                  <a:pt x="2138" y="1656"/>
                </a:lnTo>
                <a:lnTo>
                  <a:pt x="2112" y="1668"/>
                </a:lnTo>
                <a:lnTo>
                  <a:pt x="2088" y="1677"/>
                </a:lnTo>
                <a:lnTo>
                  <a:pt x="2061" y="1685"/>
                </a:lnTo>
                <a:lnTo>
                  <a:pt x="2038" y="1694"/>
                </a:lnTo>
                <a:lnTo>
                  <a:pt x="2011" y="1701"/>
                </a:lnTo>
                <a:lnTo>
                  <a:pt x="1987" y="1708"/>
                </a:lnTo>
                <a:lnTo>
                  <a:pt x="1964" y="1716"/>
                </a:lnTo>
                <a:lnTo>
                  <a:pt x="1937" y="1720"/>
                </a:lnTo>
                <a:lnTo>
                  <a:pt x="1890" y="1730"/>
                </a:lnTo>
                <a:lnTo>
                  <a:pt x="1840" y="1737"/>
                </a:lnTo>
                <a:lnTo>
                  <a:pt x="1792" y="1744"/>
                </a:lnTo>
                <a:lnTo>
                  <a:pt x="1744" y="1749"/>
                </a:lnTo>
                <a:lnTo>
                  <a:pt x="1744" y="1749"/>
                </a:lnTo>
                <a:lnTo>
                  <a:pt x="1744" y="1749"/>
                </a:lnTo>
              </a:path>
            </a:pathLst>
          </a:custGeom>
          <a:solidFill>
            <a:srgbClr val="339966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143000" y="2133720"/>
          <a:ext cx="6781680" cy="228600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130400"/>
                <a:gridCol w="1181160"/>
                <a:gridCol w="1079640"/>
                <a:gridCol w="113004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WordArt 25"/>
          <p:cNvSpPr txBox="1"/>
          <p:nvPr/>
        </p:nvSpPr>
        <p:spPr>
          <a:xfrm>
            <a:off x="1371600" y="3048120"/>
            <a:ext cx="1752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416" name="WordArt 26"/>
          <p:cNvSpPr txBox="1"/>
          <p:nvPr/>
        </p:nvSpPr>
        <p:spPr>
          <a:xfrm>
            <a:off x="4038480" y="274320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417" name="WordArt 27"/>
          <p:cNvSpPr txBox="1"/>
          <p:nvPr/>
        </p:nvSpPr>
        <p:spPr>
          <a:xfrm>
            <a:off x="3581280" y="35053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418" name="WordArt 28"/>
          <p:cNvSpPr txBox="1"/>
          <p:nvPr/>
        </p:nvSpPr>
        <p:spPr>
          <a:xfrm>
            <a:off x="6310440" y="2590920"/>
            <a:ext cx="10411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419" name="WordArt 29"/>
          <p:cNvSpPr txBox="1"/>
          <p:nvPr/>
        </p:nvSpPr>
        <p:spPr>
          <a:xfrm>
            <a:off x="6400800" y="3124080"/>
            <a:ext cx="880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420" name="WordArt 30"/>
          <p:cNvSpPr txBox="1"/>
          <p:nvPr/>
        </p:nvSpPr>
        <p:spPr>
          <a:xfrm>
            <a:off x="5791320" y="3657600"/>
            <a:ext cx="1904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421" name="Text Box 33"/>
          <p:cNvSpPr/>
          <p:nvPr/>
        </p:nvSpPr>
        <p:spPr>
          <a:xfrm>
            <a:off x="324000" y="333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指导写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4"/>
          <p:cNvSpPr/>
          <p:nvPr/>
        </p:nvSpPr>
        <p:spPr>
          <a:xfrm>
            <a:off x="250920" y="4869000"/>
            <a:ext cx="8497800" cy="556920"/>
          </a:xfrm>
          <a:prstGeom prst="rect">
            <a:avLst/>
          </a:prstGeom>
          <a:solidFill>
            <a:srgbClr val="cc99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692360" y="134136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去二三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979640" y="2708280"/>
            <a:ext cx="554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35280" y="27082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　　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去　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　　　三　　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2276640"/>
            <a:ext cx="590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í             qù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èr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ān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79480" y="3274920"/>
            <a:ext cx="545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35280" y="3573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烟　　　村　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四　　　五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　　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76360" y="321300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ā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ū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i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35280" y="4437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亭　　　台　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六　　　七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　　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4076640"/>
            <a:ext cx="576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ín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á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i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u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835280" y="537372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八　　　九　　　十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　　枝　　    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08000" y="5013360"/>
            <a:ext cx="5543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i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h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u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24016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6193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W0200710114567556424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82692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47636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484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348000" y="3925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06728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8800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594036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588000" y="4070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7380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1547640" y="476280"/>
            <a:ext cx="3097440" cy="863640"/>
          </a:xfrm>
          <a:prstGeom prst="wedgeEllipseCallout">
            <a:avLst>
              <a:gd name="adj1" fmla="val -60046"/>
              <a:gd name="adj2" fmla="val 7849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游戏：我的朋友在哪里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325440" y="4124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116000" y="54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1909800" y="4005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3205080" y="2421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06728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5219640" y="3284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5510160" y="4149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6443640" y="54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6877080" y="4365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8244000" y="4437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76360" y="2565000"/>
            <a:ext cx="2447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hī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1720" y="836640"/>
            <a:ext cx="136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ū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4292640"/>
            <a:ext cx="1447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39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4960" y="488160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tí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98600" y="515880"/>
            <a:ext cx="182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yā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740880" y="-416880"/>
            <a:ext cx="7060680" cy="6825600"/>
            <a:chOff x="740880" y="-416880"/>
            <a:chExt cx="7060680" cy="6825600"/>
          </a:xfrm>
        </p:grpSpPr>
        <p:sp>
          <p:nvSpPr>
            <p:cNvPr id="87" name=""/>
            <p:cNvSpPr/>
            <p:nvPr/>
          </p:nvSpPr>
          <p:spPr>
            <a:xfrm>
              <a:off x="3875040" y="4824360"/>
              <a:ext cx="1152720" cy="1584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Cloud"/>
            <p:cNvSpPr/>
            <p:nvPr/>
          </p:nvSpPr>
          <p:spPr>
            <a:xfrm rot="11275200">
              <a:off x="1066680" y="0"/>
              <a:ext cx="6408720" cy="51753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867280" y="2590920"/>
            <a:ext cx="1160280" cy="1150920"/>
            <a:chOff x="5867280" y="2590920"/>
            <a:chExt cx="1160280" cy="115092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5867280" y="259092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019560" y="29721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105520" y="3657600"/>
            <a:ext cx="1150920" cy="1150920"/>
            <a:chOff x="5105520" y="3657600"/>
            <a:chExt cx="1150920" cy="11509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105520" y="36576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321520" y="401796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24000" y="692280"/>
            <a:ext cx="1139760" cy="1150920"/>
            <a:chOff x="2124000" y="692280"/>
            <a:chExt cx="1139760" cy="115092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2124000" y="69228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276280" y="997200"/>
              <a:ext cx="76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743200" y="3886200"/>
            <a:ext cx="1218960" cy="1150920"/>
            <a:chOff x="2743200" y="3886200"/>
            <a:chExt cx="1218960" cy="1150920"/>
          </a:xfrm>
        </p:grpSpPr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2743200" y="3886200"/>
              <a:ext cx="1218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069000" y="4267080"/>
              <a:ext cx="57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657600" y="0"/>
            <a:ext cx="1495440" cy="1150920"/>
            <a:chOff x="3657600" y="0"/>
            <a:chExt cx="1495440" cy="1150920"/>
          </a:xfrm>
        </p:grpSpPr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3657600" y="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809880" y="457200"/>
              <a:ext cx="134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429000" y="1600200"/>
            <a:ext cx="988920" cy="998280"/>
            <a:chOff x="3429000" y="1600200"/>
            <a:chExt cx="988920" cy="998280"/>
          </a:xfrm>
        </p:grpSpPr>
        <p:pic>
          <p:nvPicPr>
            <p:cNvPr id="105" name="" descr=""/>
            <p:cNvPicPr/>
            <p:nvPr/>
          </p:nvPicPr>
          <p:blipFill>
            <a:blip r:embed="rId6"/>
            <a:stretch/>
          </p:blipFill>
          <p:spPr>
            <a:xfrm>
              <a:off x="3429000" y="1600200"/>
              <a:ext cx="98892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50840" y="18288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19520" y="2590920"/>
            <a:ext cx="912600" cy="922320"/>
            <a:chOff x="2819520" y="2590920"/>
            <a:chExt cx="912600" cy="922320"/>
          </a:xfrm>
        </p:grpSpPr>
        <p:pic>
          <p:nvPicPr>
            <p:cNvPr id="108" name="" descr=""/>
            <p:cNvPicPr/>
            <p:nvPr/>
          </p:nvPicPr>
          <p:blipFill>
            <a:blip r:embed="rId7"/>
            <a:stretch/>
          </p:blipFill>
          <p:spPr>
            <a:xfrm>
              <a:off x="2819520" y="2590920"/>
              <a:ext cx="91260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988720" y="2810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038480" y="2666880"/>
            <a:ext cx="1601640" cy="1150920"/>
            <a:chOff x="4038480" y="2666880"/>
            <a:chExt cx="1601640" cy="1150920"/>
          </a:xfrm>
        </p:grpSpPr>
        <p:pic>
          <p:nvPicPr>
            <p:cNvPr id="111" name="" descr=""/>
            <p:cNvPicPr/>
            <p:nvPr/>
          </p:nvPicPr>
          <p:blipFill>
            <a:blip r:embed="rId8"/>
            <a:stretch/>
          </p:blipFill>
          <p:spPr>
            <a:xfrm>
              <a:off x="4038480" y="266688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343040" y="304776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788000" y="836640"/>
            <a:ext cx="1139760" cy="1150920"/>
            <a:chOff x="4788000" y="836640"/>
            <a:chExt cx="1139760" cy="1150920"/>
          </a:xfrm>
        </p:grpSpPr>
        <p:pic>
          <p:nvPicPr>
            <p:cNvPr id="114" name="" descr=""/>
            <p:cNvPicPr/>
            <p:nvPr/>
          </p:nvPicPr>
          <p:blipFill>
            <a:blip r:embed="rId9"/>
            <a:stretch/>
          </p:blipFill>
          <p:spPr>
            <a:xfrm>
              <a:off x="4788000" y="83664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109120" y="11415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38480" y="2327400"/>
            <a:ext cx="54000" cy="63360"/>
          </a:xfrm>
          <a:custGeom>
            <a:avLst/>
            <a:gdLst/>
            <a:ahLst/>
            <a:rect l="l" t="t" r="r" b="b"/>
            <a:pathLst>
              <a:path w="102" h="121">
                <a:moveTo>
                  <a:pt x="51" y="0"/>
                </a:moveTo>
                <a:lnTo>
                  <a:pt x="0" y="109"/>
                </a:lnTo>
                <a:lnTo>
                  <a:pt x="1" y="110"/>
                </a:lnTo>
                <a:lnTo>
                  <a:pt x="5" y="113"/>
                </a:lnTo>
                <a:lnTo>
                  <a:pt x="11" y="117"/>
                </a:lnTo>
                <a:lnTo>
                  <a:pt x="19" y="119"/>
                </a:lnTo>
                <a:lnTo>
                  <a:pt x="31" y="121"/>
                </a:lnTo>
                <a:lnTo>
                  <a:pt x="45" y="119"/>
                </a:lnTo>
                <a:lnTo>
                  <a:pt x="62" y="113"/>
                </a:lnTo>
                <a:lnTo>
                  <a:pt x="81" y="102"/>
                </a:lnTo>
                <a:lnTo>
                  <a:pt x="102" y="89"/>
                </a:lnTo>
                <a:lnTo>
                  <a:pt x="51" y="0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8840" y="2763720"/>
            <a:ext cx="123840" cy="85680"/>
          </a:xfrm>
          <a:custGeom>
            <a:avLst/>
            <a:gdLst/>
            <a:ahLst/>
            <a:rect l="l" t="t" r="r" b="b"/>
            <a:pathLst>
              <a:path w="236" h="160">
                <a:moveTo>
                  <a:pt x="26" y="6"/>
                </a:moveTo>
                <a:lnTo>
                  <a:pt x="23" y="9"/>
                </a:lnTo>
                <a:lnTo>
                  <a:pt x="19" y="16"/>
                </a:lnTo>
                <a:lnTo>
                  <a:pt x="14" y="25"/>
                </a:lnTo>
                <a:lnTo>
                  <a:pt x="7" y="38"/>
                </a:lnTo>
                <a:lnTo>
                  <a:pt x="3" y="53"/>
                </a:lnTo>
                <a:lnTo>
                  <a:pt x="0" y="70"/>
                </a:lnTo>
                <a:lnTo>
                  <a:pt x="0" y="89"/>
                </a:lnTo>
                <a:lnTo>
                  <a:pt x="5" y="108"/>
                </a:lnTo>
                <a:lnTo>
                  <a:pt x="5" y="109"/>
                </a:lnTo>
                <a:lnTo>
                  <a:pt x="7" y="111"/>
                </a:lnTo>
                <a:lnTo>
                  <a:pt x="9" y="113"/>
                </a:lnTo>
                <a:lnTo>
                  <a:pt x="13" y="117"/>
                </a:lnTo>
                <a:lnTo>
                  <a:pt x="18" y="123"/>
                </a:lnTo>
                <a:lnTo>
                  <a:pt x="23" y="127"/>
                </a:lnTo>
                <a:lnTo>
                  <a:pt x="31" y="132"/>
                </a:lnTo>
                <a:lnTo>
                  <a:pt x="40" y="137"/>
                </a:lnTo>
                <a:lnTo>
                  <a:pt x="51" y="143"/>
                </a:lnTo>
                <a:lnTo>
                  <a:pt x="64" y="148"/>
                </a:lnTo>
                <a:lnTo>
                  <a:pt x="78" y="152"/>
                </a:lnTo>
                <a:lnTo>
                  <a:pt x="93" y="156"/>
                </a:lnTo>
                <a:lnTo>
                  <a:pt x="112" y="159"/>
                </a:lnTo>
                <a:lnTo>
                  <a:pt x="132" y="160"/>
                </a:lnTo>
                <a:lnTo>
                  <a:pt x="154" y="160"/>
                </a:lnTo>
                <a:lnTo>
                  <a:pt x="179" y="159"/>
                </a:lnTo>
                <a:lnTo>
                  <a:pt x="182" y="157"/>
                </a:lnTo>
                <a:lnTo>
                  <a:pt x="191" y="155"/>
                </a:lnTo>
                <a:lnTo>
                  <a:pt x="202" y="148"/>
                </a:lnTo>
                <a:lnTo>
                  <a:pt x="215" y="136"/>
                </a:lnTo>
                <a:lnTo>
                  <a:pt x="226" y="121"/>
                </a:lnTo>
                <a:lnTo>
                  <a:pt x="233" y="100"/>
                </a:lnTo>
                <a:lnTo>
                  <a:pt x="236" y="73"/>
                </a:lnTo>
                <a:lnTo>
                  <a:pt x="230" y="38"/>
                </a:lnTo>
                <a:lnTo>
                  <a:pt x="229" y="37"/>
                </a:lnTo>
                <a:lnTo>
                  <a:pt x="227" y="32"/>
                </a:lnTo>
                <a:lnTo>
                  <a:pt x="224" y="26"/>
                </a:lnTo>
                <a:lnTo>
                  <a:pt x="219" y="18"/>
                </a:lnTo>
                <a:lnTo>
                  <a:pt x="214" y="12"/>
                </a:lnTo>
                <a:lnTo>
                  <a:pt x="206" y="6"/>
                </a:lnTo>
                <a:lnTo>
                  <a:pt x="199" y="1"/>
                </a:lnTo>
                <a:lnTo>
                  <a:pt x="189" y="0"/>
                </a:lnTo>
                <a:lnTo>
                  <a:pt x="189" y="97"/>
                </a:lnTo>
                <a:lnTo>
                  <a:pt x="26" y="89"/>
                </a:lnTo>
                <a:lnTo>
                  <a:pt x="26" y="6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076040" y="1828800"/>
            <a:ext cx="1115640" cy="1147680"/>
            <a:chOff x="1076040" y="1828800"/>
            <a:chExt cx="1115640" cy="1147680"/>
          </a:xfrm>
        </p:grpSpPr>
        <p:grpSp>
          <p:nvGrpSpPr>
            <p:cNvPr id="119" name=""/>
            <p:cNvGrpSpPr/>
            <p:nvPr/>
          </p:nvGrpSpPr>
          <p:grpSpPr>
            <a:xfrm>
              <a:off x="1076040" y="1828800"/>
              <a:ext cx="1115640" cy="1147680"/>
              <a:chOff x="1076040" y="1828800"/>
              <a:chExt cx="1115640" cy="1147680"/>
            </a:xfrm>
          </p:grpSpPr>
          <p:sp>
            <p:nvSpPr>
              <p:cNvPr id="120" name=""/>
              <p:cNvSpPr/>
              <p:nvPr/>
            </p:nvSpPr>
            <p:spPr>
              <a:xfrm>
                <a:off x="1076040" y="1828800"/>
                <a:ext cx="111564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22040" y="2044440"/>
                <a:ext cx="756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03040" y="2073240"/>
                <a:ext cx="101232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79240" y="2128680"/>
                <a:ext cx="685440" cy="81108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137960" y="2108160"/>
                <a:ext cx="315360" cy="79200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71280" y="2071440"/>
                <a:ext cx="188640" cy="25740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34880" y="2104920"/>
                <a:ext cx="43452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1840" y="2206440"/>
                <a:ext cx="23148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55400" y="2233440"/>
                <a:ext cx="105840" cy="57780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52320" y="2265120"/>
                <a:ext cx="3456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06120" y="2108160"/>
                <a:ext cx="139320" cy="33948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744200" y="2447640"/>
                <a:ext cx="9504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01360" y="232704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145880" y="2238120"/>
                <a:ext cx="231480" cy="62244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52160" y="2138400"/>
                <a:ext cx="120240" cy="3780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353600" y="2349360"/>
                <a:ext cx="71280" cy="39996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61680" y="2368440"/>
                <a:ext cx="1548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07680" y="2122200"/>
                <a:ext cx="204480" cy="4464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26920" y="2444760"/>
                <a:ext cx="42804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15920" y="2071440"/>
                <a:ext cx="131400" cy="17172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09600" y="2233440"/>
                <a:ext cx="34560" cy="20160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42840" y="2117520"/>
                <a:ext cx="10584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77520" y="186192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590480" y="1871640"/>
                <a:ext cx="8028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65000" y="1900080"/>
                <a:ext cx="43920" cy="21744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671120" y="1906560"/>
                <a:ext cx="3780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95160" y="1871640"/>
                <a:ext cx="6948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79240" y="2855880"/>
                <a:ext cx="429840" cy="8712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48920" y="2216160"/>
                <a:ext cx="153720" cy="22356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788840" y="2225520"/>
                <a:ext cx="15984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1000" y="2417760"/>
                <a:ext cx="101160" cy="12672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45840" y="2657520"/>
                <a:ext cx="240840" cy="20448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625400" y="2654280"/>
                <a:ext cx="6768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80600" y="2252520"/>
                <a:ext cx="11088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00000" y="2274840"/>
                <a:ext cx="10440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22160" y="2442960"/>
                <a:ext cx="74160" cy="9540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571400" y="2668320"/>
                <a:ext cx="19152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360080" y="2232000"/>
                <a:ext cx="11556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828440" y="2238120"/>
                <a:ext cx="109080" cy="16056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60240" y="2725560"/>
                <a:ext cx="209160" cy="11736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464840" y="2216160"/>
                <a:ext cx="37800" cy="22356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28440" y="2225520"/>
                <a:ext cx="120240" cy="18720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52400" y="2417760"/>
                <a:ext cx="5976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28480" y="2319120"/>
                <a:ext cx="5976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98200" y="230652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295280" y="220968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371600" y="3429000"/>
            <a:ext cx="1236240" cy="1150920"/>
            <a:chOff x="1371600" y="3429000"/>
            <a:chExt cx="1236240" cy="1150920"/>
          </a:xfrm>
        </p:grpSpPr>
        <p:pic>
          <p:nvPicPr>
            <p:cNvPr id="167" name="" descr=""/>
            <p:cNvPicPr/>
            <p:nvPr/>
          </p:nvPicPr>
          <p:blipFill>
            <a:blip r:embed="rId10"/>
            <a:stretch/>
          </p:blipFill>
          <p:spPr>
            <a:xfrm>
              <a:off x="1371600" y="34290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599840" y="37339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181560" y="1219320"/>
            <a:ext cx="1297080" cy="1147680"/>
            <a:chOff x="6181560" y="1219320"/>
            <a:chExt cx="1297080" cy="1147680"/>
          </a:xfrm>
        </p:grpSpPr>
        <p:grpSp>
          <p:nvGrpSpPr>
            <p:cNvPr id="170" name=""/>
            <p:cNvGrpSpPr/>
            <p:nvPr/>
          </p:nvGrpSpPr>
          <p:grpSpPr>
            <a:xfrm>
              <a:off x="6181560" y="1219320"/>
              <a:ext cx="1116000" cy="1147680"/>
              <a:chOff x="6181560" y="1219320"/>
              <a:chExt cx="1116000" cy="1147680"/>
            </a:xfrm>
          </p:grpSpPr>
          <p:sp>
            <p:nvSpPr>
              <p:cNvPr id="171" name=""/>
              <p:cNvSpPr/>
              <p:nvPr/>
            </p:nvSpPr>
            <p:spPr>
              <a:xfrm>
                <a:off x="6181560" y="121932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027560" y="143532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08560" y="1463760"/>
                <a:ext cx="1012680" cy="84960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84760" y="1519560"/>
                <a:ext cx="685800" cy="81108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243480" y="1498680"/>
                <a:ext cx="31572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76800" y="1462320"/>
                <a:ext cx="18900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40400" y="1495800"/>
                <a:ext cx="434880" cy="11088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327720" y="1597320"/>
                <a:ext cx="23148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60920" y="1624320"/>
                <a:ext cx="106560" cy="57780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57840" y="165600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11640" y="1498680"/>
                <a:ext cx="14004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49720" y="183852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06880" y="1717920"/>
                <a:ext cx="5580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51400" y="1629000"/>
                <a:ext cx="231840" cy="62244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457680" y="152892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59480" y="1740240"/>
                <a:ext cx="71280" cy="39996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67200" y="1759320"/>
                <a:ext cx="15840" cy="39348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13200" y="151308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32440" y="1835280"/>
                <a:ext cx="428760" cy="47808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21440" y="146232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15120" y="1624320"/>
                <a:ext cx="34920" cy="20160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48360" y="1508400"/>
                <a:ext cx="10620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83040" y="1252800"/>
                <a:ext cx="14148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96000" y="126216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70520" y="1290960"/>
                <a:ext cx="44280" cy="21744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7000" y="1297080"/>
                <a:ext cx="37800" cy="20664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00680" y="126216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84760" y="224640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54440" y="160668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894360" y="1616400"/>
                <a:ext cx="160200" cy="21888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16520" y="180828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651360" y="2048040"/>
                <a:ext cx="24156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30920" y="2044800"/>
                <a:ext cx="6804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86480" y="1643400"/>
                <a:ext cx="110880" cy="17280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05520" y="166536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7680" y="1833840"/>
                <a:ext cx="7452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76920" y="2059200"/>
                <a:ext cx="19188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65600" y="1622520"/>
                <a:ext cx="115920" cy="17172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33960" y="162900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65760" y="2116440"/>
                <a:ext cx="209520" cy="11736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570360" y="160668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933960" y="1616400"/>
                <a:ext cx="120600" cy="18720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57920" y="1808280"/>
                <a:ext cx="60120" cy="10656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07160" y="207828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236" h="160">
                    <a:moveTo>
                      <a:pt x="26" y="6"/>
                    </a:moveTo>
                    <a:lnTo>
                      <a:pt x="23" y="9"/>
                    </a:lnTo>
                    <a:lnTo>
                      <a:pt x="19" y="16"/>
                    </a:lnTo>
                    <a:lnTo>
                      <a:pt x="14" y="25"/>
                    </a:lnTo>
                    <a:lnTo>
                      <a:pt x="7" y="38"/>
                    </a:lnTo>
                    <a:lnTo>
                      <a:pt x="3" y="53"/>
                    </a:lnTo>
                    <a:lnTo>
                      <a:pt x="0" y="70"/>
                    </a:lnTo>
                    <a:lnTo>
                      <a:pt x="0" y="89"/>
                    </a:lnTo>
                    <a:lnTo>
                      <a:pt x="5" y="108"/>
                    </a:lnTo>
                    <a:lnTo>
                      <a:pt x="5" y="109"/>
                    </a:lnTo>
                    <a:lnTo>
                      <a:pt x="7" y="111"/>
                    </a:lnTo>
                    <a:lnTo>
                      <a:pt x="9" y="113"/>
                    </a:lnTo>
                    <a:lnTo>
                      <a:pt x="13" y="117"/>
                    </a:lnTo>
                    <a:lnTo>
                      <a:pt x="18" y="123"/>
                    </a:lnTo>
                    <a:lnTo>
                      <a:pt x="23" y="127"/>
                    </a:lnTo>
                    <a:lnTo>
                      <a:pt x="31" y="132"/>
                    </a:lnTo>
                    <a:lnTo>
                      <a:pt x="40" y="137"/>
                    </a:lnTo>
                    <a:lnTo>
                      <a:pt x="51" y="143"/>
                    </a:lnTo>
                    <a:lnTo>
                      <a:pt x="64" y="148"/>
                    </a:lnTo>
                    <a:lnTo>
                      <a:pt x="78" y="152"/>
                    </a:lnTo>
                    <a:lnTo>
                      <a:pt x="93" y="156"/>
                    </a:lnTo>
                    <a:lnTo>
                      <a:pt x="112" y="159"/>
                    </a:lnTo>
                    <a:lnTo>
                      <a:pt x="132" y="160"/>
                    </a:lnTo>
                    <a:lnTo>
                      <a:pt x="154" y="160"/>
                    </a:lnTo>
                    <a:lnTo>
                      <a:pt x="179" y="159"/>
                    </a:lnTo>
                    <a:lnTo>
                      <a:pt x="182" y="157"/>
                    </a:lnTo>
                    <a:lnTo>
                      <a:pt x="191" y="155"/>
                    </a:lnTo>
                    <a:lnTo>
                      <a:pt x="202" y="148"/>
                    </a:lnTo>
                    <a:lnTo>
                      <a:pt x="215" y="136"/>
                    </a:lnTo>
                    <a:lnTo>
                      <a:pt x="226" y="121"/>
                    </a:lnTo>
                    <a:lnTo>
                      <a:pt x="233" y="100"/>
                    </a:lnTo>
                    <a:lnTo>
                      <a:pt x="236" y="73"/>
                    </a:lnTo>
                    <a:lnTo>
                      <a:pt x="230" y="38"/>
                    </a:lnTo>
                    <a:lnTo>
                      <a:pt x="229" y="37"/>
                    </a:lnTo>
                    <a:lnTo>
                      <a:pt x="227" y="32"/>
                    </a:lnTo>
                    <a:lnTo>
                      <a:pt x="224" y="26"/>
                    </a:lnTo>
                    <a:lnTo>
                      <a:pt x="219" y="18"/>
                    </a:lnTo>
                    <a:lnTo>
                      <a:pt x="214" y="12"/>
                    </a:lnTo>
                    <a:lnTo>
                      <a:pt x="206" y="6"/>
                    </a:lnTo>
                    <a:lnTo>
                      <a:pt x="199" y="1"/>
                    </a:lnTo>
                    <a:lnTo>
                      <a:pt x="189" y="0"/>
                    </a:lnTo>
                    <a:lnTo>
                      <a:pt x="189" y="97"/>
                    </a:lnTo>
                    <a:lnTo>
                      <a:pt x="26" y="89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534000" y="171000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34160" y="1860840"/>
                <a:ext cx="53640" cy="63360"/>
              </a:xfrm>
              <a:custGeom>
                <a:avLst/>
                <a:gdLst/>
                <a:ahLst/>
                <a:rect l="l" t="t" r="r" b="b"/>
                <a:pathLst>
                  <a:path w="102" h="121">
                    <a:moveTo>
                      <a:pt x="51" y="0"/>
                    </a:moveTo>
                    <a:lnTo>
                      <a:pt x="0" y="109"/>
                    </a:lnTo>
                    <a:lnTo>
                      <a:pt x="1" y="110"/>
                    </a:lnTo>
                    <a:lnTo>
                      <a:pt x="5" y="113"/>
                    </a:lnTo>
                    <a:lnTo>
                      <a:pt x="11" y="117"/>
                    </a:lnTo>
                    <a:lnTo>
                      <a:pt x="19" y="119"/>
                    </a:lnTo>
                    <a:lnTo>
                      <a:pt x="31" y="121"/>
                    </a:lnTo>
                    <a:lnTo>
                      <a:pt x="45" y="119"/>
                    </a:lnTo>
                    <a:lnTo>
                      <a:pt x="62" y="113"/>
                    </a:lnTo>
                    <a:lnTo>
                      <a:pt x="81" y="102"/>
                    </a:lnTo>
                    <a:lnTo>
                      <a:pt x="102" y="89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03720" y="1697400"/>
                <a:ext cx="82800" cy="11880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6397560" y="16002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606 L -0.00399 0.75995 E">
                                      <p:cBhvr>
                                        <p:cTn id="9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2109E-006 L 0.00156 0.82655 E">
                                      <p:cBhvr>
                                        <p:cTn id="10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34 0.00509 L 0.04201 0.68732 E">
                                      <p:cBhvr>
                                        <p:cTn id="10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09991E-006 L 0.19532 0.60453 E">
                                      <p:cBhvr>
                                        <p:cTn id="11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23959E-006 L -0.12066 0.53793 E">
                                      <p:cBhvr>
                                        <p:cTn id="11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05834 0.31083 E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1397E-006 L 0.1533 0.40471 E">
                                      <p:cBhvr>
                                        <p:cTn id="12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765E-006 L 0.15833 0.27752 E">
                                      <p:cBhvr>
                                        <p:cTn id="12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6152 L -0.004 0.27151 E">
                                      <p:cBhvr>
                                        <p:cTn id="13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9981E-006 L 0.0375 0.34921 E">
                                      <p:cBhvr>
                                        <p:cTn id="13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56984E-006 L 0.01268 0.48242 E">
                                      <p:cBhvr>
                                        <p:cTn id="13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43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>
            <a:lum bright="70000" contrast="-70000"/>
          </a:blip>
          <a:srcRect l="7001" t="31336" r="55005" b="23335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62120" y="533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549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í  qù  èr  sān  l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9907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905040"/>
            <a:ext cx="27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去二三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84464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í  qù  èr sān  l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250920" y="223992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去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 三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里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71800"/>
            <a:ext cx="30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ān  cūn   sì   wǔ   ji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324000" y="33526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烟  村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  五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4114800"/>
            <a:ext cx="31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ínɡ  tái   liù   qī   zu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48769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4" action="ppaction://hlinksldjump"/>
          </p:cNvPr>
          <p:cNvSpPr/>
          <p:nvPr/>
        </p:nvSpPr>
        <p:spPr>
          <a:xfrm>
            <a:off x="324000" y="44496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亭  台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六  七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360" y="571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51814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ā   jiǔ   shí   zhī  hu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6324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5" action="ppaction://hlinksldjump"/>
          </p:cNvPr>
          <p:cNvSpPr/>
          <p:nvPr/>
        </p:nvSpPr>
        <p:spPr>
          <a:xfrm>
            <a:off x="324000" y="56386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八  九  十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枝 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6093000"/>
            <a:ext cx="863640" cy="765000"/>
          </a:xfrm>
          <a:custGeom>
            <a:avLst/>
            <a:gdLst>
              <a:gd name="textAreaLeft" fmla="*/ 49320 w 863640"/>
              <a:gd name="textAreaRight" fmla="*/ 814320 w 863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4384" h="21600">
                <a:moveTo>
                  <a:pt x="0" y="0"/>
                </a:moveTo>
                <a:lnTo>
                  <a:pt x="24384" y="0"/>
                </a:lnTo>
                <a:lnTo>
                  <a:pt x="24384" y="21600"/>
                </a:lnTo>
                <a:lnTo>
                  <a:pt x="0" y="21600"/>
                </a:lnTo>
                <a:close/>
              </a:path>
              <a:path fill="lightenLess" w="24384" h="21600">
                <a:moveTo>
                  <a:pt x="0" y="0"/>
                </a:moveTo>
                <a:lnTo>
                  <a:pt x="24384" y="0"/>
                </a:lnTo>
                <a:lnTo>
                  <a:pt x="22984" y="1400"/>
                </a:lnTo>
                <a:lnTo>
                  <a:pt x="1400" y="1400"/>
                </a:lnTo>
                <a:close/>
              </a:path>
              <a:path fill="darken" w="24384" h="21600">
                <a:moveTo>
                  <a:pt x="24384" y="0"/>
                </a:moveTo>
                <a:lnTo>
                  <a:pt x="24384" y="21600"/>
                </a:lnTo>
                <a:lnTo>
                  <a:pt x="22984" y="20200"/>
                </a:lnTo>
                <a:lnTo>
                  <a:pt x="22984" y="1400"/>
                </a:lnTo>
                <a:close/>
              </a:path>
              <a:path fill="darkenLess" w="24384" h="21600">
                <a:moveTo>
                  <a:pt x="2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84" y="20200"/>
                </a:lnTo>
                <a:close/>
              </a:path>
              <a:path fill="lighten" w="2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84" h="21600">
                <a:moveTo>
                  <a:pt x="5185" y="7493"/>
                </a:moveTo>
                <a:lnTo>
                  <a:pt x="8693" y="7493"/>
                </a:lnTo>
                <a:lnTo>
                  <a:pt x="8693" y="12828"/>
                </a:lnTo>
                <a:cubicBezTo>
                  <a:pt x="8693" y="13751"/>
                  <a:pt x="9494" y="14482"/>
                  <a:pt x="10530" y="14482"/>
                </a:cubicBezTo>
                <a:lnTo>
                  <a:pt x="12192" y="14482"/>
                </a:lnTo>
                <a:cubicBezTo>
                  <a:pt x="13228" y="14482"/>
                  <a:pt x="14028" y="13751"/>
                  <a:pt x="14028" y="12828"/>
                </a:cubicBezTo>
                <a:lnTo>
                  <a:pt x="14028" y="7493"/>
                </a:lnTo>
                <a:lnTo>
                  <a:pt x="12192" y="7493"/>
                </a:lnTo>
                <a:lnTo>
                  <a:pt x="15700" y="3985"/>
                </a:lnTo>
                <a:lnTo>
                  <a:pt x="19372" y="7493"/>
                </a:lnTo>
                <a:lnTo>
                  <a:pt x="17536" y="7493"/>
                </a:lnTo>
                <a:lnTo>
                  <a:pt x="17536" y="12828"/>
                </a:lnTo>
                <a:cubicBezTo>
                  <a:pt x="17536" y="15596"/>
                  <a:pt x="14960" y="18155"/>
                  <a:pt x="12192" y="18155"/>
                </a:cubicBezTo>
                <a:lnTo>
                  <a:pt x="10530" y="18155"/>
                </a:lnTo>
                <a:cubicBezTo>
                  <a:pt x="7762" y="18155"/>
                  <a:pt x="5185" y="15596"/>
                  <a:pt x="5185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6" action="ppaction://hlinksldjump"/>
          </p:cNvPr>
          <p:cNvSpPr/>
          <p:nvPr/>
        </p:nvSpPr>
        <p:spPr>
          <a:xfrm>
            <a:off x="6300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3564000" y="571680"/>
            <a:ext cx="5580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484360" y="333360"/>
            <a:ext cx="5327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yí   qù   èr   sān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68360" y="1052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35280" y="1484280"/>
            <a:ext cx="6697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35280" y="1989000"/>
            <a:ext cx="66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     去    二      三      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35280" y="2492280"/>
            <a:ext cx="6049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3068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烟     村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四     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3640" y="3645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35280" y="4221000"/>
            <a:ext cx="66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亭     台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六     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4869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5516640"/>
            <a:ext cx="70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八     九     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枝     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3068640"/>
            <a:ext cx="1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81440" y="191628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81440" y="3068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2720" y="4076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25800" y="5373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1640" y="907560"/>
            <a:ext cx="990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10080" y="836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38440" y="2133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2080" y="2421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044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7720" y="3716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46800" y="4005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34080" y="5300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03280" y="5013360"/>
            <a:ext cx="1447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2000" y="333360"/>
            <a:ext cx="1368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3300"/>
                </a:solidFill>
                <a:latin typeface="Times New Roman"/>
              </a:rPr>
              <a:t>qù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333360"/>
            <a:ext cx="115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3300"/>
                </a:solidFill>
                <a:latin typeface="Times New Roman"/>
              </a:rPr>
              <a:t>lǐ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84360" y="162864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3300"/>
                </a:solidFill>
                <a:latin typeface="Times New Roman"/>
              </a:rPr>
              <a:t>wǔ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li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2924280"/>
            <a:ext cx="1152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3300"/>
                </a:solidFill>
                <a:latin typeface="Times New Roman"/>
              </a:rPr>
              <a:t>sì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32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ji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35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03280" y="4365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q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24360" y="479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sh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9:38:54Z</dcterms:created>
  <dc:creator>a</dc:creator>
  <dc:description/>
  <dc:language>en-US</dc:language>
  <cp:lastModifiedBy>SONY</cp:lastModifiedBy>
  <dcterms:modified xsi:type="dcterms:W3CDTF">2011-10-24T12:07:32Z</dcterms:modified>
  <cp:revision>151</cp:revision>
  <dc:subject/>
  <dc:title>PowerPoint 演示文稿</dc:title>
</cp:coreProperties>
</file>