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3.gif" ContentType="image/gif"/>
  <Override PartName="/ppt/media/camera.wav" ContentType="audio/x-wav"/>
  <Override PartName="/ppt/media/image4.jpeg" ContentType="image/jpeg"/>
  <Override PartName="/ppt/media/image7.jpeg" ContentType="image/jpeg"/>
  <Override PartName="/ppt/media/image28.jpeg" ContentType="image/jpeg"/>
  <Override PartName="/ppt/media/image21.jpeg" ContentType="image/jpeg"/>
  <Override PartName="/ppt/media/image29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7.png" ContentType="image/png"/>
  <Override PartName="/ppt/media/image16.jpeg" ContentType="image/jpeg"/>
  <Override PartName="/ppt/media/laser.wav" ContentType="audio/x-wav"/>
  <Override PartName="/ppt/media/image30.png" ContentType="image/png"/>
  <Override PartName="/ppt/media/image25.jpeg" ContentType="image/jpeg"/>
  <Override PartName="/ppt/media/image32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2.jpeg" ContentType="image/jpeg"/>
  <Override PartName="/ppt/media/image13.jpeg" ContentType="image/jpeg"/>
  <Override PartName="/ppt/media/image5.jpeg" ContentType="image/jpeg"/>
  <Override PartName="/ppt/media/explode.wav" ContentType="audio/x-wav"/>
  <Override PartName="/ppt/media/image10.jpeg" ContentType="image/jpeg"/>
  <Override PartName="/ppt/media/image14.png" ContentType="image/png"/>
  <Override PartName="/ppt/media/image24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BF1-4ED1-436F-B558-06F18DD3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9B5-DDE7-4018-91B1-03863D00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D10E-E135-4496-9ABC-F7ABA3C5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A2B-AC2B-42C7-BE97-450DC549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BB08-00C0-49CB-B8C4-B101B2AF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AF9D-193F-4086-8DA8-7678B452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8C6A-ACEB-41F8-887C-44AB48E6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10D8-72E4-436C-860E-208BCC78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1E0A-CCD9-4CD4-A748-2127928E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8F7E-C600-440C-9B99-ED722ED3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4BC7-766D-4B73-90EF-214A9D72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C4DB-D784-4C8E-837D-CB3734C9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E360-42D4-460E-8B28-90974EC8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5BAF-E397-4F96-A281-1316D529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0B1D-4393-4EFD-B790-81817139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FF2C-982C-43CF-8450-847C759E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931E-8D6A-4170-99D9-E9ED881C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33D-8069-4FA5-8B15-A2AD58AE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A67-CF51-4ACA-86D1-FA01910A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EB33-9483-48B1-9B6F-33CF8AD3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B03-4BB2-497E-B799-AB2A811D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633-D27E-4CE6-B0F0-9709D496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0F7E-5292-432F-8B75-DCADCFB5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8DE-4FAB-4D95-A0FC-284473CA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FCD7-F1EA-4096-91E2-EA7D1F94E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19B1-7F39-43AD-AF2D-D0BAED0BD9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>
            <a:lum bright="70000" contrast="-70000"/>
          </a:blip>
          <a:srcRect l="7001" t="31336" r="55005" b="23335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34.xml"/><Relationship Id="rId6" Type="http://schemas.openxmlformats.org/officeDocument/2006/relationships/slide" Target="slide6.xml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" Target="slide16.xml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9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2.png"/><Relationship Id="rId14" Type="http://schemas.openxmlformats.org/officeDocument/2006/relationships/image" Target="../media/image32.png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0007"/>
          <p:cNvPicPr/>
          <p:nvPr/>
        </p:nvPicPr>
        <p:blipFill>
          <a:blip r:embed="rId1"/>
          <a:srcRect l="36720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0" y="0"/>
            <a:ext cx="5327640" cy="60948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教版小学语文一年级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7"/>
          <p:cNvSpPr txBox="1"/>
          <p:nvPr/>
        </p:nvSpPr>
        <p:spPr>
          <a:xfrm>
            <a:off x="1042920" y="2060640"/>
            <a:ext cx="6769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一去二三里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W020071011541390477859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539640" y="189000"/>
            <a:ext cx="8064720" cy="5814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完整的话说说你从图上看到些什么？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W020071011541390477859"/>
          <p:cNvPicPr/>
          <p:nvPr/>
        </p:nvPicPr>
        <p:blipFill>
          <a:blip r:embed="rId2"/>
          <a:srcRect l="0" t="60293" r="24014" b="0"/>
          <a:stretch/>
        </p:blipFill>
        <p:spPr>
          <a:xfrm>
            <a:off x="324000" y="479520"/>
            <a:ext cx="8569080" cy="3597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3" name="Text Box 3"/>
          <p:cNvSpPr/>
          <p:nvPr/>
        </p:nvSpPr>
        <p:spPr>
          <a:xfrm>
            <a:off x="1547640" y="4653000"/>
            <a:ext cx="6481800" cy="2287440"/>
          </a:xfrm>
          <a:prstGeom prst="rect">
            <a:avLst/>
          </a:prstGeom>
          <a:solidFill>
            <a:srgbClr val="ffffff">
              <a:alpha val="85000"/>
            </a:srgbClr>
          </a:solidFill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í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q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ù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è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r sān  lǐ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一 去   二 三   里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W020071011541390477859"/>
          <p:cNvPicPr/>
          <p:nvPr/>
        </p:nvPicPr>
        <p:blipFill>
          <a:blip r:embed="rId2"/>
          <a:srcRect l="0" t="26779" r="45651" b="37603"/>
          <a:stretch/>
        </p:blipFill>
        <p:spPr>
          <a:xfrm>
            <a:off x="395280" y="474840"/>
            <a:ext cx="8426520" cy="403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5" name="Text Box 4"/>
          <p:cNvSpPr/>
          <p:nvPr/>
        </p:nvSpPr>
        <p:spPr>
          <a:xfrm>
            <a:off x="1619280" y="4869000"/>
            <a:ext cx="6553080" cy="2287440"/>
          </a:xfrm>
          <a:prstGeom prst="rect">
            <a:avLst/>
          </a:prstGeom>
          <a:solidFill>
            <a:srgbClr val="ffffff">
              <a:alpha val="80000"/>
            </a:srgbClr>
          </a:solidFill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yān cūn  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ì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wǔ  jiā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烟   村  四 五  家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W020071011541390477859"/>
          <p:cNvPicPr/>
          <p:nvPr/>
        </p:nvPicPr>
        <p:blipFill>
          <a:blip r:embed="rId2"/>
          <a:srcRect l="35062" t="0" r="0" b="58578"/>
          <a:stretch/>
        </p:blipFill>
        <p:spPr>
          <a:xfrm>
            <a:off x="398520" y="476280"/>
            <a:ext cx="8350200" cy="4105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1547640" y="4892760"/>
            <a:ext cx="6553440" cy="2287440"/>
          </a:xfrm>
          <a:prstGeom prst="rect">
            <a:avLst/>
          </a:prstGeom>
          <a:solidFill>
            <a:srgbClr val="ffffff">
              <a:alpha val="78000"/>
            </a:srgbClr>
          </a:solidFill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í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nɡ t</a:t>
            </a:r>
            <a:r>
              <a:rPr b="0" lang="el-GR" sz="48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i l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ù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qī  zuò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亭  台   六 七  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0" t="0" r="104" b="22"/>
          <a:stretch/>
        </p:blipFill>
        <p:spPr>
          <a:xfrm>
            <a:off x="0" y="0"/>
            <a:ext cx="4145040" cy="4191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0" t="0" r="-97" b="88"/>
          <a:stretch/>
        </p:blipFill>
        <p:spPr>
          <a:xfrm>
            <a:off x="2438280" y="1905120"/>
            <a:ext cx="3502080" cy="4495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rcRect l="0" t="0" r="57" b="0"/>
          <a:stretch/>
        </p:blipFill>
        <p:spPr>
          <a:xfrm>
            <a:off x="5334120" y="2963880"/>
            <a:ext cx="3809880" cy="3886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72000" y="228600"/>
            <a:ext cx="457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亭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4" name="explode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W020071011541390477859"/>
          <p:cNvPicPr/>
          <p:nvPr/>
        </p:nvPicPr>
        <p:blipFill>
          <a:blip r:embed="rId2"/>
          <a:srcRect l="0" t="60293" r="0" b="0"/>
          <a:stretch/>
        </p:blipFill>
        <p:spPr>
          <a:xfrm>
            <a:off x="539640" y="552600"/>
            <a:ext cx="8209080" cy="3668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73" name="Text Box 4"/>
          <p:cNvSpPr/>
          <p:nvPr/>
        </p:nvSpPr>
        <p:spPr>
          <a:xfrm>
            <a:off x="1258920" y="4724280"/>
            <a:ext cx="6912000" cy="2287440"/>
          </a:xfrm>
          <a:prstGeom prst="rect">
            <a:avLst/>
          </a:prstGeom>
          <a:solidFill>
            <a:srgbClr val="ffffff">
              <a:alpha val="80000"/>
            </a:srgbClr>
          </a:solidFill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bā jiǔ  sh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í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zhī huā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八  九   十  枝  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W020071011541390477859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1258920" y="333360"/>
            <a:ext cx="6553080" cy="6120000"/>
          </a:xfrm>
          <a:prstGeom prst="rect">
            <a:avLst/>
          </a:prstGeom>
          <a:solidFill>
            <a:srgbClr val="ffffff">
              <a:alpha val="7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692360" y="620640"/>
            <a:ext cx="5688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去二三里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    </a:t>
            </a:r>
            <a:br>
              <a:rPr sz="4400"/>
            </a:b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yí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qù 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èr sān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  lǐ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一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去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二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三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里，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yān cūn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sì wǔ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jiā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烟   村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四 五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家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 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tínɡ t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黑体"/>
              </a:rPr>
              <a:t>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liù q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ī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  zuò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亭  台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六  七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座 ，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      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bā jiǔ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shí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zhī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huā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八  九   十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枝  花。</a:t>
            </a:r>
            <a:r>
              <a:rPr b="1" lang="zh-CN" sz="44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020071011541390477859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1258920" y="44280"/>
            <a:ext cx="6553080" cy="6120000"/>
          </a:xfrm>
          <a:prstGeom prst="rect">
            <a:avLst/>
          </a:prstGeom>
          <a:solidFill>
            <a:srgbClr val="ffffff">
              <a:alpha val="7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692360" y="331920"/>
            <a:ext cx="633564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去二三里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    </a:t>
            </a:r>
            <a:br>
              <a:rPr sz="4400"/>
            </a:b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yí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 qù   èr  sān  lǐ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一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去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二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三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里，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yān cūn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sì   wǔ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 jiā 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烟  村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四   五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家。    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tínɡ t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  <a:ea typeface="黑体"/>
              </a:rPr>
              <a:t>ά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i liù  qī  zuò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亭  台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六   七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座 ，            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bā jiǔ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shí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zhī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 huā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八  九   十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枝  花。</a:t>
            </a:r>
            <a:r>
              <a:rPr b="1" lang="zh-CN" sz="44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08000" y="6021360"/>
            <a:ext cx="8820000" cy="792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诗中的“二三”、“四五”、“六七”、“八九十”等数字是指真实的数量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说说你是怎么理解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70000" contrast="-70000"/>
          </a:blip>
          <a:srcRect l="7001" t="31336" r="55005" b="23335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62120" y="5335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549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í  qù  èr  sān  l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9907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905040"/>
            <a:ext cx="27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去二三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184464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í  qù  èr sān  l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250920" y="223992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去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 三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里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971800"/>
            <a:ext cx="30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ān  cūn   sì   wǔ   ji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3" action="ppaction://hlinksldjump"/>
          </p:cNvPr>
          <p:cNvSpPr/>
          <p:nvPr/>
        </p:nvSpPr>
        <p:spPr>
          <a:xfrm>
            <a:off x="324000" y="33526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烟  村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  五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4114800"/>
            <a:ext cx="31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ínɡ  tái   liù   qī   z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48769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4" action="ppaction://hlinksldjump"/>
          </p:cNvPr>
          <p:cNvSpPr/>
          <p:nvPr/>
        </p:nvSpPr>
        <p:spPr>
          <a:xfrm>
            <a:off x="324000" y="44496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亭  台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六  七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360" y="571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51814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ā   jiǔ   shí   zhī  hu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6324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5" action="ppaction://hlinksldjump"/>
          </p:cNvPr>
          <p:cNvSpPr/>
          <p:nvPr/>
        </p:nvSpPr>
        <p:spPr>
          <a:xfrm>
            <a:off x="324000" y="56386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八  九  十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枝 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32720" y="6093000"/>
            <a:ext cx="863640" cy="765000"/>
          </a:xfrm>
          <a:custGeom>
            <a:avLst/>
            <a:gdLst>
              <a:gd name="textAreaLeft" fmla="*/ 49320 w 863640"/>
              <a:gd name="textAreaRight" fmla="*/ 814320 w 86364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4384" h="21600">
                <a:moveTo>
                  <a:pt x="0" y="0"/>
                </a:moveTo>
                <a:lnTo>
                  <a:pt x="24384" y="0"/>
                </a:lnTo>
                <a:lnTo>
                  <a:pt x="24384" y="21600"/>
                </a:lnTo>
                <a:lnTo>
                  <a:pt x="0" y="21600"/>
                </a:lnTo>
                <a:close/>
              </a:path>
              <a:path fill="lightenLess" w="24384" h="21600">
                <a:moveTo>
                  <a:pt x="0" y="0"/>
                </a:moveTo>
                <a:lnTo>
                  <a:pt x="24384" y="0"/>
                </a:lnTo>
                <a:lnTo>
                  <a:pt x="22984" y="1400"/>
                </a:lnTo>
                <a:lnTo>
                  <a:pt x="1400" y="1400"/>
                </a:lnTo>
                <a:close/>
              </a:path>
              <a:path fill="darken" w="24384" h="21600">
                <a:moveTo>
                  <a:pt x="24384" y="0"/>
                </a:moveTo>
                <a:lnTo>
                  <a:pt x="24384" y="21600"/>
                </a:lnTo>
                <a:lnTo>
                  <a:pt x="22984" y="20200"/>
                </a:lnTo>
                <a:lnTo>
                  <a:pt x="22984" y="1400"/>
                </a:lnTo>
                <a:close/>
              </a:path>
              <a:path fill="darkenLess" w="24384" h="21600">
                <a:moveTo>
                  <a:pt x="24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84" y="20200"/>
                </a:lnTo>
                <a:close/>
              </a:path>
              <a:path fill="lighten" w="24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84" h="21600">
                <a:moveTo>
                  <a:pt x="5185" y="7493"/>
                </a:moveTo>
                <a:lnTo>
                  <a:pt x="8693" y="7493"/>
                </a:lnTo>
                <a:lnTo>
                  <a:pt x="8693" y="12828"/>
                </a:lnTo>
                <a:cubicBezTo>
                  <a:pt x="8693" y="13751"/>
                  <a:pt x="9494" y="14482"/>
                  <a:pt x="10530" y="14482"/>
                </a:cubicBezTo>
                <a:lnTo>
                  <a:pt x="12192" y="14482"/>
                </a:lnTo>
                <a:cubicBezTo>
                  <a:pt x="13228" y="14482"/>
                  <a:pt x="14028" y="13751"/>
                  <a:pt x="14028" y="12828"/>
                </a:cubicBezTo>
                <a:lnTo>
                  <a:pt x="14028" y="7493"/>
                </a:lnTo>
                <a:lnTo>
                  <a:pt x="12192" y="7493"/>
                </a:lnTo>
                <a:lnTo>
                  <a:pt x="15700" y="3985"/>
                </a:lnTo>
                <a:lnTo>
                  <a:pt x="19372" y="7493"/>
                </a:lnTo>
                <a:lnTo>
                  <a:pt x="17536" y="7493"/>
                </a:lnTo>
                <a:lnTo>
                  <a:pt x="17536" y="12828"/>
                </a:lnTo>
                <a:cubicBezTo>
                  <a:pt x="17536" y="15596"/>
                  <a:pt x="14960" y="18155"/>
                  <a:pt x="12192" y="18155"/>
                </a:cubicBezTo>
                <a:lnTo>
                  <a:pt x="10530" y="18155"/>
                </a:lnTo>
                <a:cubicBezTo>
                  <a:pt x="7762" y="18155"/>
                  <a:pt x="5185" y="15596"/>
                  <a:pt x="5185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6" action="ppaction://hlinksldjump"/>
          </p:cNvPr>
          <p:cNvSpPr/>
          <p:nvPr/>
        </p:nvSpPr>
        <p:spPr>
          <a:xfrm>
            <a:off x="6300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3564000" y="571680"/>
            <a:ext cx="5580000" cy="5715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5"/>
          <p:cNvSpPr/>
          <p:nvPr/>
        </p:nvSpPr>
        <p:spPr>
          <a:xfrm>
            <a:off x="2664000" y="0"/>
            <a:ext cx="6480000" cy="549360"/>
          </a:xfrm>
          <a:prstGeom prst="cloudCallout">
            <a:avLst>
              <a:gd name="adj1" fmla="val -75893"/>
              <a:gd name="adj2" fmla="val 132657"/>
            </a:avLst>
          </a:prstGeom>
          <a:gradFill rotWithShape="0">
            <a:gsLst>
              <a:gs pos="0">
                <a:srgbClr val="ffffff"/>
              </a:gs>
              <a:gs pos="50000">
                <a:srgbClr val="33ccff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为古诗配上自己喜欢的动作，背诵课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57228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6240" y="907920"/>
            <a:ext cx="864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  2  3  4  5  6  7  8  9 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3757680"/>
            <a:ext cx="869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一 二  三  四 五 六 七  八  九  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4720" y="30762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6000" y="3068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ī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è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ān   sì   wǔ  liù  qī    bā    jiǔ  sh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781680" y="228600"/>
            <a:ext cx="1828800" cy="626760"/>
            <a:chOff x="6781680" y="228600"/>
            <a:chExt cx="1828800" cy="626760"/>
          </a:xfrm>
        </p:grpSpPr>
        <p:sp>
          <p:nvSpPr>
            <p:cNvPr id="91" name=""/>
            <p:cNvSpPr/>
            <p:nvPr/>
          </p:nvSpPr>
          <p:spPr>
            <a:xfrm>
              <a:off x="6781680" y="228600"/>
              <a:ext cx="1676160" cy="608760"/>
            </a:xfrm>
            <a:prstGeom prst="cube">
              <a:avLst>
                <a:gd name="adj" fmla="val 25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0280" y="395640"/>
              <a:ext cx="1600200" cy="45972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29564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26193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W0200710114567556424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826920" y="39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47636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248436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348000" y="3925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4067280" y="39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788000" y="39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5940360" y="39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588000" y="40705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738036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4"/>
          <p:cNvSpPr/>
          <p:nvPr/>
        </p:nvSpPr>
        <p:spPr>
          <a:xfrm>
            <a:off x="1547640" y="476280"/>
            <a:ext cx="3097440" cy="863640"/>
          </a:xfrm>
          <a:prstGeom prst="wedgeEllipseCallout">
            <a:avLst>
              <a:gd name="adj1" fmla="val -60046"/>
              <a:gd name="adj2" fmla="val 78490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游戏：我的朋友在哪里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325440" y="4124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1116000" y="54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1909800" y="4005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3205080" y="2421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4067280" y="450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5219640" y="3284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5510160" y="41497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6443640" y="54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6877080" y="43657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8244000" y="4437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454640" y="3098880"/>
            <a:ext cx="234720" cy="662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454640" y="3078000"/>
            <a:ext cx="234720" cy="7048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51847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rId4" action="ppaction://hlinksldjump"/>
          </p:cNvPr>
          <p:cNvSpPr/>
          <p:nvPr/>
        </p:nvSpPr>
        <p:spPr>
          <a:xfrm>
            <a:off x="5219640" y="234936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3640" y="2565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454640" y="3098880"/>
            <a:ext cx="234720" cy="662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454640" y="3078000"/>
            <a:ext cx="234720" cy="704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424400" y="3070080"/>
            <a:ext cx="295200" cy="719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2050920" y="0"/>
            <a:ext cx="481644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rId5" action="ppaction://hlinksldjump"/>
          </p:cNvPr>
          <p:cNvSpPr/>
          <p:nvPr/>
        </p:nvSpPr>
        <p:spPr>
          <a:xfrm>
            <a:off x="3995640" y="2565360"/>
            <a:ext cx="43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4000" y="558972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454640" y="3098880"/>
            <a:ext cx="234720" cy="6620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454640" y="3078000"/>
            <a:ext cx="234720" cy="7048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424400" y="3070080"/>
            <a:ext cx="295200" cy="719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437000" y="3102120"/>
            <a:ext cx="268200" cy="655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2411280" y="0"/>
            <a:ext cx="4321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>
            <a:hlinkClick r:id="rId6" action="ppaction://hlinksldjump"/>
          </p:cNvPr>
          <p:cNvSpPr/>
          <p:nvPr/>
        </p:nvSpPr>
        <p:spPr>
          <a:xfrm>
            <a:off x="3708360" y="234936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40000" y="227664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454640" y="3098880"/>
            <a:ext cx="234720" cy="6620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454640" y="3078000"/>
            <a:ext cx="234720" cy="704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4424400" y="3070080"/>
            <a:ext cx="295200" cy="719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437000" y="3102120"/>
            <a:ext cx="268200" cy="655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4444920" y="3092400"/>
            <a:ext cx="252360" cy="676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2268360" y="0"/>
            <a:ext cx="460872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rId7" action="ppaction://hlinksldjump"/>
          </p:cNvPr>
          <p:cNvSpPr/>
          <p:nvPr/>
        </p:nvSpPr>
        <p:spPr>
          <a:xfrm>
            <a:off x="4572000" y="2852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89744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4356000" y="249228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067280" y="350028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2436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2987640" y="234936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56360" y="83664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">
            <a:hlinkClick r:id="rId2" action="ppaction://hlinksldjump"/>
          </p:cNvPr>
          <p:cNvSpPr/>
          <p:nvPr/>
        </p:nvSpPr>
        <p:spPr>
          <a:xfrm>
            <a:off x="4932360" y="2565360"/>
            <a:ext cx="4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71640" y="2276640"/>
            <a:ext cx="1727280" cy="14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32944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4572000" y="263700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24360" y="551664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472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3276720" y="270828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19280" y="3068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42640" y="1628640"/>
            <a:ext cx="865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  2  3  4  5  6  7  8  9 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02480" y="3757680"/>
            <a:ext cx="63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一 二  三  四 五 六 七  八  九  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4720" y="30762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732720" y="404640"/>
            <a:ext cx="1828800" cy="626760"/>
            <a:chOff x="6732720" y="404640"/>
            <a:chExt cx="1828800" cy="626760"/>
          </a:xfrm>
        </p:grpSpPr>
        <p:sp>
          <p:nvSpPr>
            <p:cNvPr id="98" name=""/>
            <p:cNvSpPr/>
            <p:nvPr/>
          </p:nvSpPr>
          <p:spPr>
            <a:xfrm>
              <a:off x="6732720" y="404640"/>
              <a:ext cx="1676160" cy="609120"/>
            </a:xfrm>
            <a:prstGeom prst="cube">
              <a:avLst>
                <a:gd name="adj" fmla="val 25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61320" y="571680"/>
              <a:ext cx="1600200" cy="45972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29528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>
            <a:hlinkClick r:id="rId2" action="ppaction://hlinksldjump"/>
          </p:cNvPr>
          <p:cNvSpPr/>
          <p:nvPr/>
        </p:nvSpPr>
        <p:spPr>
          <a:xfrm>
            <a:off x="2268360" y="2708280"/>
            <a:ext cx="15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350028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491200" y="1314360"/>
            <a:ext cx="42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心一意   二龙戏珠   三令五申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640240" y="4611600"/>
            <a:ext cx="354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七上八下   九牛一毛   十全十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09040" y="2970360"/>
            <a:ext cx="43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面八方   五光十色    六神无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67520" y="906840"/>
            <a:ext cx="62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īn      yì           lōng xì zhū        lìng    shē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82920" y="2564280"/>
            <a:ext cx="57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àn   fāng      guāng   sè            s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70680" y="419472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án   mě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79280" y="189000"/>
            <a:ext cx="1828800" cy="626760"/>
            <a:chOff x="179280" y="189000"/>
            <a:chExt cx="1828800" cy="626760"/>
          </a:xfrm>
        </p:grpSpPr>
        <p:sp>
          <p:nvSpPr>
            <p:cNvPr id="278" name=""/>
            <p:cNvSpPr/>
            <p:nvPr/>
          </p:nvSpPr>
          <p:spPr>
            <a:xfrm>
              <a:off x="179280" y="189000"/>
              <a:ext cx="1676160" cy="608760"/>
            </a:xfrm>
            <a:prstGeom prst="cube">
              <a:avLst>
                <a:gd name="adj" fmla="val 25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7880" y="356040"/>
              <a:ext cx="1600200" cy="45972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63640" y="549360"/>
            <a:ext cx="640872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Dotum"/>
                <a:ea typeface="Dotum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Dotum"/>
                <a:ea typeface="Dotum"/>
              </a:rPr>
              <a:t>yǒng xuě  shī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咏  雪 诗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郑板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i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片二片三四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六七八九十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DotumChe"/>
                <a:ea typeface="DotumChe"/>
              </a:rPr>
              <a:t>qiān wàn   wú  shù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 片 万 片无  数 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DotumChe"/>
                <a:ea typeface="DotumChe"/>
              </a:rPr>
              <a:t>fēi rù lú  zǒng   ji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 入芦花总 不 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3" name=""/>
          <p:cNvSpPr/>
          <p:nvPr/>
        </p:nvSpPr>
        <p:spPr>
          <a:xfrm>
            <a:off x="1187280" y="21337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在我们周围找找本课的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84480" y="2997360"/>
            <a:ext cx="5047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向爸爸妈妈介绍自己的文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或家里的用具用上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1—10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的汉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157320" y="614520"/>
            <a:ext cx="8807400" cy="1333440"/>
            <a:chOff x="157320" y="614520"/>
            <a:chExt cx="8807400" cy="1333440"/>
          </a:xfrm>
        </p:grpSpPr>
        <p:sp>
          <p:nvSpPr>
            <p:cNvPr id="286" name="AutoShape 3"/>
            <p:cNvSpPr/>
            <p:nvPr/>
          </p:nvSpPr>
          <p:spPr>
            <a:xfrm>
              <a:off x="157320" y="614520"/>
              <a:ext cx="880740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Picture 4" descr="2H303013a6"/>
            <p:cNvPicPr/>
            <p:nvPr/>
          </p:nvPicPr>
          <p:blipFill>
            <a:blip r:embed="rId1"/>
            <a:srcRect l="0" t="6878" r="87502" b="60386"/>
            <a:stretch/>
          </p:blipFill>
          <p:spPr>
            <a:xfrm>
              <a:off x="157320" y="655920"/>
              <a:ext cx="1090440" cy="129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Group 5"/>
            <p:cNvGrpSpPr/>
            <p:nvPr/>
          </p:nvGrpSpPr>
          <p:grpSpPr>
            <a:xfrm>
              <a:off x="3630960" y="817560"/>
              <a:ext cx="2000160" cy="1049040"/>
              <a:chOff x="3630960" y="817560"/>
              <a:chExt cx="2000160" cy="1049040"/>
            </a:xfrm>
          </p:grpSpPr>
          <p:pic>
            <p:nvPicPr>
              <p:cNvPr id="289" name="Picture 6" descr="9_065103_1"/>
              <p:cNvPicPr/>
              <p:nvPr/>
            </p:nvPicPr>
            <p:blipFill>
              <a:blip r:embed="rId2"/>
              <a:srcRect l="0" t="10284" r="79566" b="66558"/>
              <a:stretch/>
            </p:blipFill>
            <p:spPr>
              <a:xfrm>
                <a:off x="3630960" y="817560"/>
                <a:ext cx="573480" cy="64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Picture 7" descr="9_065103_1"/>
              <p:cNvPicPr/>
              <p:nvPr/>
            </p:nvPicPr>
            <p:blipFill>
              <a:blip r:embed="rId3"/>
              <a:srcRect l="0" t="10284" r="79566" b="66558"/>
              <a:stretch/>
            </p:blipFill>
            <p:spPr>
              <a:xfrm>
                <a:off x="4168800" y="817560"/>
                <a:ext cx="573480" cy="64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Picture 8" descr="9_065103_1"/>
              <p:cNvPicPr/>
              <p:nvPr/>
            </p:nvPicPr>
            <p:blipFill>
              <a:blip r:embed="rId4"/>
              <a:srcRect l="0" t="10284" r="79566" b="66558"/>
              <a:stretch/>
            </p:blipFill>
            <p:spPr>
              <a:xfrm>
                <a:off x="4653360" y="817560"/>
                <a:ext cx="573480" cy="64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Picture 9" descr="9_065103_1"/>
              <p:cNvPicPr/>
              <p:nvPr/>
            </p:nvPicPr>
            <p:blipFill>
              <a:blip r:embed="rId5"/>
              <a:srcRect l="0" t="10284" r="79566" b="66558"/>
              <a:stretch/>
            </p:blipFill>
            <p:spPr>
              <a:xfrm>
                <a:off x="5057640" y="817560"/>
                <a:ext cx="573480" cy="64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Picture 10" descr="9_065103_1"/>
              <p:cNvPicPr/>
              <p:nvPr/>
            </p:nvPicPr>
            <p:blipFill>
              <a:blip r:embed="rId6"/>
              <a:srcRect l="0" t="10284" r="79566" b="66558"/>
              <a:stretch/>
            </p:blipFill>
            <p:spPr>
              <a:xfrm>
                <a:off x="3846600" y="1221120"/>
                <a:ext cx="573480" cy="64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Picture 11" descr="9_065103_1"/>
              <p:cNvPicPr/>
              <p:nvPr/>
            </p:nvPicPr>
            <p:blipFill>
              <a:blip r:embed="rId7"/>
              <a:srcRect l="0" t="10284" r="79566" b="66558"/>
              <a:stretch/>
            </p:blipFill>
            <p:spPr>
              <a:xfrm>
                <a:off x="4411080" y="1221120"/>
                <a:ext cx="573480" cy="64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Picture 12" descr="9_065103_1"/>
              <p:cNvPicPr/>
              <p:nvPr/>
            </p:nvPicPr>
            <p:blipFill>
              <a:blip r:embed="rId8"/>
              <a:srcRect l="0" t="10284" r="79566" b="66558"/>
              <a:stretch/>
            </p:blipFill>
            <p:spPr>
              <a:xfrm>
                <a:off x="4895280" y="1221120"/>
                <a:ext cx="573480" cy="645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6" name="Group 13"/>
            <p:cNvGrpSpPr/>
            <p:nvPr/>
          </p:nvGrpSpPr>
          <p:grpSpPr>
            <a:xfrm>
              <a:off x="1531080" y="977760"/>
              <a:ext cx="1697040" cy="585000"/>
              <a:chOff x="1531080" y="977760"/>
              <a:chExt cx="1697040" cy="585000"/>
            </a:xfrm>
          </p:grpSpPr>
          <p:pic>
            <p:nvPicPr>
              <p:cNvPr id="297" name="Picture 14" descr="ai288"/>
              <p:cNvPicPr/>
              <p:nvPr/>
            </p:nvPicPr>
            <p:blipFill>
              <a:blip r:embed="rId9"/>
              <a:srcRect l="82128" t="64475" r="8286" b="23598"/>
              <a:stretch/>
            </p:blipFill>
            <p:spPr>
              <a:xfrm>
                <a:off x="1531080" y="977760"/>
                <a:ext cx="606240" cy="56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Picture 15" descr="ai288"/>
              <p:cNvPicPr/>
              <p:nvPr/>
            </p:nvPicPr>
            <p:blipFill>
              <a:blip r:embed="rId10"/>
              <a:srcRect l="82128" t="64475" r="8286" b="23598"/>
              <a:stretch/>
            </p:blipFill>
            <p:spPr>
              <a:xfrm>
                <a:off x="2077200" y="994680"/>
                <a:ext cx="606240" cy="56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Picture 16" descr="ai288"/>
              <p:cNvPicPr/>
              <p:nvPr/>
            </p:nvPicPr>
            <p:blipFill>
              <a:blip r:embed="rId11"/>
              <a:srcRect l="82128" t="64475" r="8286" b="23598"/>
              <a:stretch/>
            </p:blipFill>
            <p:spPr>
              <a:xfrm>
                <a:off x="2621880" y="994680"/>
                <a:ext cx="606240" cy="56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0" name="Group 17"/>
            <p:cNvGrpSpPr/>
            <p:nvPr/>
          </p:nvGrpSpPr>
          <p:grpSpPr>
            <a:xfrm>
              <a:off x="6055560" y="614520"/>
              <a:ext cx="2908800" cy="1090800"/>
              <a:chOff x="6055560" y="614520"/>
              <a:chExt cx="2908800" cy="1090800"/>
            </a:xfrm>
          </p:grpSpPr>
          <p:pic>
            <p:nvPicPr>
              <p:cNvPr id="301" name="Picture 18" descr="200787113051112_2"/>
              <p:cNvPicPr/>
              <p:nvPr/>
            </p:nvPicPr>
            <p:blipFill>
              <a:blip r:embed="rId12"/>
              <a:stretch/>
            </p:blipFill>
            <p:spPr>
              <a:xfrm>
                <a:off x="6055560" y="936360"/>
                <a:ext cx="726480" cy="44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Picture 19" descr="200787113051112_2"/>
              <p:cNvPicPr/>
              <p:nvPr/>
            </p:nvPicPr>
            <p:blipFill>
              <a:blip r:embed="rId13"/>
              <a:stretch/>
            </p:blipFill>
            <p:spPr>
              <a:xfrm>
                <a:off x="6782040" y="936360"/>
                <a:ext cx="726480" cy="44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Picture 20" descr="200787113051112_2"/>
              <p:cNvPicPr/>
              <p:nvPr/>
            </p:nvPicPr>
            <p:blipFill>
              <a:blip r:embed="rId14"/>
              <a:stretch/>
            </p:blipFill>
            <p:spPr>
              <a:xfrm>
                <a:off x="7508880" y="936360"/>
                <a:ext cx="726480" cy="44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Picture 21" descr="200787113051112_2"/>
              <p:cNvPicPr/>
              <p:nvPr/>
            </p:nvPicPr>
            <p:blipFill>
              <a:blip r:embed="rId15"/>
              <a:stretch/>
            </p:blipFill>
            <p:spPr>
              <a:xfrm>
                <a:off x="8155800" y="936360"/>
                <a:ext cx="726480" cy="44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Picture 22" descr="200787113051112_2"/>
              <p:cNvPicPr/>
              <p:nvPr/>
            </p:nvPicPr>
            <p:blipFill>
              <a:blip r:embed="rId16"/>
              <a:stretch/>
            </p:blipFill>
            <p:spPr>
              <a:xfrm>
                <a:off x="6055560" y="1258560"/>
                <a:ext cx="726480" cy="44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6" name="Picture 23" descr="200787113051112_2"/>
              <p:cNvPicPr/>
              <p:nvPr/>
            </p:nvPicPr>
            <p:blipFill>
              <a:blip r:embed="rId17"/>
              <a:stretch/>
            </p:blipFill>
            <p:spPr>
              <a:xfrm>
                <a:off x="6782040" y="1258560"/>
                <a:ext cx="726480" cy="44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Picture 24" descr="200787113051112_2"/>
              <p:cNvPicPr/>
              <p:nvPr/>
            </p:nvPicPr>
            <p:blipFill>
              <a:blip r:embed="rId18"/>
              <a:stretch/>
            </p:blipFill>
            <p:spPr>
              <a:xfrm>
                <a:off x="7508880" y="1258560"/>
                <a:ext cx="726480" cy="44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Picture 25" descr="200787113051112_2"/>
              <p:cNvPicPr/>
              <p:nvPr/>
            </p:nvPicPr>
            <p:blipFill>
              <a:blip r:embed="rId19"/>
              <a:stretch/>
            </p:blipFill>
            <p:spPr>
              <a:xfrm>
                <a:off x="8237880" y="1258560"/>
                <a:ext cx="726480" cy="44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Picture 26" descr="200787113051112_2"/>
              <p:cNvPicPr/>
              <p:nvPr/>
            </p:nvPicPr>
            <p:blipFill>
              <a:blip r:embed="rId20"/>
              <a:stretch/>
            </p:blipFill>
            <p:spPr>
              <a:xfrm>
                <a:off x="7026120" y="614520"/>
                <a:ext cx="726480" cy="446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0" name="Text Box 27"/>
          <p:cNvSpPr/>
          <p:nvPr/>
        </p:nvSpPr>
        <p:spPr>
          <a:xfrm>
            <a:off x="84240" y="198288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   ）头牛    （   ）条鱼        （    ）棵树          （   ）架飞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8"/>
          <p:cNvSpPr/>
          <p:nvPr/>
        </p:nvSpPr>
        <p:spPr>
          <a:xfrm>
            <a:off x="2124000" y="2492280"/>
            <a:ext cx="4824360" cy="3506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792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量词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头牛，两匹马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条鱼，四只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本书，六支笔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七棵果树，八朵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架飞机，十辆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错量词出笑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9"/>
          <p:cNvSpPr/>
          <p:nvPr/>
        </p:nvSpPr>
        <p:spPr>
          <a:xfrm>
            <a:off x="468360" y="623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我们周围还有哪些地方用了本课的生字。鼓励学生自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量词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1"/>
          <p:cNvSpPr/>
          <p:nvPr/>
        </p:nvSpPr>
        <p:spPr>
          <a:xfrm>
            <a:off x="396720" y="1982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2"/>
          <p:cNvSpPr/>
          <p:nvPr/>
        </p:nvSpPr>
        <p:spPr>
          <a:xfrm>
            <a:off x="2050920" y="19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3"/>
          <p:cNvSpPr/>
          <p:nvPr/>
        </p:nvSpPr>
        <p:spPr>
          <a:xfrm>
            <a:off x="4284720" y="19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4"/>
          <p:cNvSpPr/>
          <p:nvPr/>
        </p:nvSpPr>
        <p:spPr>
          <a:xfrm>
            <a:off x="6805440" y="19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W020071011541390477859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3"/>
          <p:cNvSpPr/>
          <p:nvPr/>
        </p:nvSpPr>
        <p:spPr>
          <a:xfrm>
            <a:off x="1258920" y="44280"/>
            <a:ext cx="6553080" cy="6120000"/>
          </a:xfrm>
          <a:prstGeom prst="rect">
            <a:avLst/>
          </a:prstGeom>
          <a:solidFill>
            <a:srgbClr val="ffffff">
              <a:alpha val="7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1692360" y="331920"/>
            <a:ext cx="568800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去二三里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    </a:t>
            </a:r>
            <a:br>
              <a:rPr sz="4400"/>
            </a:b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yí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qù   èr sān  lǐ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一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去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二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三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里，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yān cūn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sì wǔ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 jiā 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烟   村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四 五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家。    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tínɡ t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  <a:ea typeface="黑体"/>
              </a:rPr>
              <a:t>ά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i liù qī  zuò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亭  台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六 七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座 ，            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bā jiǔ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shí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zhī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huā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八  九   十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 枝 花。</a:t>
            </a:r>
            <a:r>
              <a:rPr b="1" lang="zh-CN" sz="44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755640" y="0"/>
            <a:ext cx="6480360" cy="549360"/>
          </a:xfrm>
          <a:prstGeom prst="cloudCallout">
            <a:avLst>
              <a:gd name="adj1" fmla="val -46449"/>
              <a:gd name="adj2" fmla="val 132657"/>
            </a:avLst>
          </a:prstGeom>
          <a:gradFill rotWithShape="0">
            <a:gsLst>
              <a:gs pos="0">
                <a:srgbClr val="ffffff"/>
              </a:gs>
              <a:gs pos="50000">
                <a:srgbClr val="33ccff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为古诗配上自己喜欢的动作，背诵课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108000" y="6021360"/>
            <a:ext cx="8820000" cy="792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诗中的“二三”、“四五”、“六七”、“八九”等数字是指真实的数量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说说你是怎么理解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W020071011541390477859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3"/>
          <p:cNvSpPr/>
          <p:nvPr/>
        </p:nvSpPr>
        <p:spPr>
          <a:xfrm>
            <a:off x="1258920" y="44280"/>
            <a:ext cx="6553080" cy="6120000"/>
          </a:xfrm>
          <a:prstGeom prst="rect">
            <a:avLst/>
          </a:prstGeom>
          <a:solidFill>
            <a:srgbClr val="ffffff">
              <a:alpha val="7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1692360" y="331920"/>
            <a:ext cx="633564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去二三里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    </a:t>
            </a:r>
            <a:br>
              <a:rPr sz="5400"/>
            </a:br>
            <a:r>
              <a:rPr b="1" lang="zh-CN" sz="5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y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qù   èr  sān  lǐ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(   )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去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(  ) (  )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里，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yān cūn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sì    wǔ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  jiā 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烟  村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（ ）（ ）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 家。    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tínɡ t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  <a:ea typeface="黑体"/>
              </a:rPr>
              <a:t>ά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i liù   qī  zuò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亭  台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（ ） （ ）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座 ，            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bā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　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jiǔ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shí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zhī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  huā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（）（　）（　）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枝  　花。</a:t>
            </a:r>
            <a:r>
              <a:rPr b="1" lang="zh-CN" sz="44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3352680" y="2209680"/>
          <a:ext cx="2286000" cy="2298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11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6" name="Group 13"/>
          <p:cNvGrpSpPr/>
          <p:nvPr/>
        </p:nvGrpSpPr>
        <p:grpSpPr>
          <a:xfrm>
            <a:off x="3733920" y="838080"/>
            <a:ext cx="1447560" cy="1447920"/>
            <a:chOff x="3733920" y="838080"/>
            <a:chExt cx="1447560" cy="1447920"/>
          </a:xfrm>
        </p:grpSpPr>
        <p:sp>
          <p:nvSpPr>
            <p:cNvPr id="327" name="Line 14"/>
            <p:cNvSpPr/>
            <p:nvPr/>
          </p:nvSpPr>
          <p:spPr>
            <a:xfrm flipV="1">
              <a:off x="4495680" y="1447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5"/>
            <p:cNvSpPr/>
            <p:nvPr/>
          </p:nvSpPr>
          <p:spPr>
            <a:xfrm>
              <a:off x="3733920" y="83808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竖中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6"/>
          <p:cNvGrpSpPr/>
          <p:nvPr/>
        </p:nvGrpSpPr>
        <p:grpSpPr>
          <a:xfrm>
            <a:off x="2133720" y="3885840"/>
            <a:ext cx="1676160" cy="1511640"/>
            <a:chOff x="2133720" y="3885840"/>
            <a:chExt cx="1676160" cy="1511640"/>
          </a:xfrm>
        </p:grpSpPr>
        <p:sp>
          <p:nvSpPr>
            <p:cNvPr id="330" name="Line 17"/>
            <p:cNvSpPr/>
            <p:nvPr/>
          </p:nvSpPr>
          <p:spPr>
            <a:xfrm flipV="1">
              <a:off x="2971800" y="3885840"/>
              <a:ext cx="83808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2133720" y="48769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下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9"/>
          <p:cNvGrpSpPr/>
          <p:nvPr/>
        </p:nvGrpSpPr>
        <p:grpSpPr>
          <a:xfrm>
            <a:off x="5105520" y="3962520"/>
            <a:ext cx="1752480" cy="1358640"/>
            <a:chOff x="5105520" y="3962520"/>
            <a:chExt cx="1752480" cy="1358640"/>
          </a:xfrm>
        </p:grpSpPr>
        <p:sp>
          <p:nvSpPr>
            <p:cNvPr id="333" name="Line 20"/>
            <p:cNvSpPr/>
            <p:nvPr/>
          </p:nvSpPr>
          <p:spPr>
            <a:xfrm>
              <a:off x="5105520" y="3962520"/>
              <a:ext cx="106668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21"/>
            <p:cNvSpPr/>
            <p:nvPr/>
          </p:nvSpPr>
          <p:spPr>
            <a:xfrm>
              <a:off x="5410080" y="48006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下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2"/>
          <p:cNvGrpSpPr/>
          <p:nvPr/>
        </p:nvGrpSpPr>
        <p:grpSpPr>
          <a:xfrm>
            <a:off x="1981080" y="1219320"/>
            <a:ext cx="1905120" cy="1523880"/>
            <a:chOff x="1981080" y="1219320"/>
            <a:chExt cx="1905120" cy="1523880"/>
          </a:xfrm>
        </p:grpSpPr>
        <p:sp>
          <p:nvSpPr>
            <p:cNvPr id="336" name="Line 23"/>
            <p:cNvSpPr/>
            <p:nvPr/>
          </p:nvSpPr>
          <p:spPr>
            <a:xfrm>
              <a:off x="2895480" y="1828800"/>
              <a:ext cx="9907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24"/>
            <p:cNvSpPr/>
            <p:nvPr/>
          </p:nvSpPr>
          <p:spPr>
            <a:xfrm>
              <a:off x="1981080" y="121932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上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5"/>
          <p:cNvGrpSpPr/>
          <p:nvPr/>
        </p:nvGrpSpPr>
        <p:grpSpPr>
          <a:xfrm>
            <a:off x="5257800" y="1143000"/>
            <a:ext cx="1447920" cy="1523520"/>
            <a:chOff x="5257800" y="1143000"/>
            <a:chExt cx="1447920" cy="1523520"/>
          </a:xfrm>
        </p:grpSpPr>
        <p:sp>
          <p:nvSpPr>
            <p:cNvPr id="339" name="Line 26"/>
            <p:cNvSpPr/>
            <p:nvPr/>
          </p:nvSpPr>
          <p:spPr>
            <a:xfrm flipV="1">
              <a:off x="5257800" y="1676160"/>
              <a:ext cx="68580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410080" y="11430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上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5486400" y="2590920"/>
            <a:ext cx="1585800" cy="947160"/>
            <a:chOff x="5486400" y="2590920"/>
            <a:chExt cx="1585800" cy="947160"/>
          </a:xfrm>
        </p:grpSpPr>
        <p:sp>
          <p:nvSpPr>
            <p:cNvPr id="342" name="Line 29"/>
            <p:cNvSpPr/>
            <p:nvPr/>
          </p:nvSpPr>
          <p:spPr>
            <a:xfrm>
              <a:off x="5486400" y="33526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30"/>
            <p:cNvSpPr/>
            <p:nvPr/>
          </p:nvSpPr>
          <p:spPr>
            <a:xfrm>
              <a:off x="6400800" y="2590920"/>
              <a:ext cx="67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横中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32"/>
          <p:cNvSpPr/>
          <p:nvPr/>
        </p:nvSpPr>
        <p:spPr>
          <a:xfrm>
            <a:off x="324000" y="333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认识田字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3"/>
          <p:cNvSpPr/>
          <p:nvPr/>
        </p:nvSpPr>
        <p:spPr>
          <a:xfrm>
            <a:off x="2700360" y="5511960"/>
            <a:ext cx="4176720" cy="1202760"/>
          </a:xfrm>
          <a:prstGeom prst="rect">
            <a:avLst/>
          </a:prstGeom>
          <a:solidFill>
            <a:srgbClr val="cc99ff"/>
          </a:solidFill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田字格，四方方，写好汉字它来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左上格、左下格，右上格、右下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横中线、竖中线，各个方位记心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1143000" y="2133720"/>
          <a:ext cx="6781680" cy="2286000"/>
        </p:xfrm>
        <a:graphic>
          <a:graphicData uri="http://schemas.openxmlformats.org/drawingml/2006/table">
            <a:tbl>
              <a:tblPr/>
              <a:tblGrid>
                <a:gridCol w="1130400"/>
                <a:gridCol w="1130040"/>
                <a:gridCol w="1130400"/>
                <a:gridCol w="1181160"/>
                <a:gridCol w="1079640"/>
                <a:gridCol w="113004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WordArt 25"/>
          <p:cNvSpPr txBox="1"/>
          <p:nvPr/>
        </p:nvSpPr>
        <p:spPr>
          <a:xfrm>
            <a:off x="1371600" y="3048120"/>
            <a:ext cx="1752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348" name="WordArt 26"/>
          <p:cNvSpPr txBox="1"/>
          <p:nvPr/>
        </p:nvSpPr>
        <p:spPr>
          <a:xfrm>
            <a:off x="4038480" y="2743200"/>
            <a:ext cx="990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349" name="WordArt 27"/>
          <p:cNvSpPr txBox="1"/>
          <p:nvPr/>
        </p:nvSpPr>
        <p:spPr>
          <a:xfrm>
            <a:off x="3581280" y="3505320"/>
            <a:ext cx="1828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350" name="WordArt 28"/>
          <p:cNvSpPr txBox="1"/>
          <p:nvPr/>
        </p:nvSpPr>
        <p:spPr>
          <a:xfrm>
            <a:off x="6310440" y="2590920"/>
            <a:ext cx="10411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351" name="WordArt 29"/>
          <p:cNvSpPr txBox="1"/>
          <p:nvPr/>
        </p:nvSpPr>
        <p:spPr>
          <a:xfrm>
            <a:off x="6400800" y="3124080"/>
            <a:ext cx="880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352" name="WordArt 30"/>
          <p:cNvSpPr txBox="1"/>
          <p:nvPr/>
        </p:nvSpPr>
        <p:spPr>
          <a:xfrm>
            <a:off x="5791320" y="3657600"/>
            <a:ext cx="19047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353" name="Text Box 33"/>
          <p:cNvSpPr/>
          <p:nvPr/>
        </p:nvSpPr>
        <p:spPr>
          <a:xfrm>
            <a:off x="324000" y="333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指导写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4"/>
          <p:cNvSpPr/>
          <p:nvPr/>
        </p:nvSpPr>
        <p:spPr>
          <a:xfrm>
            <a:off x="250920" y="4869000"/>
            <a:ext cx="8497800" cy="1169280"/>
          </a:xfrm>
          <a:prstGeom prst="rect">
            <a:avLst/>
          </a:prstGeom>
          <a:solidFill>
            <a:srgbClr val="cc99ff"/>
          </a:solidFill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生描红、临写。注意正确的书写姿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比一比，认一认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几”和“九”、“云”和“去”、“人”和“八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8" descr="W020071011541390477859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27"/>
          <p:cNvSpPr/>
          <p:nvPr/>
        </p:nvSpPr>
        <p:spPr>
          <a:xfrm>
            <a:off x="2926800" y="332280"/>
            <a:ext cx="289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拓  展  活  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3240000" cy="28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lin ang="5400000"/>
          </a:gradFill>
          <a:ln cap="rnd" w="57240">
            <a:solidFill>
              <a:srgbClr val="00ccff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咏雪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片二片三四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六七八九十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片万片无数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飞入芦花总不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4716360" y="1628640"/>
            <a:ext cx="324036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lin ang="5400000"/>
          </a:gradFill>
          <a:ln cap="rnd" w="572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和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是四，十是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四是十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十是四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说十四是四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的舌头伸不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说四十是十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让谁读十四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02480" y="3757680"/>
            <a:ext cx="63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一 二  三  四 五 六 七  八  九  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4720" y="30762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516720" y="549360"/>
            <a:ext cx="1828800" cy="626760"/>
            <a:chOff x="6516720" y="549360"/>
            <a:chExt cx="1828800" cy="626760"/>
          </a:xfrm>
        </p:grpSpPr>
        <p:sp>
          <p:nvSpPr>
            <p:cNvPr id="104" name=""/>
            <p:cNvSpPr/>
            <p:nvPr/>
          </p:nvSpPr>
          <p:spPr>
            <a:xfrm>
              <a:off x="6516720" y="549360"/>
              <a:ext cx="1676160" cy="608760"/>
            </a:xfrm>
            <a:prstGeom prst="cube">
              <a:avLst>
                <a:gd name="adj" fmla="val 25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45320" y="716400"/>
              <a:ext cx="1600200" cy="45972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129528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26193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W0200710114567556424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826920" y="39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47636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48436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348000" y="3925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067280" y="39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788000" y="39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940360" y="39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6588000" y="40705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738036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1547640" y="476280"/>
            <a:ext cx="3097440" cy="863640"/>
          </a:xfrm>
          <a:prstGeom prst="wedgeEllipseCallout">
            <a:avLst>
              <a:gd name="adj1" fmla="val -60046"/>
              <a:gd name="adj2" fmla="val 78490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游戏：我的朋友在哪里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325440" y="4124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116000" y="54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1909800" y="4005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3205080" y="2421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067280" y="450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5219640" y="3284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5510160" y="41497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6443640" y="54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6877080" y="43657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8244000" y="4437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05228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 algn="ctr"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三  七  四  十</a:t>
            </a:r>
            <a:br>
              <a:rPr sz="8000"/>
            </a:br>
            <a:br>
              <a:rPr sz="8000"/>
            </a:b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二  五  一  八  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56720" y="7245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0"/>
            <a:ext cx="9144000" cy="1981080"/>
            <a:chOff x="0" y="0"/>
            <a:chExt cx="9144000" cy="198108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42900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3429000" y="0"/>
              <a:ext cx="571500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>
            <a:off x="4932360" y="40464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</a:rPr>
              <a:t>我 最  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907560"/>
            <a:ext cx="990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10080" y="836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38440" y="2133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42080" y="2421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30440" y="3357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7720" y="3716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46800" y="4005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34080" y="5300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7520" y="4935240"/>
            <a:ext cx="1532160" cy="10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333360"/>
            <a:ext cx="1368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3300"/>
                </a:solidFill>
                <a:latin typeface="Times New Roman"/>
              </a:rPr>
              <a:t>q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00720" y="333360"/>
            <a:ext cx="115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3300"/>
                </a:solidFill>
                <a:latin typeface="Times New Roman"/>
              </a:rPr>
              <a:t>lǐ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1628640"/>
            <a:ext cx="165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3300"/>
                </a:solidFill>
                <a:latin typeface="Times New Roman"/>
              </a:rPr>
              <a:t>wǔ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1916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li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47640" y="2924280"/>
            <a:ext cx="1152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imes New Roman"/>
              </a:rPr>
              <a:t>sì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8000" y="3284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i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35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4365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q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4360" y="4797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h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比一比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八</a:t>
            </a: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---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入     九</a:t>
            </a: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---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几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土</a:t>
            </a: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---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去     田</a:t>
            </a: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---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" descr="说一说"/>
          <p:cNvPicPr/>
          <p:nvPr/>
        </p:nvPicPr>
        <p:blipFill>
          <a:blip r:embed="rId1"/>
          <a:stretch/>
        </p:blipFill>
        <p:spPr>
          <a:xfrm>
            <a:off x="395280" y="189000"/>
            <a:ext cx="15638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900" spc="-1" strike="noStrike">
                <a:solidFill>
                  <a:srgbClr val="ff3300"/>
                </a:solidFill>
                <a:latin typeface="Times New Roman"/>
              </a:rPr>
              <a:t>三</a:t>
            </a:r>
            <a:r>
              <a:rPr b="0" lang="en-US" sz="6900" spc="-1" strike="noStrike">
                <a:solidFill>
                  <a:srgbClr val="000000"/>
                </a:solidFill>
                <a:latin typeface="Times New Roman"/>
              </a:rPr>
              <a:t>(shān    sān)    </a:t>
            </a:r>
            <a:r>
              <a:rPr b="1" lang="zh-CN" sz="6900" spc="-1" strike="noStrike">
                <a:solidFill>
                  <a:srgbClr val="ff3300"/>
                </a:solidFill>
                <a:latin typeface="Times New Roman"/>
              </a:rPr>
              <a:t>四</a:t>
            </a:r>
            <a:r>
              <a:rPr b="0" lang="zh-CN" sz="6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900" spc="-1" strike="noStrike">
                <a:solidFill>
                  <a:srgbClr val="000000"/>
                </a:solidFill>
                <a:latin typeface="Times New Roman"/>
              </a:rPr>
              <a:t>(sì    shì)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山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shān    sān)    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十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shí   sí 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 yī       ī )     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五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wǔ    ǔ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1:54:40Z</dcterms:created>
  <dc:creator>为您服务教育网 http://www.wsbedu.com/</dc:creator>
  <dc:description/>
  <dc:language>en-US</dc:language>
  <cp:lastModifiedBy>Administrator</cp:lastModifiedBy>
  <dcterms:modified xsi:type="dcterms:W3CDTF">2014-10-19T12:20:10Z</dcterms:modified>
  <cp:revision>50</cp:revision>
  <dc:subject/>
  <dc:title>幻灯片 1</dc:title>
</cp:coreProperties>
</file>