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653-BEB0-4782-A614-1262579B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FD2-4E47-4BF7-9070-3A7133A0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EDAF-1DAB-4782-92CF-E2EBF237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7D36-6D84-42FD-BA8F-A07EAC02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E3B9-B52D-4B58-89F3-F14FDD44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F3BA-DC79-4360-8DE0-474AA2CB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CDE-2281-4856-93CB-5DAF2E8E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704-5392-476F-A5A3-9E9B2FF4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6AF-EFA5-485C-BB4D-B4B36BCD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6AED-3A0B-45F2-84BF-F1885CCB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A124-E464-4DF2-92A0-23A3E36F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B1DA-6624-420A-A0B4-36D6CE24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059C-BEB9-4BA9-8FB9-329CF8DB25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2"/>
          <p:cNvSpPr/>
          <p:nvPr/>
        </p:nvSpPr>
        <p:spPr>
          <a:xfrm>
            <a:off x="928800" y="3122640"/>
            <a:ext cx="2190600" cy="2203560"/>
          </a:xfrm>
          <a:custGeom>
            <a:avLst/>
            <a:gdLst/>
            <a:ahLst/>
            <a:rect l="l" t="t" r="r" b="b"/>
            <a:pathLst>
              <a:path w="2190267" h="3873061">
                <a:moveTo>
                  <a:pt x="0" y="24713"/>
                </a:moveTo>
                <a:lnTo>
                  <a:pt x="2190267" y="0"/>
                </a:lnTo>
                <a:lnTo>
                  <a:pt x="2026144" y="3873061"/>
                </a:lnTo>
                <a:lnTo>
                  <a:pt x="180757" y="3861338"/>
                </a:lnTo>
                <a:lnTo>
                  <a:pt x="0" y="24713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燕尾形箭头 6" descr=""/>
          <p:cNvPicPr/>
          <p:nvPr/>
        </p:nvPicPr>
        <p:blipFill>
          <a:blip r:embed="rId2"/>
          <a:stretch/>
        </p:blipFill>
        <p:spPr>
          <a:xfrm>
            <a:off x="858960" y="2560680"/>
            <a:ext cx="2646360" cy="779400"/>
          </a:xfrm>
          <a:prstGeom prst="rect">
            <a:avLst/>
          </a:prstGeom>
          <a:ln w="0">
            <a:noFill/>
          </a:ln>
        </p:spPr>
      </p:pic>
      <p:sp>
        <p:nvSpPr>
          <p:cNvPr id="241" name="椭圆 12"/>
          <p:cNvSpPr/>
          <p:nvPr/>
        </p:nvSpPr>
        <p:spPr>
          <a:xfrm>
            <a:off x="1366920" y="1582560"/>
            <a:ext cx="1276200" cy="127656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22"/>
          <p:cNvSpPr/>
          <p:nvPr/>
        </p:nvSpPr>
        <p:spPr>
          <a:xfrm>
            <a:off x="3438360" y="3097080"/>
            <a:ext cx="2190960" cy="2203560"/>
          </a:xfrm>
          <a:custGeom>
            <a:avLst/>
            <a:gdLst/>
            <a:ahLst/>
            <a:rect l="l" t="t" r="r" b="b"/>
            <a:pathLst>
              <a:path w="2190267" h="3873061">
                <a:moveTo>
                  <a:pt x="0" y="24713"/>
                </a:moveTo>
                <a:lnTo>
                  <a:pt x="2190267" y="0"/>
                </a:lnTo>
                <a:lnTo>
                  <a:pt x="2026144" y="3873061"/>
                </a:lnTo>
                <a:lnTo>
                  <a:pt x="180757" y="3861338"/>
                </a:lnTo>
                <a:lnTo>
                  <a:pt x="0" y="24713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燕尾形箭头 6" descr=""/>
          <p:cNvPicPr/>
          <p:nvPr/>
        </p:nvPicPr>
        <p:blipFill>
          <a:blip r:embed="rId3"/>
          <a:stretch/>
        </p:blipFill>
        <p:spPr>
          <a:xfrm>
            <a:off x="3365640" y="2535120"/>
            <a:ext cx="2644560" cy="781200"/>
          </a:xfrm>
          <a:prstGeom prst="rect">
            <a:avLst/>
          </a:prstGeom>
          <a:ln w="0">
            <a:noFill/>
          </a:ln>
        </p:spPr>
      </p:pic>
      <p:sp>
        <p:nvSpPr>
          <p:cNvPr id="244" name="矩形 22"/>
          <p:cNvSpPr/>
          <p:nvPr/>
        </p:nvSpPr>
        <p:spPr>
          <a:xfrm>
            <a:off x="5938920" y="3036960"/>
            <a:ext cx="2190600" cy="2203200"/>
          </a:xfrm>
          <a:custGeom>
            <a:avLst/>
            <a:gdLst/>
            <a:ahLst/>
            <a:rect l="l" t="t" r="r" b="b"/>
            <a:pathLst>
              <a:path w="2190267" h="3873061">
                <a:moveTo>
                  <a:pt x="0" y="24713"/>
                </a:moveTo>
                <a:lnTo>
                  <a:pt x="2190267" y="0"/>
                </a:lnTo>
                <a:lnTo>
                  <a:pt x="2026144" y="3873061"/>
                </a:lnTo>
                <a:lnTo>
                  <a:pt x="180757" y="3861338"/>
                </a:lnTo>
                <a:lnTo>
                  <a:pt x="0" y="24713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燕尾形箭头 6" descr=""/>
          <p:cNvPicPr/>
          <p:nvPr/>
        </p:nvPicPr>
        <p:blipFill>
          <a:blip r:embed="rId4"/>
          <a:stretch/>
        </p:blipFill>
        <p:spPr>
          <a:xfrm>
            <a:off x="5870520" y="2517840"/>
            <a:ext cx="2640240" cy="779400"/>
          </a:xfrm>
          <a:prstGeom prst="rect">
            <a:avLst/>
          </a:prstGeom>
          <a:ln w="0">
            <a:noFill/>
          </a:ln>
        </p:spPr>
      </p:pic>
      <p:sp>
        <p:nvSpPr>
          <p:cNvPr id="246" name="椭圆 17"/>
          <p:cNvSpPr/>
          <p:nvPr/>
        </p:nvSpPr>
        <p:spPr>
          <a:xfrm>
            <a:off x="3795840" y="1612800"/>
            <a:ext cx="1276200" cy="127656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8"/>
          <p:cNvSpPr/>
          <p:nvPr/>
        </p:nvSpPr>
        <p:spPr>
          <a:xfrm>
            <a:off x="6367320" y="1500120"/>
            <a:ext cx="1276560" cy="127656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2"/>
          <p:cNvSpPr/>
          <p:nvPr/>
        </p:nvSpPr>
        <p:spPr>
          <a:xfrm>
            <a:off x="1435680" y="3941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3"/>
          <p:cNvSpPr/>
          <p:nvPr/>
        </p:nvSpPr>
        <p:spPr>
          <a:xfrm>
            <a:off x="6650640" y="387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4"/>
          <p:cNvSpPr/>
          <p:nvPr/>
        </p:nvSpPr>
        <p:spPr>
          <a:xfrm>
            <a:off x="4007160" y="3941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五边形 5"/>
          <p:cNvSpPr/>
          <p:nvPr/>
        </p:nvSpPr>
        <p:spPr>
          <a:xfrm rot="16200000">
            <a:off x="1637280" y="2296080"/>
            <a:ext cx="2882880" cy="896760"/>
          </a:xfrm>
          <a:custGeom>
            <a:avLst/>
            <a:gdLst/>
            <a:ahLst/>
            <a:rect l="l" t="t" r="r" b="b"/>
            <a:pathLst>
              <a:path w="2974943" h="1008112">
                <a:moveTo>
                  <a:pt x="2974943" y="504056"/>
                </a:moveTo>
                <a:lnTo>
                  <a:pt x="2581245" y="1008112"/>
                </a:lnTo>
                <a:lnTo>
                  <a:pt x="0" y="1008112"/>
                </a:lnTo>
                <a:lnTo>
                  <a:pt x="367530" y="0"/>
                </a:lnTo>
                <a:lnTo>
                  <a:pt x="2581245" y="0"/>
                </a:lnTo>
                <a:close/>
              </a:path>
            </a:pathLst>
          </a:custGeom>
          <a:noFill/>
          <a:ln w="38160">
            <a:solidFill>
              <a:srgbClr val="60b0ce"/>
            </a:solidFill>
            <a:round/>
          </a:ln>
          <a:effectLst>
            <a:outerShdw dist="38160" dir="0" blurRad="0" rotWithShape="0">
              <a:srgbClr val="000000">
                <a:alpha val="4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角三角形 8"/>
          <p:cNvSpPr/>
          <p:nvPr/>
        </p:nvSpPr>
        <p:spPr>
          <a:xfrm>
            <a:off x="2630520" y="1650960"/>
            <a:ext cx="442800" cy="2360520"/>
          </a:xfrm>
          <a:custGeom>
            <a:avLst/>
            <a:gdLst/>
            <a:ahLst/>
            <a:rect l="l" t="t" r="r" b="b"/>
            <a:pathLst>
              <a:path w="497158" h="2435372">
                <a:moveTo>
                  <a:pt x="0" y="0"/>
                </a:moveTo>
                <a:lnTo>
                  <a:pt x="497158" y="2435372"/>
                </a:lnTo>
                <a:lnTo>
                  <a:pt x="0" y="2254122"/>
                </a:ln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角三角形 12"/>
          <p:cNvSpPr/>
          <p:nvPr/>
        </p:nvSpPr>
        <p:spPr>
          <a:xfrm flipV="1" rot="20544000">
            <a:off x="3112200" y="1520640"/>
            <a:ext cx="255600" cy="2733120"/>
          </a:xfrm>
          <a:prstGeom prst="rtTriangle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五边形 6"/>
          <p:cNvSpPr/>
          <p:nvPr/>
        </p:nvSpPr>
        <p:spPr>
          <a:xfrm rot="16200000">
            <a:off x="2818440" y="1095840"/>
            <a:ext cx="520920" cy="896760"/>
          </a:xfrm>
          <a:custGeom>
            <a:avLst/>
            <a:gdLst/>
            <a:ahLst/>
            <a:rect l="l" t="t" r="r" b="b"/>
            <a:pathLst>
              <a:path w="537715" h="1008112">
                <a:moveTo>
                  <a:pt x="537715" y="504056"/>
                </a:moveTo>
                <a:lnTo>
                  <a:pt x="144017" y="1008112"/>
                </a:lnTo>
                <a:lnTo>
                  <a:pt x="0" y="1008112"/>
                </a:lnTo>
                <a:lnTo>
                  <a:pt x="393698" y="504056"/>
                </a:lnTo>
                <a:lnTo>
                  <a:pt x="0" y="0"/>
                </a:lnTo>
                <a:lnTo>
                  <a:pt x="144017" y="0"/>
                </a:lnTo>
                <a:close/>
              </a:path>
            </a:pathLst>
          </a:custGeom>
          <a:solidFill>
            <a:srgbClr val="60b0ce"/>
          </a:solidFill>
          <a:ln w="0">
            <a:noFill/>
          </a:ln>
          <a:effectLst>
            <a:outerShdw dist="633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五边形 5"/>
          <p:cNvSpPr/>
          <p:nvPr/>
        </p:nvSpPr>
        <p:spPr>
          <a:xfrm rot="16200000">
            <a:off x="2759040" y="2728800"/>
            <a:ext cx="2882880" cy="898560"/>
          </a:xfrm>
          <a:custGeom>
            <a:avLst/>
            <a:gdLst/>
            <a:ahLst/>
            <a:rect l="l" t="t" r="r" b="b"/>
            <a:pathLst>
              <a:path w="2974943" h="1008112">
                <a:moveTo>
                  <a:pt x="2974943" y="504056"/>
                </a:moveTo>
                <a:lnTo>
                  <a:pt x="2581245" y="1008112"/>
                </a:lnTo>
                <a:lnTo>
                  <a:pt x="0" y="1008112"/>
                </a:lnTo>
                <a:lnTo>
                  <a:pt x="367530" y="0"/>
                </a:lnTo>
                <a:lnTo>
                  <a:pt x="2581245" y="0"/>
                </a:lnTo>
                <a:close/>
              </a:path>
            </a:pathLst>
          </a:custGeom>
          <a:noFill/>
          <a:ln w="38160">
            <a:solidFill>
              <a:srgbClr val="60b0ce"/>
            </a:solidFill>
            <a:round/>
          </a:ln>
          <a:effectLst>
            <a:outerShdw dist="38160" dir="0" blurRad="0" rotWithShape="0">
              <a:srgbClr val="000000">
                <a:alpha val="4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角三角形 8"/>
          <p:cNvSpPr/>
          <p:nvPr/>
        </p:nvSpPr>
        <p:spPr>
          <a:xfrm>
            <a:off x="3751200" y="2084400"/>
            <a:ext cx="442800" cy="2360520"/>
          </a:xfrm>
          <a:custGeom>
            <a:avLst/>
            <a:gdLst/>
            <a:ahLst/>
            <a:rect l="l" t="t" r="r" b="b"/>
            <a:pathLst>
              <a:path w="497158" h="2435372">
                <a:moveTo>
                  <a:pt x="0" y="0"/>
                </a:moveTo>
                <a:lnTo>
                  <a:pt x="497158" y="2435372"/>
                </a:lnTo>
                <a:lnTo>
                  <a:pt x="0" y="2254122"/>
                </a:ln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角三角形 17"/>
          <p:cNvSpPr/>
          <p:nvPr/>
        </p:nvSpPr>
        <p:spPr>
          <a:xfrm flipV="1" rot="20544000">
            <a:off x="4233960" y="1953360"/>
            <a:ext cx="257040" cy="2733840"/>
          </a:xfrm>
          <a:prstGeom prst="rtTriangle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五边形 6"/>
          <p:cNvSpPr/>
          <p:nvPr/>
        </p:nvSpPr>
        <p:spPr>
          <a:xfrm rot="16200000">
            <a:off x="3939840" y="1528200"/>
            <a:ext cx="520920" cy="898560"/>
          </a:xfrm>
          <a:custGeom>
            <a:avLst/>
            <a:gdLst/>
            <a:ahLst/>
            <a:rect l="l" t="t" r="r" b="b"/>
            <a:pathLst>
              <a:path w="537715" h="1008112">
                <a:moveTo>
                  <a:pt x="537715" y="504056"/>
                </a:moveTo>
                <a:lnTo>
                  <a:pt x="144017" y="1008112"/>
                </a:lnTo>
                <a:lnTo>
                  <a:pt x="0" y="1008112"/>
                </a:lnTo>
                <a:lnTo>
                  <a:pt x="393698" y="504056"/>
                </a:lnTo>
                <a:lnTo>
                  <a:pt x="0" y="0"/>
                </a:lnTo>
                <a:lnTo>
                  <a:pt x="144017" y="0"/>
                </a:lnTo>
                <a:close/>
              </a:path>
            </a:pathLst>
          </a:custGeom>
          <a:solidFill>
            <a:srgbClr val="60b0ce"/>
          </a:solidFill>
          <a:ln w="0">
            <a:noFill/>
          </a:ln>
          <a:effectLst>
            <a:outerShdw dist="633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五边形 5"/>
          <p:cNvSpPr/>
          <p:nvPr/>
        </p:nvSpPr>
        <p:spPr>
          <a:xfrm rot="16200000">
            <a:off x="3882960" y="3173400"/>
            <a:ext cx="2882880" cy="898560"/>
          </a:xfrm>
          <a:custGeom>
            <a:avLst/>
            <a:gdLst/>
            <a:ahLst/>
            <a:rect l="l" t="t" r="r" b="b"/>
            <a:pathLst>
              <a:path w="2974943" h="1008112">
                <a:moveTo>
                  <a:pt x="2974943" y="504056"/>
                </a:moveTo>
                <a:lnTo>
                  <a:pt x="2581245" y="1008112"/>
                </a:lnTo>
                <a:lnTo>
                  <a:pt x="0" y="1008112"/>
                </a:lnTo>
                <a:lnTo>
                  <a:pt x="367530" y="0"/>
                </a:lnTo>
                <a:lnTo>
                  <a:pt x="2581245" y="0"/>
                </a:lnTo>
                <a:close/>
              </a:path>
            </a:pathLst>
          </a:custGeom>
          <a:noFill/>
          <a:ln w="38160">
            <a:solidFill>
              <a:srgbClr val="60b0ce"/>
            </a:solidFill>
            <a:round/>
          </a:ln>
          <a:effectLst>
            <a:outerShdw dist="38160" dir="0" blurRad="0" rotWithShape="0">
              <a:srgbClr val="000000">
                <a:alpha val="4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角三角形 8"/>
          <p:cNvSpPr/>
          <p:nvPr/>
        </p:nvSpPr>
        <p:spPr>
          <a:xfrm>
            <a:off x="4875120" y="2530440"/>
            <a:ext cx="443160" cy="2359080"/>
          </a:xfrm>
          <a:custGeom>
            <a:avLst/>
            <a:gdLst/>
            <a:ahLst/>
            <a:rect l="l" t="t" r="r" b="b"/>
            <a:pathLst>
              <a:path w="497158" h="2435372">
                <a:moveTo>
                  <a:pt x="0" y="0"/>
                </a:moveTo>
                <a:lnTo>
                  <a:pt x="497158" y="2435372"/>
                </a:lnTo>
                <a:lnTo>
                  <a:pt x="0" y="2254122"/>
                </a:ln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角三角形 22"/>
          <p:cNvSpPr/>
          <p:nvPr/>
        </p:nvSpPr>
        <p:spPr>
          <a:xfrm flipV="1" rot="20544000">
            <a:off x="5357520" y="2398680"/>
            <a:ext cx="257040" cy="2735280"/>
          </a:xfrm>
          <a:prstGeom prst="rtTriangle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五边形 6"/>
          <p:cNvSpPr/>
          <p:nvPr/>
        </p:nvSpPr>
        <p:spPr>
          <a:xfrm rot="16200000">
            <a:off x="5064120" y="1973160"/>
            <a:ext cx="520560" cy="898560"/>
          </a:xfrm>
          <a:custGeom>
            <a:avLst/>
            <a:gdLst/>
            <a:ahLst/>
            <a:rect l="l" t="t" r="r" b="b"/>
            <a:pathLst>
              <a:path w="537715" h="1008112">
                <a:moveTo>
                  <a:pt x="537715" y="504056"/>
                </a:moveTo>
                <a:lnTo>
                  <a:pt x="144017" y="1008112"/>
                </a:lnTo>
                <a:lnTo>
                  <a:pt x="0" y="1008112"/>
                </a:lnTo>
                <a:lnTo>
                  <a:pt x="393698" y="504056"/>
                </a:lnTo>
                <a:lnTo>
                  <a:pt x="0" y="0"/>
                </a:lnTo>
                <a:lnTo>
                  <a:pt x="144017" y="0"/>
                </a:lnTo>
                <a:close/>
              </a:path>
            </a:pathLst>
          </a:custGeom>
          <a:solidFill>
            <a:srgbClr val="60b0ce"/>
          </a:solidFill>
          <a:ln w="0">
            <a:noFill/>
          </a:ln>
          <a:effectLst>
            <a:outerShdw dist="633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五边形 5"/>
          <p:cNvSpPr/>
          <p:nvPr/>
        </p:nvSpPr>
        <p:spPr>
          <a:xfrm rot="16200000">
            <a:off x="5003640" y="3565440"/>
            <a:ext cx="2882880" cy="898200"/>
          </a:xfrm>
          <a:custGeom>
            <a:avLst/>
            <a:gdLst/>
            <a:ahLst/>
            <a:rect l="l" t="t" r="r" b="b"/>
            <a:pathLst>
              <a:path w="2974943" h="1008112">
                <a:moveTo>
                  <a:pt x="2974943" y="504056"/>
                </a:moveTo>
                <a:lnTo>
                  <a:pt x="2581245" y="1008112"/>
                </a:lnTo>
                <a:lnTo>
                  <a:pt x="0" y="1008112"/>
                </a:lnTo>
                <a:lnTo>
                  <a:pt x="367530" y="0"/>
                </a:lnTo>
                <a:lnTo>
                  <a:pt x="2581245" y="0"/>
                </a:lnTo>
                <a:close/>
              </a:path>
            </a:pathLst>
          </a:custGeom>
          <a:noFill/>
          <a:ln w="38160">
            <a:solidFill>
              <a:srgbClr val="60b0ce"/>
            </a:solidFill>
            <a:round/>
          </a:ln>
          <a:effectLst>
            <a:outerShdw dist="38160" dir="0" blurRad="0" rotWithShape="0">
              <a:srgbClr val="000000">
                <a:alpha val="4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角三角形 8"/>
          <p:cNvSpPr/>
          <p:nvPr/>
        </p:nvSpPr>
        <p:spPr>
          <a:xfrm>
            <a:off x="5996160" y="2922480"/>
            <a:ext cx="444240" cy="2359080"/>
          </a:xfrm>
          <a:custGeom>
            <a:avLst/>
            <a:gdLst/>
            <a:ahLst/>
            <a:rect l="l" t="t" r="r" b="b"/>
            <a:pathLst>
              <a:path w="497158" h="2435372">
                <a:moveTo>
                  <a:pt x="0" y="0"/>
                </a:moveTo>
                <a:lnTo>
                  <a:pt x="497158" y="2435372"/>
                </a:lnTo>
                <a:lnTo>
                  <a:pt x="0" y="2254122"/>
                </a:ln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角三角形 36"/>
          <p:cNvSpPr/>
          <p:nvPr/>
        </p:nvSpPr>
        <p:spPr>
          <a:xfrm flipV="1" rot="20544000">
            <a:off x="6478200" y="2790720"/>
            <a:ext cx="257040" cy="2735280"/>
          </a:xfrm>
          <a:prstGeom prst="rtTriangle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五边形 6"/>
          <p:cNvSpPr/>
          <p:nvPr/>
        </p:nvSpPr>
        <p:spPr>
          <a:xfrm rot="16200000">
            <a:off x="6184080" y="2365920"/>
            <a:ext cx="522360" cy="898200"/>
          </a:xfrm>
          <a:custGeom>
            <a:avLst/>
            <a:gdLst/>
            <a:ahLst/>
            <a:rect l="l" t="t" r="r" b="b"/>
            <a:pathLst>
              <a:path w="537715" h="1008112">
                <a:moveTo>
                  <a:pt x="537715" y="504056"/>
                </a:moveTo>
                <a:lnTo>
                  <a:pt x="144017" y="1008112"/>
                </a:lnTo>
                <a:lnTo>
                  <a:pt x="0" y="1008112"/>
                </a:lnTo>
                <a:lnTo>
                  <a:pt x="393698" y="504056"/>
                </a:lnTo>
                <a:lnTo>
                  <a:pt x="0" y="0"/>
                </a:lnTo>
                <a:lnTo>
                  <a:pt x="144017" y="0"/>
                </a:lnTo>
                <a:close/>
              </a:path>
            </a:pathLst>
          </a:custGeom>
          <a:solidFill>
            <a:srgbClr val="60b0ce"/>
          </a:solidFill>
          <a:ln w="0">
            <a:noFill/>
          </a:ln>
          <a:effectLst>
            <a:outerShdw dist="633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角三角形 44"/>
          <p:cNvSpPr/>
          <p:nvPr/>
        </p:nvSpPr>
        <p:spPr>
          <a:xfrm flipV="1" rot="20544000">
            <a:off x="7264080" y="3076560"/>
            <a:ext cx="257040" cy="2735280"/>
          </a:xfrm>
          <a:prstGeom prst="rtTriangle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2"/>
          <p:cNvSpPr/>
          <p:nvPr/>
        </p:nvSpPr>
        <p:spPr>
          <a:xfrm>
            <a:off x="6340320" y="3219480"/>
            <a:ext cx="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2"/>
          <p:cNvSpPr/>
          <p:nvPr/>
        </p:nvSpPr>
        <p:spPr>
          <a:xfrm>
            <a:off x="5197320" y="2862360"/>
            <a:ext cx="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2"/>
          <p:cNvSpPr/>
          <p:nvPr/>
        </p:nvSpPr>
        <p:spPr>
          <a:xfrm>
            <a:off x="4125960" y="2290680"/>
            <a:ext cx="7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2982960" y="1933560"/>
            <a:ext cx="7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3"/>
          <p:cNvSpPr/>
          <p:nvPr/>
        </p:nvSpPr>
        <p:spPr>
          <a:xfrm>
            <a:off x="57693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5"/>
          <p:cNvSpPr/>
          <p:nvPr/>
        </p:nvSpPr>
        <p:spPr>
          <a:xfrm>
            <a:off x="1911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1"/>
          <p:cNvSpPr/>
          <p:nvPr/>
        </p:nvSpPr>
        <p:spPr>
          <a:xfrm rot="977400">
            <a:off x="1480680" y="2097000"/>
            <a:ext cx="2435400" cy="1513080"/>
          </a:xfrm>
          <a:custGeom>
            <a:avLst/>
            <a:gdLst/>
            <a:ahLst/>
            <a:rect l="l" t="t" r="r" b="b"/>
            <a:pathLst>
              <a:path w="2592288" h="1512168">
                <a:moveTo>
                  <a:pt x="756084" y="0"/>
                </a:moveTo>
                <a:lnTo>
                  <a:pt x="2484276" y="0"/>
                </a:lnTo>
                <a:cubicBezTo>
                  <a:pt x="2520994" y="0"/>
                  <a:pt x="2557100" y="2617"/>
                  <a:pt x="2592288" y="8590"/>
                </a:cubicBezTo>
                <a:lnTo>
                  <a:pt x="2592288" y="1503578"/>
                </a:lnTo>
                <a:cubicBezTo>
                  <a:pt x="2557100" y="1509551"/>
                  <a:pt x="2520994" y="1512168"/>
                  <a:pt x="2484276" y="1512168"/>
                </a:cubicBezTo>
                <a:lnTo>
                  <a:pt x="756084" y="1512168"/>
                </a:lnTo>
                <a:cubicBezTo>
                  <a:pt x="338510" y="1512168"/>
                  <a:pt x="0" y="1173658"/>
                  <a:pt x="0" y="756084"/>
                </a:cubicBezTo>
                <a:cubicBezTo>
                  <a:pt x="0" y="338510"/>
                  <a:pt x="338510" y="0"/>
                  <a:pt x="756084" y="0"/>
                </a:cubicBezTo>
                <a:close/>
              </a:path>
            </a:pathLst>
          </a:custGeom>
          <a:solidFill>
            <a:srgbClr val="60b0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1"/>
          <p:cNvSpPr/>
          <p:nvPr/>
        </p:nvSpPr>
        <p:spPr>
          <a:xfrm rot="977400">
            <a:off x="1545840" y="2116080"/>
            <a:ext cx="2435400" cy="1513080"/>
          </a:xfrm>
          <a:custGeom>
            <a:avLst/>
            <a:gdLst/>
            <a:ahLst/>
            <a:rect l="l" t="t" r="r" b="b"/>
            <a:pathLst>
              <a:path w="2592288" h="1512168">
                <a:moveTo>
                  <a:pt x="756084" y="0"/>
                </a:moveTo>
                <a:lnTo>
                  <a:pt x="2484276" y="0"/>
                </a:lnTo>
                <a:cubicBezTo>
                  <a:pt x="2520994" y="0"/>
                  <a:pt x="2557100" y="2617"/>
                  <a:pt x="2592288" y="8590"/>
                </a:cubicBezTo>
                <a:lnTo>
                  <a:pt x="2592288" y="1503578"/>
                </a:lnTo>
                <a:cubicBezTo>
                  <a:pt x="2557100" y="1509551"/>
                  <a:pt x="2520994" y="1512168"/>
                  <a:pt x="2484276" y="1512168"/>
                </a:cubicBezTo>
                <a:lnTo>
                  <a:pt x="756084" y="1512168"/>
                </a:lnTo>
                <a:cubicBezTo>
                  <a:pt x="338510" y="1512168"/>
                  <a:pt x="0" y="1173658"/>
                  <a:pt x="0" y="756084"/>
                </a:cubicBezTo>
                <a:cubicBezTo>
                  <a:pt x="0" y="338510"/>
                  <a:pt x="338510" y="0"/>
                  <a:pt x="756084" y="0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椭圆 19"/>
          <p:cNvGrpSpPr/>
          <p:nvPr/>
        </p:nvGrpSpPr>
        <p:grpSpPr>
          <a:xfrm>
            <a:off x="3224160" y="2365200"/>
            <a:ext cx="1158840" cy="1590840"/>
            <a:chOff x="3224160" y="2365200"/>
            <a:chExt cx="1158840" cy="1590840"/>
          </a:xfrm>
        </p:grpSpPr>
        <p:pic>
          <p:nvPicPr>
            <p:cNvPr id="77" name="椭圆 19" descr=""/>
            <p:cNvPicPr/>
            <p:nvPr/>
          </p:nvPicPr>
          <p:blipFill>
            <a:blip r:embed="rId2"/>
            <a:stretch/>
          </p:blipFill>
          <p:spPr>
            <a:xfrm>
              <a:off x="3224160" y="2365200"/>
              <a:ext cx="115884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 rot="977400">
              <a:off x="3444480" y="2643120"/>
              <a:ext cx="7286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圆角矩形 1"/>
          <p:cNvSpPr/>
          <p:nvPr/>
        </p:nvSpPr>
        <p:spPr>
          <a:xfrm flipH="1" rot="21029400">
            <a:off x="5280480" y="2160720"/>
            <a:ext cx="2468520" cy="1512720"/>
          </a:xfrm>
          <a:custGeom>
            <a:avLst/>
            <a:gdLst/>
            <a:ahLst/>
            <a:rect l="l" t="t" r="r" b="b"/>
            <a:pathLst>
              <a:path w="2592288" h="1512168">
                <a:moveTo>
                  <a:pt x="756084" y="0"/>
                </a:moveTo>
                <a:lnTo>
                  <a:pt x="2484276" y="0"/>
                </a:lnTo>
                <a:cubicBezTo>
                  <a:pt x="2520994" y="0"/>
                  <a:pt x="2557100" y="2617"/>
                  <a:pt x="2592288" y="8590"/>
                </a:cubicBezTo>
                <a:lnTo>
                  <a:pt x="2592288" y="1503578"/>
                </a:lnTo>
                <a:cubicBezTo>
                  <a:pt x="2557100" y="1509551"/>
                  <a:pt x="2520994" y="1512168"/>
                  <a:pt x="2484276" y="1512168"/>
                </a:cubicBezTo>
                <a:lnTo>
                  <a:pt x="756084" y="1512168"/>
                </a:lnTo>
                <a:cubicBezTo>
                  <a:pt x="338510" y="1512168"/>
                  <a:pt x="0" y="1173658"/>
                  <a:pt x="0" y="756084"/>
                </a:cubicBezTo>
                <a:cubicBezTo>
                  <a:pt x="0" y="338510"/>
                  <a:pt x="338510" y="0"/>
                  <a:pt x="756084" y="0"/>
                </a:cubicBezTo>
                <a:close/>
              </a:path>
            </a:pathLst>
          </a:custGeom>
          <a:solidFill>
            <a:srgbClr val="60b0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1"/>
          <p:cNvSpPr/>
          <p:nvPr/>
        </p:nvSpPr>
        <p:spPr>
          <a:xfrm flipH="1" rot="21029400">
            <a:off x="5212440" y="2171880"/>
            <a:ext cx="2468520" cy="1512720"/>
          </a:xfrm>
          <a:custGeom>
            <a:avLst/>
            <a:gdLst/>
            <a:ahLst/>
            <a:rect l="l" t="t" r="r" b="b"/>
            <a:pathLst>
              <a:path w="2592288" h="1512168">
                <a:moveTo>
                  <a:pt x="756084" y="0"/>
                </a:moveTo>
                <a:lnTo>
                  <a:pt x="2484276" y="0"/>
                </a:lnTo>
                <a:cubicBezTo>
                  <a:pt x="2520994" y="0"/>
                  <a:pt x="2557100" y="2617"/>
                  <a:pt x="2592288" y="8590"/>
                </a:cubicBezTo>
                <a:lnTo>
                  <a:pt x="2592288" y="1503578"/>
                </a:lnTo>
                <a:cubicBezTo>
                  <a:pt x="2557100" y="1509551"/>
                  <a:pt x="2520994" y="1512168"/>
                  <a:pt x="2484276" y="1512168"/>
                </a:cubicBezTo>
                <a:lnTo>
                  <a:pt x="756084" y="1512168"/>
                </a:lnTo>
                <a:cubicBezTo>
                  <a:pt x="338510" y="1512168"/>
                  <a:pt x="0" y="1173658"/>
                  <a:pt x="0" y="756084"/>
                </a:cubicBezTo>
                <a:cubicBezTo>
                  <a:pt x="0" y="338510"/>
                  <a:pt x="338510" y="0"/>
                  <a:pt x="756084" y="0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椭圆 23"/>
          <p:cNvGrpSpPr/>
          <p:nvPr/>
        </p:nvGrpSpPr>
        <p:grpSpPr>
          <a:xfrm>
            <a:off x="4773600" y="2316240"/>
            <a:ext cx="1150920" cy="1585800"/>
            <a:chOff x="4773600" y="2316240"/>
            <a:chExt cx="1150920" cy="1585800"/>
          </a:xfrm>
        </p:grpSpPr>
        <p:pic>
          <p:nvPicPr>
            <p:cNvPr id="82" name="椭圆 23" descr=""/>
            <p:cNvPicPr/>
            <p:nvPr/>
          </p:nvPicPr>
          <p:blipFill>
            <a:blip r:embed="rId3"/>
            <a:stretch/>
          </p:blipFill>
          <p:spPr>
            <a:xfrm>
              <a:off x="4773600" y="2316240"/>
              <a:ext cx="115092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 rot="21028800">
              <a:off x="4987440" y="2576160"/>
              <a:ext cx="73980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Oval 65"/>
          <p:cNvSpPr/>
          <p:nvPr/>
        </p:nvSpPr>
        <p:spPr>
          <a:xfrm>
            <a:off x="5402160" y="3492360"/>
            <a:ext cx="276480" cy="55800"/>
          </a:xfrm>
          <a:prstGeom prst="ellipse">
            <a:avLst/>
          </a:prstGeom>
          <a:solidFill>
            <a:srgbClr val="60b0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36"/>
          <p:cNvSpPr/>
          <p:nvPr/>
        </p:nvSpPr>
        <p:spPr>
          <a:xfrm rot="1267200">
            <a:off x="5387760" y="3203640"/>
            <a:ext cx="320400" cy="320760"/>
          </a:xfrm>
          <a:prstGeom prst="ellipse">
            <a:avLst/>
          </a:prstGeom>
          <a:solidFill>
            <a:srgbClr val="558ed5"/>
          </a:solidFill>
          <a:ln w="0">
            <a:noFill/>
          </a:ln>
          <a:effectLst>
            <a:outerShdw dist="38160" dir="5400000" blurRad="0" rotWithShape="0">
              <a:srgbClr val="17375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5"/>
          <p:cNvSpPr/>
          <p:nvPr/>
        </p:nvSpPr>
        <p:spPr>
          <a:xfrm>
            <a:off x="3755880" y="3683160"/>
            <a:ext cx="333360" cy="66600"/>
          </a:xfrm>
          <a:prstGeom prst="ellipse">
            <a:avLst/>
          </a:prstGeom>
          <a:solidFill>
            <a:srgbClr val="60b0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41"/>
          <p:cNvSpPr/>
          <p:nvPr/>
        </p:nvSpPr>
        <p:spPr>
          <a:xfrm rot="1267200">
            <a:off x="3736800" y="3322440"/>
            <a:ext cx="387360" cy="387360"/>
          </a:xfrm>
          <a:prstGeom prst="ellipse">
            <a:avLst/>
          </a:prstGeom>
          <a:solidFill>
            <a:srgbClr val="558ed5"/>
          </a:solidFill>
          <a:ln w="0">
            <a:noFill/>
          </a:ln>
          <a:effectLst>
            <a:outerShdw dist="38160" dir="5400000" blurRad="0" rotWithShape="0">
              <a:srgbClr val="17375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9"/>
          <p:cNvSpPr/>
          <p:nvPr/>
        </p:nvSpPr>
        <p:spPr>
          <a:xfrm rot="925800">
            <a:off x="1709640" y="263340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0"/>
          <p:cNvSpPr/>
          <p:nvPr/>
        </p:nvSpPr>
        <p:spPr>
          <a:xfrm rot="21030600">
            <a:off x="6026040" y="267624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val 11" descr=""/>
          <p:cNvPicPr/>
          <p:nvPr/>
        </p:nvPicPr>
        <p:blipFill>
          <a:blip r:embed="rId2"/>
          <a:stretch/>
        </p:blipFill>
        <p:spPr>
          <a:xfrm>
            <a:off x="2541600" y="2614680"/>
            <a:ext cx="4432320" cy="1755720"/>
          </a:xfrm>
          <a:prstGeom prst="rect">
            <a:avLst/>
          </a:prstGeom>
          <a:ln w="0">
            <a:noFill/>
          </a:ln>
        </p:spPr>
      </p:pic>
      <p:pic>
        <p:nvPicPr>
          <p:cNvPr id="96" name="Oval 11" descr=""/>
          <p:cNvPicPr/>
          <p:nvPr/>
        </p:nvPicPr>
        <p:blipFill>
          <a:blip r:embed="rId3"/>
          <a:stretch/>
        </p:blipFill>
        <p:spPr>
          <a:xfrm>
            <a:off x="3286080" y="1609560"/>
            <a:ext cx="2943360" cy="3767400"/>
          </a:xfrm>
          <a:prstGeom prst="rect">
            <a:avLst/>
          </a:prstGeom>
          <a:ln w="0">
            <a:noFill/>
          </a:ln>
        </p:spPr>
      </p:pic>
      <p:pic>
        <p:nvPicPr>
          <p:cNvPr id="97" name="Oval 11" descr=""/>
          <p:cNvPicPr/>
          <p:nvPr/>
        </p:nvPicPr>
        <p:blipFill>
          <a:blip r:embed="rId4"/>
          <a:stretch/>
        </p:blipFill>
        <p:spPr>
          <a:xfrm>
            <a:off x="3286080" y="1609560"/>
            <a:ext cx="2943360" cy="3767400"/>
          </a:xfrm>
          <a:prstGeom prst="rect">
            <a:avLst/>
          </a:prstGeom>
          <a:ln w="0">
            <a:noFill/>
          </a:ln>
        </p:spPr>
      </p:pic>
      <p:pic>
        <p:nvPicPr>
          <p:cNvPr id="98" name="圆角矩形 13" descr=""/>
          <p:cNvPicPr/>
          <p:nvPr/>
        </p:nvPicPr>
        <p:blipFill>
          <a:blip r:embed="rId5"/>
          <a:stretch/>
        </p:blipFill>
        <p:spPr>
          <a:xfrm>
            <a:off x="6059520" y="1657440"/>
            <a:ext cx="1944720" cy="976320"/>
          </a:xfrm>
          <a:prstGeom prst="rect">
            <a:avLst/>
          </a:prstGeom>
          <a:ln w="0">
            <a:noFill/>
          </a:ln>
        </p:spPr>
      </p:pic>
      <p:pic>
        <p:nvPicPr>
          <p:cNvPr id="99" name="圆角矩形 14" descr=""/>
          <p:cNvPicPr/>
          <p:nvPr/>
        </p:nvPicPr>
        <p:blipFill>
          <a:blip r:embed="rId6"/>
          <a:stretch/>
        </p:blipFill>
        <p:spPr>
          <a:xfrm>
            <a:off x="6754680" y="3011400"/>
            <a:ext cx="1944720" cy="974880"/>
          </a:xfrm>
          <a:prstGeom prst="rect">
            <a:avLst/>
          </a:prstGeom>
          <a:ln w="0">
            <a:noFill/>
          </a:ln>
        </p:spPr>
      </p:pic>
      <p:pic>
        <p:nvPicPr>
          <p:cNvPr id="100" name="圆角矩形 15" descr=""/>
          <p:cNvPicPr/>
          <p:nvPr/>
        </p:nvPicPr>
        <p:blipFill>
          <a:blip r:embed="rId7"/>
          <a:stretch/>
        </p:blipFill>
        <p:spPr>
          <a:xfrm>
            <a:off x="6066000" y="4370400"/>
            <a:ext cx="1944360" cy="976320"/>
          </a:xfrm>
          <a:prstGeom prst="rect">
            <a:avLst/>
          </a:prstGeom>
          <a:ln w="0">
            <a:noFill/>
          </a:ln>
        </p:spPr>
      </p:pic>
      <p:pic>
        <p:nvPicPr>
          <p:cNvPr id="101" name="圆角矩形 16" descr=""/>
          <p:cNvPicPr/>
          <p:nvPr/>
        </p:nvPicPr>
        <p:blipFill>
          <a:blip r:embed="rId8"/>
          <a:stretch/>
        </p:blipFill>
        <p:spPr>
          <a:xfrm>
            <a:off x="1463760" y="1657440"/>
            <a:ext cx="1949400" cy="976320"/>
          </a:xfrm>
          <a:prstGeom prst="rect">
            <a:avLst/>
          </a:prstGeom>
          <a:ln w="0">
            <a:noFill/>
          </a:ln>
        </p:spPr>
      </p:pic>
      <p:pic>
        <p:nvPicPr>
          <p:cNvPr id="102" name="圆角矩形 17" descr=""/>
          <p:cNvPicPr/>
          <p:nvPr/>
        </p:nvPicPr>
        <p:blipFill>
          <a:blip r:embed="rId9"/>
          <a:stretch/>
        </p:blipFill>
        <p:spPr>
          <a:xfrm>
            <a:off x="743040" y="3011400"/>
            <a:ext cx="1944720" cy="974880"/>
          </a:xfrm>
          <a:prstGeom prst="rect">
            <a:avLst/>
          </a:prstGeom>
          <a:ln w="0">
            <a:noFill/>
          </a:ln>
        </p:spPr>
      </p:pic>
      <p:pic>
        <p:nvPicPr>
          <p:cNvPr id="103" name="圆角矩形 18" descr=""/>
          <p:cNvPicPr/>
          <p:nvPr/>
        </p:nvPicPr>
        <p:blipFill>
          <a:blip r:embed="rId10"/>
          <a:stretch/>
        </p:blipFill>
        <p:spPr>
          <a:xfrm>
            <a:off x="1481040" y="4370400"/>
            <a:ext cx="1951200" cy="976320"/>
          </a:xfrm>
          <a:prstGeom prst="rect">
            <a:avLst/>
          </a:prstGeom>
          <a:ln w="0">
            <a:noFill/>
          </a:ln>
        </p:spPr>
      </p:pic>
      <p:pic>
        <p:nvPicPr>
          <p:cNvPr id="104" name="组合 39" descr=""/>
          <p:cNvPicPr/>
          <p:nvPr/>
        </p:nvPicPr>
        <p:blipFill>
          <a:blip r:embed="rId11"/>
          <a:stretch/>
        </p:blipFill>
        <p:spPr>
          <a:xfrm>
            <a:off x="4968720" y="4114800"/>
            <a:ext cx="1487520" cy="1494000"/>
          </a:xfrm>
          <a:prstGeom prst="rect">
            <a:avLst/>
          </a:prstGeom>
          <a:ln w="0">
            <a:noFill/>
          </a:ln>
        </p:spPr>
      </p:pic>
      <p:pic>
        <p:nvPicPr>
          <p:cNvPr id="105" name="组合 50" descr=""/>
          <p:cNvPicPr/>
          <p:nvPr/>
        </p:nvPicPr>
        <p:blipFill>
          <a:blip r:embed="rId12"/>
          <a:stretch/>
        </p:blipFill>
        <p:spPr>
          <a:xfrm>
            <a:off x="3024360" y="1401840"/>
            <a:ext cx="1487160" cy="1487520"/>
          </a:xfrm>
          <a:prstGeom prst="rect">
            <a:avLst/>
          </a:prstGeom>
          <a:ln w="0">
            <a:noFill/>
          </a:ln>
        </p:spPr>
      </p:pic>
      <p:pic>
        <p:nvPicPr>
          <p:cNvPr id="106" name="组合 55" descr=""/>
          <p:cNvPicPr/>
          <p:nvPr/>
        </p:nvPicPr>
        <p:blipFill>
          <a:blip r:embed="rId13"/>
          <a:stretch/>
        </p:blipFill>
        <p:spPr>
          <a:xfrm>
            <a:off x="3054240" y="4114800"/>
            <a:ext cx="1481400" cy="1494000"/>
          </a:xfrm>
          <a:prstGeom prst="rect">
            <a:avLst/>
          </a:prstGeom>
          <a:ln w="0">
            <a:noFill/>
          </a:ln>
        </p:spPr>
      </p:pic>
      <p:pic>
        <p:nvPicPr>
          <p:cNvPr id="107" name="组合 65" descr=""/>
          <p:cNvPicPr/>
          <p:nvPr/>
        </p:nvPicPr>
        <p:blipFill>
          <a:blip r:embed="rId14"/>
          <a:stretch/>
        </p:blipFill>
        <p:spPr>
          <a:xfrm>
            <a:off x="2309760" y="2755800"/>
            <a:ext cx="1487520" cy="1487520"/>
          </a:xfrm>
          <a:prstGeom prst="rect">
            <a:avLst/>
          </a:prstGeom>
          <a:ln w="0">
            <a:noFill/>
          </a:ln>
        </p:spPr>
      </p:pic>
      <p:pic>
        <p:nvPicPr>
          <p:cNvPr id="108" name="组合 69" descr=""/>
          <p:cNvPicPr/>
          <p:nvPr/>
        </p:nvPicPr>
        <p:blipFill>
          <a:blip r:embed="rId15"/>
          <a:stretch/>
        </p:blipFill>
        <p:spPr>
          <a:xfrm>
            <a:off x="4950000" y="1401840"/>
            <a:ext cx="1487160" cy="1487520"/>
          </a:xfrm>
          <a:prstGeom prst="rect">
            <a:avLst/>
          </a:prstGeom>
          <a:ln w="0">
            <a:noFill/>
          </a:ln>
        </p:spPr>
      </p:pic>
      <p:pic>
        <p:nvPicPr>
          <p:cNvPr id="109" name="TextBox 146" descr=""/>
          <p:cNvPicPr/>
          <p:nvPr/>
        </p:nvPicPr>
        <p:blipFill>
          <a:blip r:embed="rId16"/>
          <a:stretch/>
        </p:blipFill>
        <p:spPr>
          <a:xfrm>
            <a:off x="5840280" y="3279600"/>
            <a:ext cx="107820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35"/>
          <p:cNvGrpSpPr/>
          <p:nvPr/>
        </p:nvGrpSpPr>
        <p:grpSpPr>
          <a:xfrm>
            <a:off x="1071720" y="1731960"/>
            <a:ext cx="6978600" cy="3125880"/>
            <a:chOff x="1071720" y="1731960"/>
            <a:chExt cx="6978600" cy="3125880"/>
          </a:xfrm>
        </p:grpSpPr>
        <p:sp>
          <p:nvSpPr>
            <p:cNvPr id="111" name="椭圆 7"/>
            <p:cNvSpPr/>
            <p:nvPr/>
          </p:nvSpPr>
          <p:spPr>
            <a:xfrm>
              <a:off x="7188480" y="2390760"/>
              <a:ext cx="861840" cy="1486080"/>
            </a:xfrm>
            <a:custGeom>
              <a:avLst/>
              <a:gdLst/>
              <a:ahLst/>
              <a:rect l="l" t="t" r="r" b="b"/>
              <a:pathLst>
                <a:path w="2592288" h="4464496">
                  <a:moveTo>
                    <a:pt x="1092696" y="377200"/>
                  </a:moveTo>
                  <a:cubicBezTo>
                    <a:pt x="538166" y="377200"/>
                    <a:pt x="88630" y="1183365"/>
                    <a:pt x="88630" y="2177821"/>
                  </a:cubicBezTo>
                  <a:cubicBezTo>
                    <a:pt x="88630" y="3172277"/>
                    <a:pt x="538166" y="3978442"/>
                    <a:pt x="1092696" y="3978442"/>
                  </a:cubicBezTo>
                  <a:cubicBezTo>
                    <a:pt x="1647226" y="3978442"/>
                    <a:pt x="2096762" y="3172277"/>
                    <a:pt x="2096762" y="2177821"/>
                  </a:cubicBezTo>
                  <a:cubicBezTo>
                    <a:pt x="2096762" y="1183365"/>
                    <a:pt x="1647226" y="377200"/>
                    <a:pt x="1092696" y="377200"/>
                  </a:cubicBezTo>
                  <a:close/>
                  <a:moveTo>
                    <a:pt x="1296144" y="0"/>
                  </a:moveTo>
                  <a:cubicBezTo>
                    <a:pt x="2011985" y="0"/>
                    <a:pt x="2592288" y="999411"/>
                    <a:pt x="2592288" y="2232248"/>
                  </a:cubicBezTo>
                  <a:cubicBezTo>
                    <a:pt x="2592288" y="3465085"/>
                    <a:pt x="2011985" y="4464496"/>
                    <a:pt x="1296144" y="4464496"/>
                  </a:cubicBezTo>
                  <a:cubicBezTo>
                    <a:pt x="580303" y="4464496"/>
                    <a:pt x="0" y="3465085"/>
                    <a:pt x="0" y="2232248"/>
                  </a:cubicBezTo>
                  <a:cubicBezTo>
                    <a:pt x="0" y="999411"/>
                    <a:pt x="580303" y="0"/>
                    <a:pt x="1296144" y="0"/>
                  </a:cubicBezTo>
                  <a:close/>
                </a:path>
              </a:pathLst>
            </a:custGeom>
            <a:solidFill>
              <a:srgbClr val="60b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4"/>
            <p:cNvSpPr/>
            <p:nvPr/>
          </p:nvSpPr>
          <p:spPr>
            <a:xfrm>
              <a:off x="7133040" y="2390760"/>
              <a:ext cx="863280" cy="1486080"/>
            </a:xfrm>
            <a:custGeom>
              <a:avLst/>
              <a:gdLst/>
              <a:ahLst/>
              <a:rect l="l" t="t" r="r" b="b"/>
              <a:pathLst>
                <a:path w="2592288" h="4464496">
                  <a:moveTo>
                    <a:pt x="1177061" y="377200"/>
                  </a:moveTo>
                  <a:cubicBezTo>
                    <a:pt x="622531" y="377200"/>
                    <a:pt x="172995" y="1183365"/>
                    <a:pt x="172995" y="2177821"/>
                  </a:cubicBezTo>
                  <a:cubicBezTo>
                    <a:pt x="172995" y="3172277"/>
                    <a:pt x="622531" y="3978442"/>
                    <a:pt x="1177061" y="3978442"/>
                  </a:cubicBezTo>
                  <a:cubicBezTo>
                    <a:pt x="1731591" y="3978442"/>
                    <a:pt x="2181127" y="3172277"/>
                    <a:pt x="2181127" y="2177821"/>
                  </a:cubicBezTo>
                  <a:cubicBezTo>
                    <a:pt x="2181127" y="1183365"/>
                    <a:pt x="1731591" y="377200"/>
                    <a:pt x="1177061" y="377200"/>
                  </a:cubicBezTo>
                  <a:close/>
                  <a:moveTo>
                    <a:pt x="1296144" y="0"/>
                  </a:moveTo>
                  <a:cubicBezTo>
                    <a:pt x="2011985" y="0"/>
                    <a:pt x="2592288" y="999411"/>
                    <a:pt x="2592288" y="2232248"/>
                  </a:cubicBezTo>
                  <a:cubicBezTo>
                    <a:pt x="2592288" y="3465085"/>
                    <a:pt x="2011985" y="4464496"/>
                    <a:pt x="1296144" y="4464496"/>
                  </a:cubicBezTo>
                  <a:cubicBezTo>
                    <a:pt x="580303" y="4464496"/>
                    <a:pt x="0" y="3465085"/>
                    <a:pt x="0" y="2232248"/>
                  </a:cubicBezTo>
                  <a:cubicBezTo>
                    <a:pt x="0" y="999411"/>
                    <a:pt x="580303" y="0"/>
                    <a:pt x="1296144" y="0"/>
                  </a:cubicBezTo>
                  <a:close/>
                </a:path>
              </a:pathLst>
            </a:custGeom>
            <a:solidFill>
              <a:srgbClr val="b7dee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右箭头 13"/>
            <p:cNvSpPr/>
            <p:nvPr/>
          </p:nvSpPr>
          <p:spPr>
            <a:xfrm>
              <a:off x="6026400" y="2922480"/>
              <a:ext cx="1622160" cy="457200"/>
            </a:xfrm>
            <a:prstGeom prst="rightArrow">
              <a:avLst>
                <a:gd name="adj1" fmla="val 50000"/>
                <a:gd name="adj2" fmla="val 49985"/>
              </a:avLst>
            </a:prstGeom>
            <a:solidFill>
              <a:srgbClr val="60b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7"/>
            <p:cNvSpPr/>
            <p:nvPr/>
          </p:nvSpPr>
          <p:spPr>
            <a:xfrm>
              <a:off x="4984920" y="2109600"/>
              <a:ext cx="1309680" cy="2316240"/>
            </a:xfrm>
            <a:custGeom>
              <a:avLst/>
              <a:gdLst/>
              <a:ahLst/>
              <a:rect l="l" t="t" r="r" b="b"/>
              <a:pathLst>
                <a:path w="2592288" h="4464496">
                  <a:moveTo>
                    <a:pt x="1092696" y="377200"/>
                  </a:moveTo>
                  <a:cubicBezTo>
                    <a:pt x="538166" y="377200"/>
                    <a:pt x="88630" y="1183365"/>
                    <a:pt x="88630" y="2177821"/>
                  </a:cubicBezTo>
                  <a:cubicBezTo>
                    <a:pt x="88630" y="3172277"/>
                    <a:pt x="538166" y="3978442"/>
                    <a:pt x="1092696" y="3978442"/>
                  </a:cubicBezTo>
                  <a:cubicBezTo>
                    <a:pt x="1647226" y="3978442"/>
                    <a:pt x="2096762" y="3172277"/>
                    <a:pt x="2096762" y="2177821"/>
                  </a:cubicBezTo>
                  <a:cubicBezTo>
                    <a:pt x="2096762" y="1183365"/>
                    <a:pt x="1647226" y="377200"/>
                    <a:pt x="1092696" y="377200"/>
                  </a:cubicBezTo>
                  <a:close/>
                  <a:moveTo>
                    <a:pt x="1296144" y="0"/>
                  </a:moveTo>
                  <a:cubicBezTo>
                    <a:pt x="2011985" y="0"/>
                    <a:pt x="2592288" y="999411"/>
                    <a:pt x="2592288" y="2232248"/>
                  </a:cubicBezTo>
                  <a:cubicBezTo>
                    <a:pt x="2592288" y="3465085"/>
                    <a:pt x="2011985" y="4464496"/>
                    <a:pt x="1296144" y="4464496"/>
                  </a:cubicBezTo>
                  <a:cubicBezTo>
                    <a:pt x="580303" y="4464496"/>
                    <a:pt x="0" y="3465085"/>
                    <a:pt x="0" y="2232248"/>
                  </a:cubicBezTo>
                  <a:cubicBezTo>
                    <a:pt x="0" y="999411"/>
                    <a:pt x="580303" y="0"/>
                    <a:pt x="1296144" y="0"/>
                  </a:cubicBezTo>
                  <a:close/>
                </a:path>
              </a:pathLst>
            </a:custGeom>
            <a:solidFill>
              <a:srgbClr val="60b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4"/>
            <p:cNvSpPr/>
            <p:nvPr/>
          </p:nvSpPr>
          <p:spPr>
            <a:xfrm>
              <a:off x="4883400" y="2109600"/>
              <a:ext cx="1344600" cy="2316240"/>
            </a:xfrm>
            <a:custGeom>
              <a:avLst/>
              <a:gdLst/>
              <a:ahLst/>
              <a:rect l="l" t="t" r="r" b="b"/>
              <a:pathLst>
                <a:path w="2592288" h="4464496">
                  <a:moveTo>
                    <a:pt x="1177061" y="377200"/>
                  </a:moveTo>
                  <a:cubicBezTo>
                    <a:pt x="622531" y="377200"/>
                    <a:pt x="172995" y="1183365"/>
                    <a:pt x="172995" y="2177821"/>
                  </a:cubicBezTo>
                  <a:cubicBezTo>
                    <a:pt x="172995" y="3172277"/>
                    <a:pt x="622531" y="3978442"/>
                    <a:pt x="1177061" y="3978442"/>
                  </a:cubicBezTo>
                  <a:cubicBezTo>
                    <a:pt x="1731591" y="3978442"/>
                    <a:pt x="2181127" y="3172277"/>
                    <a:pt x="2181127" y="2177821"/>
                  </a:cubicBezTo>
                  <a:cubicBezTo>
                    <a:pt x="2181127" y="1183365"/>
                    <a:pt x="1731591" y="377200"/>
                    <a:pt x="1177061" y="377200"/>
                  </a:cubicBezTo>
                  <a:close/>
                  <a:moveTo>
                    <a:pt x="1296144" y="0"/>
                  </a:moveTo>
                  <a:cubicBezTo>
                    <a:pt x="2011985" y="0"/>
                    <a:pt x="2592288" y="999411"/>
                    <a:pt x="2592288" y="2232248"/>
                  </a:cubicBezTo>
                  <a:cubicBezTo>
                    <a:pt x="2592288" y="3465085"/>
                    <a:pt x="2011985" y="4464496"/>
                    <a:pt x="1296144" y="4464496"/>
                  </a:cubicBezTo>
                  <a:cubicBezTo>
                    <a:pt x="580303" y="4464496"/>
                    <a:pt x="0" y="3465085"/>
                    <a:pt x="0" y="2232248"/>
                  </a:cubicBezTo>
                  <a:cubicBezTo>
                    <a:pt x="0" y="999411"/>
                    <a:pt x="580303" y="0"/>
                    <a:pt x="1296144" y="0"/>
                  </a:cubicBezTo>
                  <a:close/>
                </a:path>
              </a:pathLst>
            </a:custGeom>
            <a:solidFill>
              <a:srgbClr val="b7dee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右箭头 17"/>
            <p:cNvSpPr/>
            <p:nvPr/>
          </p:nvSpPr>
          <p:spPr>
            <a:xfrm>
              <a:off x="3714840" y="2379600"/>
              <a:ext cx="1877760" cy="458640"/>
            </a:xfrm>
            <a:prstGeom prst="rightArrow">
              <a:avLst>
                <a:gd name="adj1" fmla="val 50000"/>
                <a:gd name="adj2" fmla="val 50002"/>
              </a:avLst>
            </a:prstGeom>
            <a:solidFill>
              <a:srgbClr val="60b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右箭头 19"/>
            <p:cNvSpPr/>
            <p:nvPr/>
          </p:nvSpPr>
          <p:spPr>
            <a:xfrm>
              <a:off x="3714840" y="2997360"/>
              <a:ext cx="1877760" cy="458640"/>
            </a:xfrm>
            <a:prstGeom prst="rightArrow">
              <a:avLst>
                <a:gd name="adj1" fmla="val 50000"/>
                <a:gd name="adj2" fmla="val 50002"/>
              </a:avLst>
            </a:prstGeom>
            <a:solidFill>
              <a:srgbClr val="60b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右箭头 21"/>
            <p:cNvSpPr/>
            <p:nvPr/>
          </p:nvSpPr>
          <p:spPr>
            <a:xfrm>
              <a:off x="3714840" y="3614760"/>
              <a:ext cx="1877760" cy="458640"/>
            </a:xfrm>
            <a:prstGeom prst="rightArrow">
              <a:avLst>
                <a:gd name="adj1" fmla="val 50000"/>
                <a:gd name="adj2" fmla="val 50002"/>
              </a:avLst>
            </a:prstGeom>
            <a:solidFill>
              <a:srgbClr val="60b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7"/>
            <p:cNvSpPr/>
            <p:nvPr/>
          </p:nvSpPr>
          <p:spPr>
            <a:xfrm>
              <a:off x="2265480" y="1731960"/>
              <a:ext cx="1795320" cy="3125880"/>
            </a:xfrm>
            <a:custGeom>
              <a:avLst/>
              <a:gdLst/>
              <a:ahLst/>
              <a:rect l="l" t="t" r="r" b="b"/>
              <a:pathLst>
                <a:path w="2592288" h="4464496">
                  <a:moveTo>
                    <a:pt x="1092696" y="377200"/>
                  </a:moveTo>
                  <a:cubicBezTo>
                    <a:pt x="538166" y="377200"/>
                    <a:pt x="88630" y="1183365"/>
                    <a:pt x="88630" y="2177821"/>
                  </a:cubicBezTo>
                  <a:cubicBezTo>
                    <a:pt x="88630" y="3172277"/>
                    <a:pt x="538166" y="3978442"/>
                    <a:pt x="1092696" y="3978442"/>
                  </a:cubicBezTo>
                  <a:cubicBezTo>
                    <a:pt x="1647226" y="3978442"/>
                    <a:pt x="2096762" y="3172277"/>
                    <a:pt x="2096762" y="2177821"/>
                  </a:cubicBezTo>
                  <a:cubicBezTo>
                    <a:pt x="2096762" y="1183365"/>
                    <a:pt x="1647226" y="377200"/>
                    <a:pt x="1092696" y="377200"/>
                  </a:cubicBezTo>
                  <a:close/>
                  <a:moveTo>
                    <a:pt x="1296144" y="0"/>
                  </a:moveTo>
                  <a:cubicBezTo>
                    <a:pt x="2011985" y="0"/>
                    <a:pt x="2592288" y="999411"/>
                    <a:pt x="2592288" y="2232248"/>
                  </a:cubicBezTo>
                  <a:cubicBezTo>
                    <a:pt x="2592288" y="3465085"/>
                    <a:pt x="2011985" y="4464496"/>
                    <a:pt x="1296144" y="4464496"/>
                  </a:cubicBezTo>
                  <a:cubicBezTo>
                    <a:pt x="580303" y="4464496"/>
                    <a:pt x="0" y="3465085"/>
                    <a:pt x="0" y="2232248"/>
                  </a:cubicBezTo>
                  <a:cubicBezTo>
                    <a:pt x="0" y="999411"/>
                    <a:pt x="580303" y="0"/>
                    <a:pt x="1296144" y="0"/>
                  </a:cubicBezTo>
                  <a:close/>
                </a:path>
              </a:pathLst>
            </a:custGeom>
            <a:solidFill>
              <a:srgbClr val="60b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 4"/>
            <p:cNvSpPr/>
            <p:nvPr/>
          </p:nvSpPr>
          <p:spPr>
            <a:xfrm>
              <a:off x="2144880" y="1731960"/>
              <a:ext cx="1814400" cy="3125880"/>
            </a:xfrm>
            <a:custGeom>
              <a:avLst/>
              <a:gdLst/>
              <a:ahLst/>
              <a:rect l="l" t="t" r="r" b="b"/>
              <a:pathLst>
                <a:path w="2592288" h="4464496">
                  <a:moveTo>
                    <a:pt x="1177061" y="377200"/>
                  </a:moveTo>
                  <a:cubicBezTo>
                    <a:pt x="622531" y="377200"/>
                    <a:pt x="172995" y="1183365"/>
                    <a:pt x="172995" y="2177821"/>
                  </a:cubicBezTo>
                  <a:cubicBezTo>
                    <a:pt x="172995" y="3172277"/>
                    <a:pt x="622531" y="3978442"/>
                    <a:pt x="1177061" y="3978442"/>
                  </a:cubicBezTo>
                  <a:cubicBezTo>
                    <a:pt x="1731591" y="3978442"/>
                    <a:pt x="2181127" y="3172277"/>
                    <a:pt x="2181127" y="2177821"/>
                  </a:cubicBezTo>
                  <a:cubicBezTo>
                    <a:pt x="2181127" y="1183365"/>
                    <a:pt x="1731591" y="377200"/>
                    <a:pt x="1177061" y="377200"/>
                  </a:cubicBezTo>
                  <a:close/>
                  <a:moveTo>
                    <a:pt x="1296144" y="0"/>
                  </a:moveTo>
                  <a:cubicBezTo>
                    <a:pt x="2011985" y="0"/>
                    <a:pt x="2592288" y="999411"/>
                    <a:pt x="2592288" y="2232248"/>
                  </a:cubicBezTo>
                  <a:cubicBezTo>
                    <a:pt x="2592288" y="3465085"/>
                    <a:pt x="2011985" y="4464496"/>
                    <a:pt x="1296144" y="4464496"/>
                  </a:cubicBezTo>
                  <a:cubicBezTo>
                    <a:pt x="580303" y="4464496"/>
                    <a:pt x="0" y="3465085"/>
                    <a:pt x="0" y="2232248"/>
                  </a:cubicBezTo>
                  <a:cubicBezTo>
                    <a:pt x="0" y="999411"/>
                    <a:pt x="580303" y="0"/>
                    <a:pt x="1296144" y="0"/>
                  </a:cubicBezTo>
                  <a:close/>
                </a:path>
              </a:pathLst>
            </a:custGeom>
            <a:solidFill>
              <a:srgbClr val="b7dee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右箭头 26"/>
            <p:cNvSpPr/>
            <p:nvPr/>
          </p:nvSpPr>
          <p:spPr>
            <a:xfrm>
              <a:off x="1071720" y="2000160"/>
              <a:ext cx="2130480" cy="457200"/>
            </a:xfrm>
            <a:prstGeom prst="rightArrow">
              <a:avLst>
                <a:gd name="adj1" fmla="val 50000"/>
                <a:gd name="adj2" fmla="val 49985"/>
              </a:avLst>
            </a:prstGeom>
            <a:solidFill>
              <a:srgbClr val="60b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右箭头 28"/>
            <p:cNvSpPr/>
            <p:nvPr/>
          </p:nvSpPr>
          <p:spPr>
            <a:xfrm>
              <a:off x="1071720" y="2647800"/>
              <a:ext cx="2130480" cy="457200"/>
            </a:xfrm>
            <a:prstGeom prst="rightArrow">
              <a:avLst>
                <a:gd name="adj1" fmla="val 50000"/>
                <a:gd name="adj2" fmla="val 49985"/>
              </a:avLst>
            </a:prstGeom>
            <a:solidFill>
              <a:srgbClr val="60b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右箭头 30"/>
            <p:cNvSpPr/>
            <p:nvPr/>
          </p:nvSpPr>
          <p:spPr>
            <a:xfrm>
              <a:off x="1071720" y="3295800"/>
              <a:ext cx="2130480" cy="457200"/>
            </a:xfrm>
            <a:prstGeom prst="rightArrow">
              <a:avLst>
                <a:gd name="adj1" fmla="val 50000"/>
                <a:gd name="adj2" fmla="val 49985"/>
              </a:avLst>
            </a:prstGeom>
            <a:solidFill>
              <a:srgbClr val="60b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右箭头 32"/>
            <p:cNvSpPr/>
            <p:nvPr/>
          </p:nvSpPr>
          <p:spPr>
            <a:xfrm>
              <a:off x="1071720" y="3942000"/>
              <a:ext cx="2130480" cy="458640"/>
            </a:xfrm>
            <a:prstGeom prst="rightArrow">
              <a:avLst>
                <a:gd name="adj1" fmla="val 50000"/>
                <a:gd name="adj2" fmla="val 50022"/>
              </a:avLst>
            </a:prstGeom>
            <a:solidFill>
              <a:srgbClr val="60b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1283040" y="173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3"/>
          <p:cNvSpPr/>
          <p:nvPr/>
        </p:nvSpPr>
        <p:spPr>
          <a:xfrm>
            <a:off x="6499800" y="3219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4"/>
          <p:cNvSpPr/>
          <p:nvPr/>
        </p:nvSpPr>
        <p:spPr>
          <a:xfrm>
            <a:off x="4285080" y="3076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5"/>
          <p:cNvSpPr/>
          <p:nvPr/>
        </p:nvSpPr>
        <p:spPr>
          <a:xfrm>
            <a:off x="1354680" y="4232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4"/>
          <p:cNvSpPr/>
          <p:nvPr/>
        </p:nvSpPr>
        <p:spPr>
          <a:xfrm>
            <a:off x="1357920" y="4703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8"/>
          <p:cNvSpPr/>
          <p:nvPr/>
        </p:nvSpPr>
        <p:spPr>
          <a:xfrm rot="1548600">
            <a:off x="1897200" y="1800360"/>
            <a:ext cx="4243320" cy="3975120"/>
          </a:xfrm>
          <a:custGeom>
            <a:avLst/>
            <a:gdLst/>
            <a:ahLst/>
            <a:rect l="l" t="t" r="r" b="b"/>
            <a:pathLst>
              <a:path w="4243751" h="3974113">
                <a:moveTo>
                  <a:pt x="522585" y="92597"/>
                </a:moveTo>
                <a:cubicBezTo>
                  <a:pt x="982666" y="-130008"/>
                  <a:pt x="1536091" y="62505"/>
                  <a:pt x="1758696" y="522586"/>
                </a:cubicBezTo>
                <a:cubicBezTo>
                  <a:pt x="1817858" y="644863"/>
                  <a:pt x="1847699" y="773734"/>
                  <a:pt x="1850159" y="901257"/>
                </a:cubicBezTo>
                <a:cubicBezTo>
                  <a:pt x="1877491" y="898460"/>
                  <a:pt x="1905430" y="897688"/>
                  <a:pt x="1933795" y="897688"/>
                </a:cubicBezTo>
                <a:lnTo>
                  <a:pt x="2021934" y="901449"/>
                </a:lnTo>
                <a:cubicBezTo>
                  <a:pt x="2134684" y="689354"/>
                  <a:pt x="2313822" y="510460"/>
                  <a:pt x="2546570" y="397848"/>
                </a:cubicBezTo>
                <a:cubicBezTo>
                  <a:pt x="3134238" y="113512"/>
                  <a:pt x="3841139" y="359411"/>
                  <a:pt x="4125475" y="947080"/>
                </a:cubicBezTo>
                <a:cubicBezTo>
                  <a:pt x="4409812" y="1534748"/>
                  <a:pt x="4163912" y="2241649"/>
                  <a:pt x="3576244" y="2525985"/>
                </a:cubicBezTo>
                <a:cubicBezTo>
                  <a:pt x="3448570" y="2587759"/>
                  <a:pt x="3315267" y="2624505"/>
                  <a:pt x="3181748" y="2636742"/>
                </a:cubicBezTo>
                <a:cubicBezTo>
                  <a:pt x="3191287" y="2669754"/>
                  <a:pt x="3196536" y="2706110"/>
                  <a:pt x="3196536" y="2744286"/>
                </a:cubicBezTo>
                <a:cubicBezTo>
                  <a:pt x="3196536" y="2795476"/>
                  <a:pt x="3187099" y="2843392"/>
                  <a:pt x="3169953" y="2884116"/>
                </a:cubicBezTo>
                <a:cubicBezTo>
                  <a:pt x="3231352" y="2937430"/>
                  <a:pt x="3283096" y="3003854"/>
                  <a:pt x="3320749" y="3081675"/>
                </a:cubicBezTo>
                <a:cubicBezTo>
                  <a:pt x="3470263" y="3390692"/>
                  <a:pt x="3340960" y="3762406"/>
                  <a:pt x="3031943" y="3911920"/>
                </a:cubicBezTo>
                <a:cubicBezTo>
                  <a:pt x="2722926" y="4061434"/>
                  <a:pt x="2351212" y="3932131"/>
                  <a:pt x="2201698" y="3623114"/>
                </a:cubicBezTo>
                <a:cubicBezTo>
                  <a:pt x="2052184" y="3314097"/>
                  <a:pt x="2181487" y="2942383"/>
                  <a:pt x="2490504" y="2792869"/>
                </a:cubicBezTo>
                <a:cubicBezTo>
                  <a:pt x="2599551" y="2740107"/>
                  <a:pt x="2716407" y="2722066"/>
                  <a:pt x="2828365" y="2736075"/>
                </a:cubicBezTo>
                <a:cubicBezTo>
                  <a:pt x="2828136" y="2695505"/>
                  <a:pt x="2834863" y="2657163"/>
                  <a:pt x="2847014" y="2623120"/>
                </a:cubicBezTo>
                <a:cubicBezTo>
                  <a:pt x="2489636" y="2558186"/>
                  <a:pt x="2167668" y="2328792"/>
                  <a:pt x="1997338" y="1976754"/>
                </a:cubicBezTo>
                <a:cubicBezTo>
                  <a:pt x="1914174" y="1804870"/>
                  <a:pt x="1876371" y="1622787"/>
                  <a:pt x="1880427" y="1444079"/>
                </a:cubicBezTo>
                <a:cubicBezTo>
                  <a:pt x="1817982" y="1443283"/>
                  <a:pt x="1758085" y="1437386"/>
                  <a:pt x="1702070" y="1427496"/>
                </a:cubicBezTo>
                <a:cubicBezTo>
                  <a:pt x="1614016" y="1565997"/>
                  <a:pt x="1487248" y="1681988"/>
                  <a:pt x="1328707" y="1758696"/>
                </a:cubicBezTo>
                <a:cubicBezTo>
                  <a:pt x="868626" y="1981301"/>
                  <a:pt x="315201" y="1788789"/>
                  <a:pt x="92596" y="1328708"/>
                </a:cubicBezTo>
                <a:cubicBezTo>
                  <a:pt x="-130008" y="868627"/>
                  <a:pt x="62504" y="315202"/>
                  <a:pt x="522585" y="92597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椭圆 8"/>
          <p:cNvGrpSpPr/>
          <p:nvPr/>
        </p:nvGrpSpPr>
        <p:grpSpPr>
          <a:xfrm>
            <a:off x="1763640" y="1153800"/>
            <a:ext cx="5046480" cy="5181120"/>
            <a:chOff x="1763640" y="1153800"/>
            <a:chExt cx="5046480" cy="5181120"/>
          </a:xfrm>
        </p:grpSpPr>
        <p:pic>
          <p:nvPicPr>
            <p:cNvPr id="137" name="椭圆 8" descr=""/>
            <p:cNvPicPr/>
            <p:nvPr/>
          </p:nvPicPr>
          <p:blipFill>
            <a:blip r:embed="rId2"/>
            <a:stretch/>
          </p:blipFill>
          <p:spPr>
            <a:xfrm>
              <a:off x="2946240" y="1335240"/>
              <a:ext cx="3308040" cy="45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 rot="1548600">
              <a:off x="2444400" y="1757520"/>
              <a:ext cx="3684240" cy="39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椭圆 22"/>
          <p:cNvGrpSpPr/>
          <p:nvPr/>
        </p:nvGrpSpPr>
        <p:grpSpPr>
          <a:xfrm>
            <a:off x="3395520" y="4687920"/>
            <a:ext cx="1170000" cy="1170000"/>
            <a:chOff x="3395520" y="4687920"/>
            <a:chExt cx="1170000" cy="1170000"/>
          </a:xfrm>
        </p:grpSpPr>
        <p:pic>
          <p:nvPicPr>
            <p:cNvPr id="140" name="椭圆 22" descr=""/>
            <p:cNvPicPr/>
            <p:nvPr/>
          </p:nvPicPr>
          <p:blipFill>
            <a:blip r:embed="rId3"/>
            <a:stretch/>
          </p:blipFill>
          <p:spPr>
            <a:xfrm>
              <a:off x="3395520" y="468792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1267200">
              <a:off x="3614400" y="4869000"/>
              <a:ext cx="7351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椭圆 19"/>
          <p:cNvGrpSpPr/>
          <p:nvPr/>
        </p:nvGrpSpPr>
        <p:grpSpPr>
          <a:xfrm>
            <a:off x="2505240" y="1407960"/>
            <a:ext cx="1755720" cy="1756080"/>
            <a:chOff x="2505240" y="1407960"/>
            <a:chExt cx="1755720" cy="1756080"/>
          </a:xfrm>
        </p:grpSpPr>
        <p:pic>
          <p:nvPicPr>
            <p:cNvPr id="143" name="椭圆 19" descr=""/>
            <p:cNvPicPr/>
            <p:nvPr/>
          </p:nvPicPr>
          <p:blipFill>
            <a:blip r:embed="rId4"/>
            <a:stretch/>
          </p:blipFill>
          <p:spPr>
            <a:xfrm>
              <a:off x="2505240" y="1407960"/>
              <a:ext cx="175572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 rot="1267200">
              <a:off x="2814120" y="1674720"/>
              <a:ext cx="114804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椭圆 16"/>
          <p:cNvGrpSpPr/>
          <p:nvPr/>
        </p:nvGrpSpPr>
        <p:grpSpPr>
          <a:xfrm>
            <a:off x="3975120" y="2610000"/>
            <a:ext cx="2193840" cy="2193840"/>
            <a:chOff x="3975120" y="2610000"/>
            <a:chExt cx="2193840" cy="2193840"/>
          </a:xfrm>
        </p:grpSpPr>
        <p:pic>
          <p:nvPicPr>
            <p:cNvPr id="146" name="椭圆 16" descr=""/>
            <p:cNvPicPr/>
            <p:nvPr/>
          </p:nvPicPr>
          <p:blipFill>
            <a:blip r:embed="rId5"/>
            <a:stretch/>
          </p:blipFill>
          <p:spPr>
            <a:xfrm>
              <a:off x="3975120" y="2610000"/>
              <a:ext cx="21938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 rot="1267200">
              <a:off x="4347720" y="2940120"/>
              <a:ext cx="1457280" cy="14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任意多边形 25"/>
          <p:cNvSpPr/>
          <p:nvPr/>
        </p:nvSpPr>
        <p:spPr>
          <a:xfrm>
            <a:off x="2514600" y="5048280"/>
            <a:ext cx="849240" cy="291960"/>
          </a:xfrm>
          <a:custGeom>
            <a:avLst/>
            <a:gdLst/>
            <a:ahLst/>
            <a:rect l="l" t="t" r="r" b="b"/>
            <a:pathLst>
              <a:path w="1359877" h="293077">
                <a:moveTo>
                  <a:pt x="1359877" y="293077"/>
                </a:moveTo>
                <a:lnTo>
                  <a:pt x="644769" y="29307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7f7f7f"/>
            </a:solidFill>
            <a:prstDash val="sys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任意多边形 26"/>
          <p:cNvSpPr/>
          <p:nvPr/>
        </p:nvSpPr>
        <p:spPr>
          <a:xfrm>
            <a:off x="1859040" y="2527200"/>
            <a:ext cx="766800" cy="258840"/>
          </a:xfrm>
          <a:custGeom>
            <a:avLst/>
            <a:gdLst/>
            <a:ahLst/>
            <a:rect l="l" t="t" r="r" b="b"/>
            <a:pathLst>
              <a:path w="1219200" h="257908">
                <a:moveTo>
                  <a:pt x="1219200" y="246185"/>
                </a:moveTo>
                <a:lnTo>
                  <a:pt x="633047" y="25790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7f7f7f"/>
            </a:solidFill>
            <a:prstDash val="sys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27"/>
          <p:cNvSpPr/>
          <p:nvPr/>
        </p:nvSpPr>
        <p:spPr>
          <a:xfrm>
            <a:off x="6176880" y="2527200"/>
            <a:ext cx="1032120" cy="773280"/>
          </a:xfrm>
          <a:custGeom>
            <a:avLst/>
            <a:gdLst/>
            <a:ahLst/>
            <a:rect l="l" t="t" r="r" b="b"/>
            <a:pathLst>
              <a:path w="1031631" h="890954">
                <a:moveTo>
                  <a:pt x="0" y="890954"/>
                </a:moveTo>
                <a:lnTo>
                  <a:pt x="762000" y="515816"/>
                </a:lnTo>
                <a:lnTo>
                  <a:pt x="1031631" y="0"/>
                </a:lnTo>
              </a:path>
            </a:pathLst>
          </a:custGeom>
          <a:noFill/>
          <a:ln w="19080">
            <a:solidFill>
              <a:srgbClr val="7f7f7f"/>
            </a:solidFill>
            <a:prstDash val="sys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2"/>
          <p:cNvSpPr/>
          <p:nvPr/>
        </p:nvSpPr>
        <p:spPr>
          <a:xfrm>
            <a:off x="713160" y="220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3"/>
          <p:cNvSpPr/>
          <p:nvPr/>
        </p:nvSpPr>
        <p:spPr>
          <a:xfrm>
            <a:off x="7499880" y="213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任意多边形 10"/>
          <p:cNvSpPr/>
          <p:nvPr/>
        </p:nvSpPr>
        <p:spPr>
          <a:xfrm>
            <a:off x="1603440" y="3451320"/>
            <a:ext cx="1779480" cy="568080"/>
          </a:xfrm>
          <a:custGeom>
            <a:avLst/>
            <a:gdLst/>
            <a:ahLst/>
            <a:rect l="l" t="t" r="r" b="b"/>
            <a:pathLst>
              <a:path w="1779373" h="568411">
                <a:moveTo>
                  <a:pt x="0" y="568411"/>
                </a:moveTo>
                <a:lnTo>
                  <a:pt x="864973" y="0"/>
                </a:lnTo>
                <a:lnTo>
                  <a:pt x="1779373" y="543698"/>
                </a:lnTo>
              </a:path>
            </a:pathLst>
          </a:custGeom>
          <a:noFill/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11"/>
          <p:cNvSpPr/>
          <p:nvPr/>
        </p:nvSpPr>
        <p:spPr>
          <a:xfrm>
            <a:off x="2328840" y="3303720"/>
            <a:ext cx="306360" cy="306360"/>
          </a:xfrm>
          <a:prstGeom prst="ellipse">
            <a:avLst/>
          </a:prstGeom>
          <a:solidFill>
            <a:srgbClr val="d9d9d9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3"/>
          <p:cNvGrpSpPr/>
          <p:nvPr/>
        </p:nvGrpSpPr>
        <p:grpSpPr>
          <a:xfrm>
            <a:off x="2371680" y="3330720"/>
            <a:ext cx="225360" cy="237960"/>
            <a:chOff x="2371680" y="3330720"/>
            <a:chExt cx="225360" cy="237960"/>
          </a:xfrm>
        </p:grpSpPr>
        <p:grpSp>
          <p:nvGrpSpPr>
            <p:cNvPr id="166" name="椭圆 13"/>
            <p:cNvGrpSpPr/>
            <p:nvPr/>
          </p:nvGrpSpPr>
          <p:grpSpPr>
            <a:xfrm>
              <a:off x="2371680" y="3343320"/>
              <a:ext cx="225360" cy="225360"/>
              <a:chOff x="2371680" y="3343320"/>
              <a:chExt cx="225360" cy="225360"/>
            </a:xfrm>
          </p:grpSpPr>
          <p:pic>
            <p:nvPicPr>
              <p:cNvPr id="167" name="椭圆 13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2371680" y="334296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 rot="1266600">
                <a:off x="2407680" y="3381480"/>
                <a:ext cx="1472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椭圆 14"/>
            <p:cNvSpPr/>
            <p:nvPr/>
          </p:nvSpPr>
          <p:spPr>
            <a:xfrm rot="21390000">
              <a:off x="2419920" y="3518640"/>
              <a:ext cx="126360" cy="43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15"/>
            <p:cNvSpPr/>
            <p:nvPr/>
          </p:nvSpPr>
          <p:spPr>
            <a:xfrm rot="2179200">
              <a:off x="2436480" y="3358440"/>
              <a:ext cx="117360" cy="68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组合 51" descr=""/>
          <p:cNvPicPr/>
          <p:nvPr/>
        </p:nvPicPr>
        <p:blipFill>
          <a:blip r:embed="rId3"/>
          <a:stretch/>
        </p:blipFill>
        <p:spPr>
          <a:xfrm>
            <a:off x="1152360" y="3943440"/>
            <a:ext cx="2681280" cy="2066760"/>
          </a:xfrm>
          <a:prstGeom prst="rect">
            <a:avLst/>
          </a:prstGeom>
          <a:ln w="0">
            <a:noFill/>
          </a:ln>
        </p:spPr>
      </p:pic>
      <p:sp>
        <p:nvSpPr>
          <p:cNvPr id="172" name="任意多边形 19"/>
          <p:cNvSpPr/>
          <p:nvPr/>
        </p:nvSpPr>
        <p:spPr>
          <a:xfrm>
            <a:off x="3763800" y="1903320"/>
            <a:ext cx="1779840" cy="568440"/>
          </a:xfrm>
          <a:custGeom>
            <a:avLst/>
            <a:gdLst/>
            <a:ahLst/>
            <a:rect l="l" t="t" r="r" b="b"/>
            <a:pathLst>
              <a:path w="1779373" h="568411">
                <a:moveTo>
                  <a:pt x="0" y="568411"/>
                </a:moveTo>
                <a:lnTo>
                  <a:pt x="864973" y="0"/>
                </a:lnTo>
                <a:lnTo>
                  <a:pt x="1779373" y="543698"/>
                </a:lnTo>
              </a:path>
            </a:pathLst>
          </a:custGeom>
          <a:noFill/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24"/>
          <p:cNvGrpSpPr/>
          <p:nvPr/>
        </p:nvGrpSpPr>
        <p:grpSpPr>
          <a:xfrm>
            <a:off x="4489560" y="1755720"/>
            <a:ext cx="306360" cy="306360"/>
            <a:chOff x="4489560" y="1755720"/>
            <a:chExt cx="306360" cy="306360"/>
          </a:xfrm>
        </p:grpSpPr>
        <p:sp>
          <p:nvSpPr>
            <p:cNvPr id="174" name="椭圆 21"/>
            <p:cNvSpPr/>
            <p:nvPr/>
          </p:nvSpPr>
          <p:spPr>
            <a:xfrm>
              <a:off x="4489560" y="1755720"/>
              <a:ext cx="306360" cy="30636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组合 36"/>
            <p:cNvGrpSpPr/>
            <p:nvPr/>
          </p:nvGrpSpPr>
          <p:grpSpPr>
            <a:xfrm>
              <a:off x="4532040" y="1784160"/>
              <a:ext cx="225360" cy="235800"/>
              <a:chOff x="4532040" y="1784160"/>
              <a:chExt cx="225360" cy="235800"/>
            </a:xfrm>
          </p:grpSpPr>
          <p:grpSp>
            <p:nvGrpSpPr>
              <p:cNvPr id="176" name="椭圆 23"/>
              <p:cNvGrpSpPr/>
              <p:nvPr/>
            </p:nvGrpSpPr>
            <p:grpSpPr>
              <a:xfrm>
                <a:off x="4532040" y="1794600"/>
                <a:ext cx="225360" cy="225360"/>
                <a:chOff x="4532040" y="1794600"/>
                <a:chExt cx="225360" cy="225360"/>
              </a:xfrm>
            </p:grpSpPr>
            <p:pic>
              <p:nvPicPr>
                <p:cNvPr id="177" name="椭圆 23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4532040" y="1794240"/>
                  <a:ext cx="225360" cy="22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" name=""/>
                <p:cNvSpPr/>
                <p:nvPr/>
              </p:nvSpPr>
              <p:spPr>
                <a:xfrm rot="1266600">
                  <a:off x="4570200" y="1832400"/>
                  <a:ext cx="147240" cy="14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椭圆 24"/>
              <p:cNvSpPr/>
              <p:nvPr/>
            </p:nvSpPr>
            <p:spPr>
              <a:xfrm rot="21390000">
                <a:off x="4582440" y="1970280"/>
                <a:ext cx="12636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5294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椭圆 25"/>
              <p:cNvSpPr/>
              <p:nvPr/>
            </p:nvSpPr>
            <p:spPr>
              <a:xfrm rot="2179200">
                <a:off x="4600440" y="1811880"/>
                <a:ext cx="117360" cy="687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矩形 26"/>
          <p:cNvSpPr/>
          <p:nvPr/>
        </p:nvSpPr>
        <p:spPr>
          <a:xfrm>
            <a:off x="3375000" y="2421000"/>
            <a:ext cx="2560680" cy="1941480"/>
          </a:xfrm>
          <a:prstGeom prst="rect">
            <a:avLst/>
          </a:prstGeom>
          <a:solidFill>
            <a:srgbClr val="60b0ce"/>
          </a:solidFill>
          <a:ln w="0">
            <a:noFill/>
          </a:ln>
          <a:effectLst>
            <a:outerShdw dist="38160" dir="5400000" blurRad="0" rotWithShape="0">
              <a:srgbClr val="000000">
                <a:alpha val="5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矩形 27"/>
          <p:cNvGrpSpPr/>
          <p:nvPr/>
        </p:nvGrpSpPr>
        <p:grpSpPr>
          <a:xfrm>
            <a:off x="3462480" y="2505240"/>
            <a:ext cx="2408040" cy="1774800"/>
            <a:chOff x="3462480" y="2505240"/>
            <a:chExt cx="2408040" cy="1774800"/>
          </a:xfrm>
        </p:grpSpPr>
        <p:pic>
          <p:nvPicPr>
            <p:cNvPr id="183" name="矩形 27" descr=""/>
            <p:cNvPicPr/>
            <p:nvPr/>
          </p:nvPicPr>
          <p:blipFill>
            <a:blip r:embed="rId5"/>
            <a:stretch/>
          </p:blipFill>
          <p:spPr>
            <a:xfrm>
              <a:off x="3462480" y="2505240"/>
              <a:ext cx="2408040" cy="17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471840" y="2513160"/>
              <a:ext cx="2394000" cy="17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任意多边形 28"/>
          <p:cNvSpPr/>
          <p:nvPr/>
        </p:nvSpPr>
        <p:spPr>
          <a:xfrm>
            <a:off x="5904000" y="3506760"/>
            <a:ext cx="1779480" cy="568440"/>
          </a:xfrm>
          <a:custGeom>
            <a:avLst/>
            <a:gdLst/>
            <a:ahLst/>
            <a:rect l="l" t="t" r="r" b="b"/>
            <a:pathLst>
              <a:path w="1779373" h="568411">
                <a:moveTo>
                  <a:pt x="0" y="568411"/>
                </a:moveTo>
                <a:lnTo>
                  <a:pt x="864973" y="0"/>
                </a:lnTo>
                <a:lnTo>
                  <a:pt x="1779373" y="543698"/>
                </a:lnTo>
              </a:path>
            </a:pathLst>
          </a:custGeom>
          <a:noFill/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29"/>
          <p:cNvSpPr/>
          <p:nvPr/>
        </p:nvSpPr>
        <p:spPr>
          <a:xfrm>
            <a:off x="6629400" y="3359160"/>
            <a:ext cx="306360" cy="306360"/>
          </a:xfrm>
          <a:prstGeom prst="ellipse">
            <a:avLst/>
          </a:prstGeom>
          <a:solidFill>
            <a:srgbClr val="d9d9d9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50"/>
          <p:cNvGrpSpPr/>
          <p:nvPr/>
        </p:nvGrpSpPr>
        <p:grpSpPr>
          <a:xfrm>
            <a:off x="6672240" y="3386520"/>
            <a:ext cx="225360" cy="237600"/>
            <a:chOff x="6672240" y="3386520"/>
            <a:chExt cx="225360" cy="237600"/>
          </a:xfrm>
        </p:grpSpPr>
        <p:grpSp>
          <p:nvGrpSpPr>
            <p:cNvPr id="188" name="椭圆 31"/>
            <p:cNvGrpSpPr/>
            <p:nvPr/>
          </p:nvGrpSpPr>
          <p:grpSpPr>
            <a:xfrm>
              <a:off x="6672240" y="3398760"/>
              <a:ext cx="225360" cy="225360"/>
              <a:chOff x="6672240" y="3398760"/>
              <a:chExt cx="225360" cy="225360"/>
            </a:xfrm>
          </p:grpSpPr>
          <p:pic>
            <p:nvPicPr>
              <p:cNvPr id="189" name="椭圆 31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6672240" y="339840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1266600">
                <a:off x="6710760" y="3437640"/>
                <a:ext cx="1472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椭圆 32"/>
            <p:cNvSpPr/>
            <p:nvPr/>
          </p:nvSpPr>
          <p:spPr>
            <a:xfrm rot="21390000">
              <a:off x="6723000" y="3574440"/>
              <a:ext cx="126360" cy="43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33"/>
            <p:cNvSpPr/>
            <p:nvPr/>
          </p:nvSpPr>
          <p:spPr>
            <a:xfrm rot="2179200">
              <a:off x="6739200" y="3414240"/>
              <a:ext cx="117360" cy="68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34"/>
          <p:cNvSpPr/>
          <p:nvPr/>
        </p:nvSpPr>
        <p:spPr>
          <a:xfrm>
            <a:off x="2206800" y="2513160"/>
            <a:ext cx="55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6a6a6"/>
                </a:solidFill>
                <a:latin typeface="微软雅黑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5"/>
          <p:cNvSpPr/>
          <p:nvPr/>
        </p:nvSpPr>
        <p:spPr>
          <a:xfrm>
            <a:off x="6491160" y="2513160"/>
            <a:ext cx="5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6a6a6"/>
                </a:solidFill>
                <a:latin typeface="微软雅黑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组合 52" descr=""/>
          <p:cNvPicPr/>
          <p:nvPr/>
        </p:nvPicPr>
        <p:blipFill>
          <a:blip r:embed="rId7"/>
          <a:stretch/>
        </p:blipFill>
        <p:spPr>
          <a:xfrm>
            <a:off x="5516640" y="4035600"/>
            <a:ext cx="2676600" cy="2060280"/>
          </a:xfrm>
          <a:prstGeom prst="rect">
            <a:avLst/>
          </a:prstGeom>
          <a:ln w="0">
            <a:noFill/>
          </a:ln>
        </p:spPr>
      </p:pic>
      <p:sp>
        <p:nvSpPr>
          <p:cNvPr id="196" name="TextBox 39"/>
          <p:cNvSpPr/>
          <p:nvPr/>
        </p:nvSpPr>
        <p:spPr>
          <a:xfrm>
            <a:off x="4379760" y="1112760"/>
            <a:ext cx="5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6a6a6"/>
                </a:solidFill>
                <a:latin typeface="微软雅黑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4215240" y="3184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3"/>
          <p:cNvSpPr/>
          <p:nvPr/>
        </p:nvSpPr>
        <p:spPr>
          <a:xfrm>
            <a:off x="6429960" y="482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4"/>
          <p:cNvSpPr/>
          <p:nvPr/>
        </p:nvSpPr>
        <p:spPr>
          <a:xfrm>
            <a:off x="1929240" y="482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六边形 55"/>
          <p:cNvSpPr/>
          <p:nvPr/>
        </p:nvSpPr>
        <p:spPr>
          <a:xfrm rot="1800000">
            <a:off x="2696760" y="1645920"/>
            <a:ext cx="3733920" cy="3219480"/>
          </a:xfrm>
          <a:prstGeom prst="hexagon">
            <a:avLst>
              <a:gd name="adj" fmla="val 28662"/>
              <a:gd name="vf" fmla="val 115470"/>
            </a:avLst>
          </a:prstGeom>
          <a:noFill/>
          <a:ln w="25560">
            <a:solidFill>
              <a:srgbClr val="477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组合 4" descr=""/>
          <p:cNvPicPr/>
          <p:nvPr/>
        </p:nvPicPr>
        <p:blipFill>
          <a:blip r:embed="rId2"/>
          <a:stretch/>
        </p:blipFill>
        <p:spPr>
          <a:xfrm>
            <a:off x="3176640" y="4005360"/>
            <a:ext cx="1146240" cy="1322280"/>
          </a:xfrm>
          <a:prstGeom prst="rect">
            <a:avLst/>
          </a:prstGeom>
          <a:ln w="0">
            <a:noFill/>
          </a:ln>
        </p:spPr>
      </p:pic>
      <p:pic>
        <p:nvPicPr>
          <p:cNvPr id="207" name="组合 59" descr=""/>
          <p:cNvPicPr/>
          <p:nvPr/>
        </p:nvPicPr>
        <p:blipFill>
          <a:blip r:embed="rId3"/>
          <a:stretch/>
        </p:blipFill>
        <p:spPr>
          <a:xfrm>
            <a:off x="5595840" y="2590920"/>
            <a:ext cx="1146240" cy="1322280"/>
          </a:xfrm>
          <a:prstGeom prst="rect">
            <a:avLst/>
          </a:prstGeom>
          <a:ln w="0">
            <a:noFill/>
          </a:ln>
        </p:spPr>
      </p:pic>
      <p:pic>
        <p:nvPicPr>
          <p:cNvPr id="208" name="组合 5" descr=""/>
          <p:cNvPicPr/>
          <p:nvPr/>
        </p:nvPicPr>
        <p:blipFill>
          <a:blip r:embed="rId4"/>
          <a:stretch/>
        </p:blipFill>
        <p:spPr>
          <a:xfrm>
            <a:off x="2365200" y="2590920"/>
            <a:ext cx="1152720" cy="1322280"/>
          </a:xfrm>
          <a:prstGeom prst="rect">
            <a:avLst/>
          </a:prstGeom>
          <a:ln w="0">
            <a:noFill/>
          </a:ln>
        </p:spPr>
      </p:pic>
      <p:pic>
        <p:nvPicPr>
          <p:cNvPr id="209" name="组合 1" descr=""/>
          <p:cNvPicPr/>
          <p:nvPr/>
        </p:nvPicPr>
        <p:blipFill>
          <a:blip r:embed="rId5"/>
          <a:stretch/>
        </p:blipFill>
        <p:spPr>
          <a:xfrm>
            <a:off x="4784760" y="1195560"/>
            <a:ext cx="1152360" cy="1322280"/>
          </a:xfrm>
          <a:prstGeom prst="rect">
            <a:avLst/>
          </a:prstGeom>
          <a:ln w="0">
            <a:noFill/>
          </a:ln>
        </p:spPr>
      </p:pic>
      <p:pic>
        <p:nvPicPr>
          <p:cNvPr id="210" name="组合 3" descr=""/>
          <p:cNvPicPr/>
          <p:nvPr/>
        </p:nvPicPr>
        <p:blipFill>
          <a:blip r:embed="rId6"/>
          <a:stretch/>
        </p:blipFill>
        <p:spPr>
          <a:xfrm>
            <a:off x="4784760" y="4005360"/>
            <a:ext cx="1152360" cy="1322280"/>
          </a:xfrm>
          <a:prstGeom prst="rect">
            <a:avLst/>
          </a:prstGeom>
          <a:ln w="0">
            <a:noFill/>
          </a:ln>
        </p:spPr>
      </p:pic>
      <p:pic>
        <p:nvPicPr>
          <p:cNvPr id="211" name="组合 6" descr=""/>
          <p:cNvPicPr/>
          <p:nvPr/>
        </p:nvPicPr>
        <p:blipFill>
          <a:blip r:embed="rId7"/>
          <a:stretch/>
        </p:blipFill>
        <p:spPr>
          <a:xfrm>
            <a:off x="3176640" y="1195560"/>
            <a:ext cx="1146240" cy="1322280"/>
          </a:xfrm>
          <a:prstGeom prst="rect">
            <a:avLst/>
          </a:prstGeom>
          <a:ln w="0">
            <a:noFill/>
          </a:ln>
        </p:spPr>
      </p:pic>
      <p:sp>
        <p:nvSpPr>
          <p:cNvPr id="212" name="矩形 12"/>
          <p:cNvSpPr/>
          <p:nvPr/>
        </p:nvSpPr>
        <p:spPr>
          <a:xfrm>
            <a:off x="326736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3"/>
          <p:cNvSpPr/>
          <p:nvPr/>
        </p:nvSpPr>
        <p:spPr>
          <a:xfrm>
            <a:off x="55551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4"/>
          <p:cNvSpPr/>
          <p:nvPr/>
        </p:nvSpPr>
        <p:spPr>
          <a:xfrm>
            <a:off x="33390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右箭头 2053"/>
          <p:cNvSpPr/>
          <p:nvPr/>
        </p:nvSpPr>
        <p:spPr>
          <a:xfrm>
            <a:off x="3274920" y="2857680"/>
            <a:ext cx="547920" cy="658800"/>
          </a:xfrm>
          <a:custGeom>
            <a:avLst/>
            <a:gdLst/>
            <a:ahLst/>
            <a:rect l="l" t="t" r="r" b="b"/>
            <a:pathLst>
              <a:path w="847933" h="1020147">
                <a:moveTo>
                  <a:pt x="0" y="0"/>
                </a:moveTo>
                <a:lnTo>
                  <a:pt x="561714" y="312822"/>
                </a:lnTo>
                <a:lnTo>
                  <a:pt x="561714" y="169712"/>
                </a:lnTo>
                <a:lnTo>
                  <a:pt x="847933" y="455931"/>
                </a:lnTo>
                <a:lnTo>
                  <a:pt x="561714" y="742150"/>
                </a:lnTo>
                <a:lnTo>
                  <a:pt x="561714" y="599041"/>
                </a:lnTo>
                <a:lnTo>
                  <a:pt x="84221" y="1020147"/>
                </a:lnTo>
                <a:lnTo>
                  <a:pt x="0" y="0"/>
                </a:lnTo>
                <a:close/>
              </a:path>
            </a:pathLst>
          </a:custGeom>
          <a:solidFill>
            <a:srgbClr val="60b0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圆角矩形 11"/>
          <p:cNvGrpSpPr/>
          <p:nvPr/>
        </p:nvGrpSpPr>
        <p:grpSpPr>
          <a:xfrm>
            <a:off x="1536840" y="1536840"/>
            <a:ext cx="1882800" cy="3376440"/>
            <a:chOff x="1536840" y="1536840"/>
            <a:chExt cx="1882800" cy="3376440"/>
          </a:xfrm>
        </p:grpSpPr>
        <p:pic>
          <p:nvPicPr>
            <p:cNvPr id="222" name="圆角矩形 11" descr=""/>
            <p:cNvPicPr/>
            <p:nvPr/>
          </p:nvPicPr>
          <p:blipFill>
            <a:blip r:embed="rId2"/>
            <a:stretch/>
          </p:blipFill>
          <p:spPr>
            <a:xfrm>
              <a:off x="1536840" y="1536840"/>
              <a:ext cx="1882800" cy="33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rot="5400000">
              <a:off x="1091160" y="2583360"/>
              <a:ext cx="27795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右箭头 2053"/>
          <p:cNvSpPr/>
          <p:nvPr/>
        </p:nvSpPr>
        <p:spPr>
          <a:xfrm>
            <a:off x="5560920" y="2857680"/>
            <a:ext cx="547920" cy="658800"/>
          </a:xfrm>
          <a:custGeom>
            <a:avLst/>
            <a:gdLst/>
            <a:ahLst/>
            <a:rect l="l" t="t" r="r" b="b"/>
            <a:pathLst>
              <a:path w="847933" h="1020147">
                <a:moveTo>
                  <a:pt x="0" y="0"/>
                </a:moveTo>
                <a:lnTo>
                  <a:pt x="561714" y="312822"/>
                </a:lnTo>
                <a:lnTo>
                  <a:pt x="561714" y="169712"/>
                </a:lnTo>
                <a:lnTo>
                  <a:pt x="847933" y="455931"/>
                </a:lnTo>
                <a:lnTo>
                  <a:pt x="561714" y="742150"/>
                </a:lnTo>
                <a:lnTo>
                  <a:pt x="561714" y="599041"/>
                </a:lnTo>
                <a:lnTo>
                  <a:pt x="84221" y="1020147"/>
                </a:lnTo>
                <a:lnTo>
                  <a:pt x="0" y="0"/>
                </a:lnTo>
                <a:close/>
              </a:path>
            </a:pathLst>
          </a:custGeom>
          <a:solidFill>
            <a:srgbClr val="60b0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圆角矩形 13"/>
          <p:cNvGrpSpPr/>
          <p:nvPr/>
        </p:nvGrpSpPr>
        <p:grpSpPr>
          <a:xfrm>
            <a:off x="3822840" y="1536840"/>
            <a:ext cx="1882800" cy="3376440"/>
            <a:chOff x="3822840" y="1536840"/>
            <a:chExt cx="1882800" cy="3376440"/>
          </a:xfrm>
        </p:grpSpPr>
        <p:pic>
          <p:nvPicPr>
            <p:cNvPr id="226" name="圆角矩形 13" descr=""/>
            <p:cNvPicPr/>
            <p:nvPr/>
          </p:nvPicPr>
          <p:blipFill>
            <a:blip r:embed="rId3"/>
            <a:stretch/>
          </p:blipFill>
          <p:spPr>
            <a:xfrm>
              <a:off x="3822840" y="1536840"/>
              <a:ext cx="1882800" cy="33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 rot="5400000">
              <a:off x="3377160" y="2583360"/>
              <a:ext cx="27795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圆角矩形 14"/>
          <p:cNvGrpSpPr/>
          <p:nvPr/>
        </p:nvGrpSpPr>
        <p:grpSpPr>
          <a:xfrm>
            <a:off x="6108840" y="1536840"/>
            <a:ext cx="1882800" cy="3376440"/>
            <a:chOff x="6108840" y="1536840"/>
            <a:chExt cx="1882800" cy="3376440"/>
          </a:xfrm>
        </p:grpSpPr>
        <p:pic>
          <p:nvPicPr>
            <p:cNvPr id="229" name="圆角矩形 14" descr=""/>
            <p:cNvPicPr/>
            <p:nvPr/>
          </p:nvPicPr>
          <p:blipFill>
            <a:blip r:embed="rId4"/>
            <a:stretch/>
          </p:blipFill>
          <p:spPr>
            <a:xfrm>
              <a:off x="6108840" y="1536840"/>
              <a:ext cx="1882800" cy="33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5400000">
              <a:off x="5663160" y="2583360"/>
              <a:ext cx="27795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矩形 12"/>
          <p:cNvSpPr/>
          <p:nvPr/>
        </p:nvSpPr>
        <p:spPr>
          <a:xfrm>
            <a:off x="20307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3"/>
          <p:cNvSpPr/>
          <p:nvPr/>
        </p:nvSpPr>
        <p:spPr>
          <a:xfrm>
            <a:off x="6602760" y="305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4"/>
          <p:cNvSpPr/>
          <p:nvPr/>
        </p:nvSpPr>
        <p:spPr>
          <a:xfrm>
            <a:off x="43153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clf2015</cp:lastModifiedBy>
  <dcterms:modified xsi:type="dcterms:W3CDTF">2015-10-10T06:30:42Z</dcterms:modified>
  <cp:revision>295</cp:revision>
  <dc:subject/>
  <dc:title>幻灯片 1</dc:title>
</cp:coreProperties>
</file>