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682-7671-4F3E-B51C-FFB310A0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61C-1B35-4D3D-A4CA-E5C4AE11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AC307-7F6E-45C0-B3C4-2B67C3F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89FA7-E677-4FE4-91E4-157484F3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63B73-2D37-4B0D-8937-950D667C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792A1-3563-4DCC-B168-C1BD07E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9DB54-1359-43A8-BE51-010C055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B936E-7615-4077-8F86-52B5C85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A4FE6-083E-4D8E-ABBE-B2DD5DA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7A72F-EE77-4831-951B-55426C8B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A89E3-BF36-44EC-AA7B-2FE7D51D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54A32-5F41-4382-AF35-2CA52FAB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8A3-E24F-45E4-9554-BFE16916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DED93-7358-4D38-95D9-76B2DD27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93518-276E-4914-8B38-700F1CA4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B8E93-A2ED-4CE3-B19B-677A501B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2CA36-DD3C-4285-8424-C4088B7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1D501-2CD0-4AB2-99A9-CEEE88B7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4C78B-A239-43DC-9D80-CBDD33E1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AE91A-8DF7-487B-969F-3AF92E23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2B018-83D7-4569-8A65-1639D6E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7CE8E-6B62-4D51-B583-B745106F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206BA-45C0-4624-B8CF-765F45E6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676-FD17-44AD-AC54-61D778D5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75A79-5C2B-4750-978A-F1FBA292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BB8E6-27B6-4BFA-AEA0-8ABDA16F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F0512-E641-4BFD-A8CD-EAC01EE3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0DE2C-5228-4005-834A-84A10983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0DFA3-57FA-4B9C-85A9-F6975E7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D5BEA-96BF-4F77-B80B-BA09DD4A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5B4B8-D7DB-4D5F-9081-16FA8B91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C19B6-0017-413B-8A30-45B2AA2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33768-813C-4C64-A6E2-CC97354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9A12-D49D-4C3C-BF22-CAD042C6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CADD-1AD4-422C-9BB5-7A1D5763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1F2DD-430E-4906-BF35-5C753ADB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BCC59-5599-4A14-B5C3-FBF43048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9C517-8B16-4939-AD67-D61CE8A3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4DB91-E6D9-4712-ACDC-69CF2FDA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7CB15-B302-4AE2-BDE7-42AF25F8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BBA7E-4E18-42BE-A2F7-97E0AC85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3EC3F-AFE1-4007-A22F-6901B8DE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B75B5-E062-4625-99AA-8C3C7FC8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C0D04-70BB-4D10-94ED-88F6726A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8C397-8139-4AD7-B5CD-2D33B70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480-B8B5-4AFC-9334-AF5FCEB6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35255-651E-42EE-8C75-E71DCB7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C1A64-EDA1-4165-A44D-AB5C878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6A894-B292-4826-9531-943332F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F1B0B-566B-488D-805C-6B80C84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32CD0-0A5A-496A-9DEF-D8E93FA8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3F0A-B7F9-4C17-B9FB-756126FA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CD01-9B46-4732-9EBE-8997D29D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0DCF-9545-4B5A-9D90-8D68EAF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C62B-89F4-4E65-AFFF-C9F70EC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1CE3-9D2A-4007-A347-8CCB3E3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7E9-3D4E-4237-A14C-9DCECDDF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760A-D2D5-4261-87B6-D99E8D58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778A-5CFE-45E4-A57A-9C0613E5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FFF4-357B-471D-ACF9-6298FC22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693-71C9-45C7-ACBD-C422C16A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DCEA-9D00-4FC4-BAFD-63CEEB6B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B7CC-70CF-4AD8-AAEF-F8B932F5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3DDC-5944-4A3A-86AD-1883EAE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FCE3-94E7-4F6C-9A7E-F280DF76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7800-AA93-4DF5-AE7B-E6F5551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9297-D37F-4D4D-B9D4-682523F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B31-11CA-4481-88DC-4FF2F6FF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8DE4-18AD-4FF6-BBA5-E1FBF56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D3D6-3E46-4545-B4BC-749EC2A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936E-6C05-4804-918E-B398D92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2588-43D0-41C7-B641-D76DC10E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8C9B-E3E5-4E25-BD3E-22D1AD8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6446-D3B0-4D77-9939-C5EF02F0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C20F-E512-450C-8470-40792BC9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D104-8407-4AD9-9B73-16A5DDDF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573A4-5F92-4960-B5F1-B85CCB48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1D7A-FAB7-43C1-BA2E-D8B01CC3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E9B-8818-4981-9F4C-22BA90F2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484A-F9BD-449A-95DE-F9E4E3C2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A97BE-EFBC-412C-BD9C-BD82B0B0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D6658-5668-41E1-82B0-21A29F57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00AA-7BF7-4E9E-A6B3-4D9E3BC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D4E2-4EEA-4610-B957-68D651B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DEC1-7D31-4B0A-9B65-A239683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B903-C102-4813-808B-CAF58446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ED62-38FF-4327-BAAC-D44C6262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20AD-4D2E-436F-922F-E110784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898B-1159-45FE-8440-43A7FED9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B2D-C3D6-4F13-AAE0-1F9BFB7D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BD61-15FC-41D4-86FD-CA80D4BB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45F2-2C55-4A36-BCB7-C9AFB546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5BAE-A370-448A-8A8E-1F1C2237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0475A-0218-434F-B77D-F2CB3AD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3BC1B-9DFE-4655-BBBE-A54A699B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298D-06F4-42A5-A2AC-A87702B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6C6E-4BD4-4BD4-8ED3-D0E1555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65B9-E929-43F9-A4C9-FAE9D30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FB4A-0F7F-4552-88DE-1D0281C0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33FEA-7D54-4313-BC91-4F4CED45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55B-E04A-4C3A-BFA1-88E91A10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D8E2-ECC2-46A0-8AA7-4F0C0F3F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19D8-F6DF-44F8-A50B-46322575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51C5-73DD-40DE-8886-C0177CF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A54D-4391-4854-8532-67288880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1DE01-3D8C-4244-9715-A8D07492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BA584-1A3E-4E10-AE62-01CF1FE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B97D-C098-493C-A5BE-19D4F1C7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B685-D81B-41B1-92D1-C137496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46C9-093B-465B-A147-D42A7E7D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9F32B-BC39-4230-8290-5E8267B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E5C-7153-4416-B271-87B05C9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7771F-72CC-48FC-B25B-7A709A68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CD31-5A18-4F04-A1DB-57CACE6F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9387E-1EF4-476C-82B1-1B2E1549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280B-41F5-4AF7-9B26-460B30A9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4FD45-6AE2-4FBC-ACDE-1199032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DDD98-AEC6-4B2A-91B8-6DA57BE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94DF-4684-4335-B486-A8CE6C03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6AFC5-CF42-4EEC-8500-40D9BF4B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E17BE-62B2-47FC-A5EA-EAF6576B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1505F-31D0-4B44-A1A1-591D1DB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783-8A9B-43D3-98A4-7183FAAD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ABE0-113D-47F9-A919-C216D029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BA8A-45CE-4468-8214-BA3B0A3F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FC0D-0906-4CA8-B13D-4BCF5720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2D68-F262-4866-BEC9-8FC5E2B7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1B0E6-52EF-4A65-AE69-D73B6599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3A8C-730A-4673-B97C-6B5EE976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0E55-E07D-494E-A215-E81B25C6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C9138-A8D9-4C2F-A3D0-EFB1913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0E029-793A-4D9A-B6E5-240256FB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32933-B647-4F99-9844-143B02C4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60D-016A-4FE8-BB38-CD757415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76352-1EA4-4263-8003-97083928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02780-CFF9-4A5C-A818-2159CCA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C5C0F-C9D7-4813-8FFC-A5FF724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6DE67-46C6-422F-A364-144C3870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FC90C-53C5-4191-9B67-98FE99E0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5BBB-7EFC-4C0F-8612-62DD955D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C221-5850-4E59-90ED-A1315620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9F0CE-B8AC-47CA-9ED1-5B195178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AAD29-D852-4425-A511-97BF138C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47131-F9F6-475F-9B6C-E4ED031B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E144-CC22-4D69-A2E4-10DEE86DB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DF8F-2115-405A-B64D-DDD9AC8FB5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8FE8-63B5-4456-AB79-6D54F25DA6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5106-728C-487F-BEA0-E481CFCAA0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B9E0-9452-4CCE-AD20-5D964AF928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75BD-2095-4063-B5AE-88FB7E7A06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760D-7D0B-4096-841E-C00E7EAE04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1B9A-ABD5-4A94-A0C3-EF97067A16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6963-1EBB-4D86-A4AC-86A9ED9974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4133-8745-4EF9-9D5F-F2A81E7B00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B2BB-B33F-4795-8EAF-394982FA2B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D653-94AA-4921-A696-A0ACFB215A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820800" y="0"/>
            <a:ext cx="72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240" y="1171440"/>
            <a:ext cx="913752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0" y="1355760"/>
            <a:ext cx="9144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6"/>
          <a:stretch/>
        </p:blipFill>
        <p:spPr>
          <a:xfrm>
            <a:off x="3240" y="1171440"/>
            <a:ext cx="9137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4680" y="1136520"/>
            <a:ext cx="9134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312840" y="0"/>
            <a:ext cx="87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-36360" y="912960"/>
            <a:ext cx="91803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0" y="134460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0" y="1390680"/>
            <a:ext cx="9144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4680" y="1317600"/>
            <a:ext cx="913464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1440" y="1062000"/>
            <a:ext cx="9141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03:20Z</dcterms:created>
  <dc:creator>ml</dc:creator>
  <dc:description/>
  <dc:language>en-US</dc:language>
  <cp:lastModifiedBy>User</cp:lastModifiedBy>
  <dcterms:modified xsi:type="dcterms:W3CDTF">2015-08-01T02:14:10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