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413F-9079-4227-A3F7-2D03035E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40B3-5417-42F4-A8CB-5D3794ED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3766-C72C-46B7-BA27-878DF8D3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9678-F262-4131-80ED-E2AF8C7E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148A-04AE-420E-9FAA-F2DF2D7C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7FAB-794B-4B42-99FA-D0FC9D48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57D7-023C-4BBE-86F6-16A38D15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6DEF-7A99-4420-9F5E-8F02B7A4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AB2F-5080-4D19-854D-2E41D7C3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B2AD-2C8F-48BF-B7E8-464F6F89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F637-E3F2-4B0B-9FB5-6CC1DF99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1B3F-A8E7-4816-ABE5-86F74891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B3B1-372A-49C8-B79B-5FD0B9F911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幼儿园主题活动方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炎热的夏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活动前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天气越来越炎热了，妈妈说再过几天就要带我去海边玩了，最近妈妈一直都在张罗着准备呢，并且还给我买了一件漂亮的小泳衣，夏季有太多好玩的娱乐活动了，我渐渐的发现自己已经爱上了这个季节。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过此活动可以让孩子们更多的了解一年四季的变化，还可以增强孩子们各个方面的能力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活动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审美成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采用多种形式表现夏季的常见景物及对夏季的感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感受各种不同风格的音乐，能随着音乐节奏做动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社会成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能与同伴合作设计并印画太阳伞，体验集体作画的乐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积极参与活动，与同伴共同讨论游戏规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创造性成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大胆尝试用色彩、线条、符号等表达自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感受。大胆尝试运用抽象的表达手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活动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智慧成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了解夏天的 主要季节特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了解防暑驱热的常用办法及夏季生活卫生要求，学习照顾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学习用多种感官感知事物的多种特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集体成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在体能游戏中增进动作的灵敏度，提高动作的协调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具有一定的自我保护能力与初步的竞争意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情感成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体验表演、造型活动的乐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学习劳动的人们不怕热、不怕苦，勇于克服困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环境创设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活动室环境创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将幼儿合作设计印画的太阳伞展示到活动室墙面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布置几幅冷暖色绘画作品供幼儿欣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发动家长与幼儿一起运用多种材料如纸板、皱纸、布条等制作拖鞋并在活动室内进行展示，也可作为角色游戏的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心理环境创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为幼儿营造一个师生融洽和同伴友爱的氛围，积极鼓励幼儿大胆表达、讲述自己的想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经常播放轻松、优美的音乐，为幼儿创设一个宽松、和谐的生活、学习环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活动安排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夏天真热（健康、艺术）夏天的雷雨（科学、艺术）水上花园（语言、艺术）美丽的太阳伞（艺术）不怕热的人们做好各项防暑降温工作，确保幼儿将抗度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卫生拍手歌（健康、语言、科学）拖鞋（语言、社会、科学）夏天里的动物（语言、社会、科学）做买卖（语言、社会、科学）莲蓬和藕（语言、科学） 在日常生活中随时提醒幼儿养成良好 的生活卫生习惯。户外活动尽可能选在凉荫下或非太阳直晒的场地上进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冰淇淋（语言、艺术）有趣的西瓜（健康、语言、科学）大草帽（语言、社会）夏装舞会（科学、艺术）开心在夏天（语言、社会、艺术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通过多种方式和途径使幼儿了解并学会一些简单的防暑驱热的办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相关图片展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579132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幼儿园与家长配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请家长配合教育孩子养成良好的生活卫生习惯，减少夏季常见病的发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 建议有条件的家长带孩子参加嬉水、周末度假等有益的活动，增强孩子的体质，开阔孩子视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带孩子参观一次附近的蔬菜水果市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和孩子一起收集各种拖鞋带到幼儿园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引导孩子平时注意观察在炎热的夏季仍从事户外作业的人们及劳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鼓励孩子采用多种方式向邻居、亲戚朋友了解夏天里一些动物的情况。 带着孩子去西湖观赏荷花、荷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结束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夏季里，了解更多的蔬菜及水果，懂得了保护自己皮肤不在太阳光下曝晒，还养成了爱清洁讲卫生的好习惯，要将自己知道的知识与小伙伴们一起分享哦！玩游游儿童网上有很多栏目适合幼儿认知的视频，妈妈们可以跟宝宝一起来学习吧，做个健康、全面发展的宝宝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6-09T01:40:5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