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自定义放映 1" id="0">
      <p:sldLst>
        <p:sld r:id="rId12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34A-23A3-406E-B2A1-CF8D686C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E29-4BD0-4AAD-966D-B647DD73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33F-6C18-4748-907F-6318733E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5D4-BFE9-4450-89EC-E2B344D9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717-F8BB-45D3-BE24-18576767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D96-F7CF-4DFD-AC06-650A3B0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FF0-B31B-4B8A-8833-CDFEEA21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093-B86A-4B28-9233-B541EAD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F22-C405-4CFF-B774-ECB11788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28E-4908-411F-9203-DA502E53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9C3-C667-437C-9AA1-161F1BEA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98F-69E7-4AA1-9C73-575E7562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283B-1B6D-411B-A51D-420B43E545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宋体"/>
              </a:rPr>
              <a:t>我的元旦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M:\快乐元旦\7b622ecb14ad7709c84a74b1d3c0e1fd.jpg"/>
          <p:cNvPicPr/>
          <p:nvPr/>
        </p:nvPicPr>
        <p:blipFill>
          <a:blip r:embed="rId2"/>
          <a:stretch/>
        </p:blipFill>
        <p:spPr>
          <a:xfrm>
            <a:off x="1042920" y="692280"/>
            <a:ext cx="75978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M:\快乐元旦\88ac9077898e87bda7ff7def9c909b33.jpg"/>
          <p:cNvPicPr/>
          <p:nvPr/>
        </p:nvPicPr>
        <p:blipFill>
          <a:blip r:embed="rId2"/>
          <a:stretch/>
        </p:blipFill>
        <p:spPr>
          <a:xfrm>
            <a:off x="324000" y="260280"/>
            <a:ext cx="8650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M:\快乐元旦\173e1140f162ec82c40a0989e04e7487.jpg"/>
          <p:cNvPicPr/>
          <p:nvPr/>
        </p:nvPicPr>
        <p:blipFill>
          <a:blip r:embed="rId2"/>
          <a:stretch/>
        </p:blipFill>
        <p:spPr>
          <a:xfrm>
            <a:off x="4541760" y="3406680"/>
            <a:ext cx="60480" cy="4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M:\快乐元旦\173e1140f162ec82c40a0989e04e7487.jpg"/>
          <p:cNvPicPr/>
          <p:nvPr/>
        </p:nvPicPr>
        <p:blipFill>
          <a:blip r:embed="rId3"/>
          <a:stretch/>
        </p:blipFill>
        <p:spPr>
          <a:xfrm>
            <a:off x="4541760" y="3406680"/>
            <a:ext cx="60480" cy="4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M:\快乐元旦\173e1140f162ec82c40a0989e04e7487.jpg"/>
          <p:cNvPicPr/>
          <p:nvPr/>
        </p:nvPicPr>
        <p:blipFill>
          <a:blip r:embed="rId4"/>
          <a:stretch/>
        </p:blipFill>
        <p:spPr>
          <a:xfrm>
            <a:off x="4541760" y="3406680"/>
            <a:ext cx="60480" cy="4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M:\快乐元旦\558e66cfdcfb728fdf3cc1072129ae45.jpg"/>
          <p:cNvPicPr/>
          <p:nvPr/>
        </p:nvPicPr>
        <p:blipFill>
          <a:blip r:embed="rId5"/>
          <a:stretch/>
        </p:blipFill>
        <p:spPr>
          <a:xfrm>
            <a:off x="-139680" y="189000"/>
            <a:ext cx="9283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M:\快乐元旦\ae2e31519e96699c6d355090b476393f.jpg"/>
          <p:cNvPicPr/>
          <p:nvPr/>
        </p:nvPicPr>
        <p:blipFill>
          <a:blip r:embed="rId2"/>
          <a:stretch/>
        </p:blipFill>
        <p:spPr>
          <a:xfrm>
            <a:off x="324000" y="243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M:\快乐元旦\u=91080097,555395358&amp;fm=23&amp;gp=0.jpg"/>
          <p:cNvPicPr/>
          <p:nvPr/>
        </p:nvPicPr>
        <p:blipFill>
          <a:blip r:embed="rId2"/>
          <a:stretch/>
        </p:blipFill>
        <p:spPr>
          <a:xfrm>
            <a:off x="0" y="57240"/>
            <a:ext cx="92217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M:\快乐元旦\5e3981fbd80befd3821cca90b61b8176.jpeg"/>
          <p:cNvPicPr/>
          <p:nvPr/>
        </p:nvPicPr>
        <p:blipFill>
          <a:blip r:embed="rId2"/>
          <a:stretch/>
        </p:blipFill>
        <p:spPr>
          <a:xfrm>
            <a:off x="190440" y="146160"/>
            <a:ext cx="876312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M:\快乐元旦\4f5478cb557f572f124721c2d5b07501 (1).jpg"/>
          <p:cNvPicPr/>
          <p:nvPr/>
        </p:nvPicPr>
        <p:blipFill>
          <a:blip r:embed="rId2"/>
          <a:stretch/>
        </p:blipFill>
        <p:spPr>
          <a:xfrm>
            <a:off x="250920" y="26028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M:\快乐元旦\6ac793614babf4b1c384bcc26d90b161.jpeg"/>
          <p:cNvPicPr/>
          <p:nvPr/>
        </p:nvPicPr>
        <p:blipFill>
          <a:blip r:embed="rId2"/>
          <a:stretch/>
        </p:blipFill>
        <p:spPr>
          <a:xfrm>
            <a:off x="343080" y="260280"/>
            <a:ext cx="804528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M:\快乐元旦\95c30922ff95f4747551e5a5b3c4b1f5.jpg"/>
          <p:cNvPicPr/>
          <p:nvPr/>
        </p:nvPicPr>
        <p:blipFill>
          <a:blip r:embed="rId2"/>
          <a:stretch/>
        </p:blipFill>
        <p:spPr>
          <a:xfrm>
            <a:off x="468360" y="404640"/>
            <a:ext cx="770400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M:\快乐元旦\7ef6f73a1130b485e8ba0d955597f679.jpg"/>
          <p:cNvPicPr/>
          <p:nvPr/>
        </p:nvPicPr>
        <p:blipFill>
          <a:blip r:embed="rId2"/>
          <a:stretch/>
        </p:blipFill>
        <p:spPr>
          <a:xfrm>
            <a:off x="0" y="620640"/>
            <a:ext cx="8574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快乐元旦\1c67cc10b242453e98d7ff63e719ddc7.jpg"/>
          <p:cNvPicPr/>
          <p:nvPr/>
        </p:nvPicPr>
        <p:blipFill>
          <a:blip r:embed="rId2"/>
          <a:stretch/>
        </p:blipFill>
        <p:spPr>
          <a:xfrm>
            <a:off x="-973080" y="189000"/>
            <a:ext cx="1065852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M:\快乐元旦\4ca6b5bd543a2e874f09866fa99fd8c1.jpeg"/>
          <p:cNvPicPr/>
          <p:nvPr/>
        </p:nvPicPr>
        <p:blipFill>
          <a:blip r:embed="rId2"/>
          <a:stretch/>
        </p:blipFill>
        <p:spPr>
          <a:xfrm>
            <a:off x="826920" y="404640"/>
            <a:ext cx="741708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6:13:32Z</dcterms:created>
  <dc:creator>User</dc:creator>
  <dc:description/>
  <dc:language>en-US</dc:language>
  <cp:lastModifiedBy>User</cp:lastModifiedBy>
  <dcterms:modified xsi:type="dcterms:W3CDTF">2015-07-03T00:59:57Z</dcterms:modified>
  <cp:revision>6</cp:revision>
  <dc:subject/>
  <dc:title>我的元旦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