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80D-86EF-4B92-A143-4265AA0B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A58-5789-4A53-8AF8-45EE379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CC4-A207-44BD-8778-601E4919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BCD-F168-48A8-B55A-33957415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F251-2C13-4FF5-938B-5ABC8747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0EA-C2A4-4990-8534-DC777B6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3F28-3787-48C5-A406-9C318E9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6297-F529-4FC3-85C8-E762CC0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757A-B9BF-44E5-B5C2-B846813E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53E-1593-4971-A85C-678673C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3A4-F2CB-4228-A2C7-7B9861D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590-BBAF-44F7-AF48-23E6B57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569A-93AF-4108-B7D3-C35FCFB2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511F-E9A9-4DF9-83DD-815A125D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9B53-1852-4D1F-BF23-C41444B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B185-AF45-4D63-BE7E-781C5D45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ADC7-65F2-4F66-A337-C0694C37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2E8-45E1-4E8C-A2C4-45AA88B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810-8AAE-42E1-B033-788ACF98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0A7-5DC4-4EE4-AA36-A7B6C8AB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501-58BC-458B-A805-991AA148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79B-EB56-4573-A6B8-433D092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982-E30C-4C0F-B822-7B2F199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F6A-F4E6-4ED0-8FE6-63393A7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CEA-E2D2-415D-9BAB-D0710954713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33BD-1BC7-416C-9064-3C4F4CFE247F}" type="slidenum">
              <a:rPr b="0" lang="zh-CN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71.xml"/><Relationship Id="rId3" Type="http://schemas.openxmlformats.org/officeDocument/2006/relationships/slide" Target="slide72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88000" y="4508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ahoma"/>
                <a:ea typeface="华文行楷"/>
              </a:rPr>
              <a:t>讲课：董雪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197000"/>
            <a:ext cx="60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Tahoma"/>
                <a:ea typeface="华文行楷"/>
              </a:rPr>
              <a:t>原油储存工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57400" y="68580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库区平面布置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391160" cy="4267080"/>
          </a:xfrm>
          <a:prstGeom prst="rect">
            <a:avLst/>
          </a:prstGeom>
          <a:noFill/>
          <a:ln cap="sq"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600200"/>
            <a:ext cx="3809880" cy="2286000"/>
          </a:xfrm>
          <a:prstGeom prst="rect">
            <a:avLst/>
          </a:prstGeom>
          <a:solidFill>
            <a:srgbClr val="c4709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191120"/>
            <a:ext cx="3809880" cy="685800"/>
          </a:xfrm>
          <a:prstGeom prst="rect">
            <a:avLst/>
          </a:prstGeom>
          <a:solidFill>
            <a:srgbClr val="c4709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60376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46560"/>
            <a:ext cx="99072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288"/>
                </a:moveTo>
                <a:cubicBezTo>
                  <a:pt x="68" y="260"/>
                  <a:pt x="136" y="232"/>
                  <a:pt x="192" y="192"/>
                </a:cubicBezTo>
                <a:cubicBezTo>
                  <a:pt x="248" y="152"/>
                  <a:pt x="264" y="80"/>
                  <a:pt x="336" y="48"/>
                </a:cubicBezTo>
                <a:cubicBezTo>
                  <a:pt x="408" y="16"/>
                  <a:pt x="576" y="8"/>
                  <a:pt x="624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14656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070600"/>
            <a:ext cx="228600" cy="152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5514840"/>
            <a:ext cx="228600" cy="152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600200"/>
            <a:ext cx="1828800" cy="1905120"/>
          </a:xfrm>
          <a:prstGeom prst="rect">
            <a:avLst/>
          </a:prstGeom>
          <a:solidFill>
            <a:srgbClr val="c4709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733920"/>
            <a:ext cx="1828800" cy="1143000"/>
          </a:xfrm>
          <a:prstGeom prst="rect">
            <a:avLst/>
          </a:prstGeom>
          <a:solidFill>
            <a:srgbClr val="c4709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1828800"/>
            <a:ext cx="1066680" cy="1676520"/>
          </a:xfrm>
          <a:prstGeom prst="rect">
            <a:avLst/>
          </a:prstGeom>
          <a:solidFill>
            <a:srgbClr val="c4709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733920"/>
            <a:ext cx="1067040" cy="838080"/>
          </a:xfrm>
          <a:prstGeom prst="rect">
            <a:avLst/>
          </a:prstGeom>
          <a:solidFill>
            <a:srgbClr val="c4709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21337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公路装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作业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油罐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行政管理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铁路装卸作业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1905120"/>
            <a:ext cx="99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桶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消防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辅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、油罐选用的一般原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每种油品至少选两个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量选用容量较大的储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整个油库来说，选用储罐的规格应尽可能统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204240" y="114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容量的确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4945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（二）储存天数法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油品的设计容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油品的年周转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油品的储存天数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油品储存温度下的密度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/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油罐的利用系数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油品的年操作天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895480" y="2514600"/>
                <a:ext cx="18162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η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128280" y="114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容量的确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三）统计预测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月的月末剩余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Δ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油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销售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剩余累计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∑ Δ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油库容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=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s ma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s m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：油库在储存了最大销售量的同时，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储存最大进油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128280" y="114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容量的确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21337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独立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企业附属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29528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80988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民用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743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军用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68580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228600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33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储备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1066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中转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配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储备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743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供应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3276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野战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油田原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3434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炼厂原油及成品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876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机场及港口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农机站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其它企业附属油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noFill/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1120" y="457200"/>
            <a:ext cx="81025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ahoma"/>
              </a:rPr>
              <a:t>油品储运工艺流程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13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宋体"/>
              </a:rPr>
              <a:t>、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200400"/>
            <a:ext cx="609480" cy="2043720"/>
          </a:xfrm>
          <a:prstGeom prst="rect">
            <a:avLst/>
          </a:prstGeom>
          <a:solidFill>
            <a:srgbClr val="c4709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储油设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3276720"/>
            <a:ext cx="609480" cy="2043720"/>
          </a:xfrm>
          <a:prstGeom prst="rect">
            <a:avLst/>
          </a:prstGeom>
          <a:solidFill>
            <a:srgbClr val="c4709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装卸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83120" y="3276720"/>
            <a:ext cx="1143000" cy="581400"/>
          </a:xfrm>
          <a:prstGeom prst="rect">
            <a:avLst/>
          </a:prstGeom>
          <a:solidFill>
            <a:srgbClr val="c4709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0280" y="4800600"/>
            <a:ext cx="1143000" cy="581400"/>
          </a:xfrm>
          <a:prstGeom prst="rect">
            <a:avLst/>
          </a:prstGeom>
          <a:solidFill>
            <a:srgbClr val="c4709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64200" y="4800600"/>
            <a:ext cx="1143000" cy="581400"/>
          </a:xfrm>
          <a:prstGeom prst="rect">
            <a:avLst/>
          </a:prstGeom>
          <a:solidFill>
            <a:srgbClr val="c4709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5400" y="4800600"/>
            <a:ext cx="1143000" cy="581400"/>
          </a:xfrm>
          <a:prstGeom prst="rect">
            <a:avLst/>
          </a:prstGeom>
          <a:solidFill>
            <a:srgbClr val="c4709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泵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797120" y="35812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6120" y="35812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51055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73280" y="5105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78400" y="51055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07200" y="51055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、油库工艺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所谓油库工艺流程设计，就是合理布置和规划油库经营油品的流向和可以完成的作业，包括油品的装卸、灌装、倒罐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5768640" y="114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油品储运工艺流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526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工艺流程设计基本原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满足生产要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操作方便，调度灵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节约投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768640" y="114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油品储运工艺流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481cf"/>
                </a:solidFill>
                <a:uFillTx/>
                <a:latin typeface="Tahoma"/>
                <a:hlinkClick r:id="rId1" action="ppaction://hlinksldjump"/>
              </a:rPr>
              <a:t>单管系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481cf"/>
                </a:solidFill>
                <a:uFillTx/>
                <a:latin typeface="Tahoma"/>
                <a:hlinkClick r:id="rId2" action="ppaction://hlinksldjump"/>
              </a:rPr>
              <a:t>双管系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481cf"/>
                </a:solidFill>
                <a:uFillTx/>
                <a:latin typeface="Tahoma"/>
                <a:hlinkClick r:id="rId3" action="ppaction://hlinksldjump"/>
              </a:rPr>
              <a:t>独立管道系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般，油库管网的布置以</a:t>
            </a:r>
            <a:r>
              <a:rPr b="1" lang="zh-CN" sz="3200" spc="-1" strike="noStrike">
                <a:solidFill>
                  <a:srgbClr val="c481cf"/>
                </a:solidFill>
                <a:latin typeface="Tahoma"/>
              </a:rPr>
              <a:t>双管系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主，以单管系统和独立管道系统为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113440" y="1218960"/>
            <a:ext cx="403056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油品储运工艺流程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油品分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组原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性质相似、色泽相近的油品分为一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组目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一组内的油品可以共用一台泵、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条管线进行输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5768640" y="114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油品储运工艺流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2320" y="20570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油库概述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10920" y="357300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油库的作用和类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油库的分级和分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油品储运工艺流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ahoma"/>
              </a:rPr>
              <a:t>油品的水路装卸作业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5181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水路运输的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载运量大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耗少、成本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投资少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14680" y="15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4724280" cy="3089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13040" y="1560600"/>
            <a:ext cx="694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143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储油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828800"/>
            <a:ext cx="4191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国迄今为止建造的吨位最大、造价最高、技术最新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吨海上浮式生产储油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FPSO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其船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、型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型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从船底到烟囱的距离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。该船满载吃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日加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桶合格原油，储油量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桶，用于中国渤海海域蓬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油田二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2720" y="1143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油品的水路装卸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ahoma"/>
              </a:rPr>
              <a:t>桶装（整装）作业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油桶的灌装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泵送灌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流灌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油桶的称量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重量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容量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400" y="2209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c481cf"/>
                </a:solidFill>
                <a:uFillTx/>
                <a:latin typeface="Tahoma"/>
                <a:hlinkClick r:id="rId1" action="ppaction://hlinksldjump"/>
              </a:rPr>
              <a:t>本节结束</a:t>
            </a:r>
            <a:endParaRPr b="0" lang="en-US" sz="5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一、油库的作用和类型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、油库的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油库是用来</a:t>
            </a:r>
            <a:r>
              <a:rPr b="1" lang="zh-CN" sz="3200" spc="-1" strike="noStrike" u="sng">
                <a:solidFill>
                  <a:srgbClr val="c481cf"/>
                </a:solidFill>
                <a:uFillTx/>
                <a:latin typeface="Tahoma"/>
              </a:rPr>
              <a:t>接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 u="sng">
                <a:solidFill>
                  <a:srgbClr val="c481cf"/>
                </a:solidFill>
                <a:uFillTx/>
                <a:latin typeface="Tahoma"/>
              </a:rPr>
              <a:t>储存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3200" spc="-1" strike="noStrike" u="sng">
                <a:solidFill>
                  <a:srgbClr val="c481cf"/>
                </a:solidFill>
                <a:uFillTx/>
                <a:latin typeface="Tahoma"/>
              </a:rPr>
              <a:t>发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石油或石油产品的企业和单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848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的作用和类型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、油库的作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481cf"/>
                </a:solidFill>
                <a:latin typeface="Tahoma"/>
              </a:rPr>
              <a:t>基地作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油库是国家石油储备和供应的基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纽带作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油库是协调原油生产、原油加工、成品油供应及运输的纽带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514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油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14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油田</a:t>
            </a:r>
            <a:r>
              <a:rPr b="1" i="1" lang="zh-CN" sz="3200" spc="-1" strike="noStrike" u="sng">
                <a:solidFill>
                  <a:srgbClr val="c481cf"/>
                </a:solidFill>
                <a:uFillTx/>
                <a:latin typeface="Times New Roman"/>
              </a:rPr>
              <a:t>原油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590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炼厂</a:t>
            </a:r>
            <a:r>
              <a:rPr b="1" i="1" lang="zh-CN" sz="3200" spc="-1" strike="noStrike" u="sng">
                <a:solidFill>
                  <a:srgbClr val="c481cf"/>
                </a:solidFill>
                <a:uFillTx/>
                <a:latin typeface="Times New Roman"/>
              </a:rPr>
              <a:t>原油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炼油装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9625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炼厂</a:t>
            </a:r>
            <a:r>
              <a:rPr b="1" i="1" lang="zh-CN" sz="3200" spc="-1" strike="noStrike" u="sng">
                <a:solidFill>
                  <a:srgbClr val="c481cf"/>
                </a:solidFill>
                <a:uFillTx/>
                <a:latin typeface="Times New Roman"/>
              </a:rPr>
              <a:t>成品油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用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743200"/>
            <a:ext cx="990720" cy="228600"/>
          </a:xfrm>
          <a:custGeom>
            <a:avLst/>
            <a:gdLst>
              <a:gd name="textAreaLeft" fmla="*/ 12384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990720" cy="228600"/>
          </a:xfrm>
          <a:custGeom>
            <a:avLst/>
            <a:gdLst>
              <a:gd name="textAreaLeft" fmla="*/ 12384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1911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11480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09880" y="114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的作用和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、油库的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油库的</a:t>
            </a:r>
            <a:r>
              <a:rPr b="0" lang="zh-CN" sz="3200" spc="-1" strike="noStrike" u="sng">
                <a:solidFill>
                  <a:srgbClr val="c481cf"/>
                </a:solidFill>
                <a:uFillTx/>
                <a:latin typeface="Times New Roman"/>
                <a:hlinkClick r:id="rId1" action="ppaction://hlinksldjump"/>
              </a:rPr>
              <a:t>管理体制和业务性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划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独立油库   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企业附属油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油库的主要储油方式划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481cf"/>
                </a:solidFill>
                <a:uFillTx/>
                <a:latin typeface="Times New Roman"/>
                <a:hlinkClick r:id="rId2" action="ppaction://hlinksldjump"/>
              </a:rPr>
              <a:t>地面油库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481cf"/>
                </a:solidFill>
                <a:uFillTx/>
                <a:latin typeface="Times New Roman"/>
                <a:hlinkClick r:id="rId3" action="ppaction://hlinksldjump"/>
              </a:rPr>
              <a:t>隐蔽油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481cf"/>
                </a:solidFill>
                <a:uFillTx/>
                <a:latin typeface="Times New Roman"/>
                <a:hlinkClick r:id="rId4" action="ppaction://hlinksldjump"/>
              </a:rPr>
              <a:t>山洞油库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481cf"/>
                </a:solidFill>
                <a:uFillTx/>
                <a:latin typeface="Times New Roman"/>
                <a:hlinkClick r:id="rId5" action="ppaction://hlinksldjump"/>
              </a:rPr>
              <a:t>水封石洞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地下盐岩库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481cf"/>
                </a:solidFill>
                <a:uFillTx/>
                <a:latin typeface="Times New Roman"/>
                <a:hlinkClick r:id="rId6" action="ppaction://hlinksldjump"/>
              </a:rPr>
              <a:t>水下油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09880" y="114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的作用和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二、油库的分级和分区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、油库的分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2514600"/>
          <a:ext cx="7696080" cy="2908440"/>
        </p:xfrm>
        <a:graphic>
          <a:graphicData uri="http://schemas.openxmlformats.org/drawingml/2006/table">
            <a:tbl>
              <a:tblPr/>
              <a:tblGrid>
                <a:gridCol w="3809880"/>
                <a:gridCol w="38862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      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容量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zh-CN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      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71136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      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71136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      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71136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      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于等于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 ~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于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 ~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于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~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于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09480" y="54864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577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481cf"/>
                </a:solidFill>
                <a:latin typeface="Times New Roman"/>
              </a:rPr>
              <a:t>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油库总容量是指所有储罐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公称容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桶装油品设计存放量之和，不包括零位罐、高架罐、放空罐以及是油库自用油品储罐的容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30402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、油库的分区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362320"/>
          <a:ext cx="8305920" cy="4306680"/>
        </p:xfrm>
        <a:graphic>
          <a:graphicData uri="http://schemas.openxmlformats.org/drawingml/2006/table">
            <a:tbl>
              <a:tblPr/>
              <a:tblGrid>
                <a:gridCol w="509760"/>
                <a:gridCol w="554040"/>
                <a:gridCol w="1919160"/>
                <a:gridCol w="532296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分    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区内主要建筑物和构筑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储油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油罐、防火堤、油泵房、变配电间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铁路装卸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铁路装卸油栈桥、油泵房、桶装仓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路装卸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装卸油码头、油泵房、灌油间、桶装仓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公路装卸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架罐、灌油间、汽车装卸油设备、桶装仓库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辅助生产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修洗桶间、消防泵房、消防车库、机修间、器材库、锅炉房、化验室、污水处理设备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行政管理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办公室、传达室、车库、宿舍、浴室、食堂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762520" y="114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油库的分级和分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40040" y="13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9320" y="990720"/>
          <a:ext cx="6922800" cy="54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92280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3:20:27Z</dcterms:created>
  <dc:creator>whq</dc:creator>
  <dc:description/>
  <dc:language>en-US</dc:language>
  <cp:lastModifiedBy>dxp</cp:lastModifiedBy>
  <dcterms:modified xsi:type="dcterms:W3CDTF">2012-10-18T04:22:47Z</dcterms:modified>
  <cp:revision>84</cp:revision>
  <dc:subject/>
  <dc:title>油气储存工艺</dc:title>
</cp:coreProperties>
</file>