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5029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08152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782160" y="144756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8088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08152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3782160" y="4114440"/>
            <a:ext cx="16192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58120" y="411444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958120" y="1447560"/>
            <a:ext cx="2454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114440"/>
            <a:ext cx="5029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1" marL="698400" indent="-268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2" marL="1074240" indent="-214560">
              <a:spcBef>
                <a:spcPts val="700"/>
              </a:spcBef>
              <a:buClr>
                <a:srgbClr val="fdf5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3" marL="1504080" indent="-214560">
              <a:spcBef>
                <a:spcPts val="700"/>
              </a:spcBef>
              <a:buClr>
                <a:srgbClr val="fdf5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4" marL="1933920" indent="-214560">
              <a:spcBef>
                <a:spcPts val="700"/>
              </a:spcBef>
              <a:buClr>
                <a:srgbClr val="fdf5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5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  <a:p>
            <a:pPr lvl="6" marL="1933920" indent="-214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5d5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8840" y="51055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 Black"/>
                <a:ea typeface="宋体"/>
              </a:rPr>
              <a:t>MEDICAL PROFESSIONALS</a:t>
            </a:r>
            <a:endParaRPr b="0" lang="en-US" sz="20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288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f07"/>
                </a:solidFill>
                <a:latin typeface="Arial Unicode MS"/>
                <a:ea typeface="宋体"/>
              </a:rPr>
              <a:t>Your Subtitle Goes Here</a:t>
            </a:r>
            <a:endParaRPr b="0" lang="en-US" sz="16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861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5d5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f5d5"/>
                </a:solidFill>
                <a:latin typeface="Arial Unicode MS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24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0880" y="1447560"/>
            <a:ext cx="5029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宋体"/>
              </a:rPr>
              <a:t>Your Subtopics Go Here</a:t>
            </a:r>
            <a:endParaRPr b="0" lang="en-US" sz="24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24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Arial Black"/>
                <a:ea typeface="宋体"/>
              </a:rPr>
              <a:t>TRANSITIONAL PAGE</a:t>
            </a:r>
            <a:endParaRPr b="0" lang="en-US" sz="4000" spc="-1" strike="noStrike">
              <a:solidFill>
                <a:srgbClr val="00d861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a05"/>
                </a:solidFill>
                <a:latin typeface="Arial Unicode MS"/>
                <a:ea typeface="宋体"/>
              </a:rPr>
              <a:t>Your Text Here</a:t>
            </a:r>
            <a:endParaRPr b="0" lang="en-US" sz="2000" spc="-1" strike="noStrike">
              <a:solidFill>
                <a:srgbClr val="fdf5d5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5:44:46Z</dcterms:created>
  <dc:creator>pc</dc:creator>
  <dc:description/>
  <dc:language>en-US</dc:language>
  <cp:lastModifiedBy>pc</cp:lastModifiedBy>
  <dcterms:modified xsi:type="dcterms:W3CDTF">2015-07-01T09:53:34Z</dcterms:modified>
  <cp:revision>1</cp:revision>
  <dc:subject/>
  <dc:title>MEDICAL PROFESSION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_TemplateID">
    <vt:lpwstr>TC103368021033</vt:lpwstr>
  </property>
</Properties>
</file>