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E56-0DD5-4E03-B5D9-56D01EC0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487-57DF-472E-8B87-19E1D9A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DE9-52C9-461B-9ABC-BCFFC450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683-18B3-4C47-847C-09C5EACC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7BF0-BA83-47D5-97CA-768E3098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C46F-242B-474A-A730-FB14C4B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351E-8740-4DB5-B4AC-1FE643F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42A-4693-4786-BB0B-1BF65D10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D2C-E2BC-4189-BC82-E563693F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DA4B-E9AC-4AB1-8371-E5BE192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522-4EA8-46C7-8DFC-C63073E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292-BD5E-47E7-A9D2-81DBC849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CD1-9087-4CBF-A9A6-E2750A6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581-4EEF-4174-9305-3D0EA09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AD67-0613-4509-9D39-2AEF945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B857-8C24-468A-A8C9-B1A9B3FF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E1F-69B2-4D11-B146-52504E64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2E8-31FA-4C7F-AD7D-574A1554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810-7F27-4124-87A6-F1236DE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FBE-6AFD-4550-BD54-8DA241E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4B1-D107-4E7B-8632-0AEFC431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ADC-266D-4D67-B511-3E70868A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CA8-1463-46A7-8511-6EF60A2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4E9-0AA6-4A33-895F-D7D284B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1DAF-F240-4107-8CE1-825D88B3C7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13E6-AC2D-4188-9188-28A2E5D66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476360" y="907920"/>
            <a:ext cx="51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332000" y="2133720"/>
            <a:ext cx="7272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方正舒体"/>
                <a:ea typeface="方正舒体"/>
              </a:rPr>
              <a:t>             </a:t>
            </a:r>
            <a:r>
              <a:rPr b="1" lang="zh-CN" sz="6000" spc="-1" strike="noStrike">
                <a:solidFill>
                  <a:srgbClr val="cc0000"/>
                </a:solidFill>
                <a:latin typeface="方正舒体"/>
                <a:ea typeface="方正舒体"/>
              </a:rPr>
              <a:t>修养  礼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84360" y="76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行楷"/>
              </a:rPr>
              <a:t>让优雅成为一种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0"/>
          <p:cNvSpPr/>
          <p:nvPr/>
        </p:nvSpPr>
        <p:spPr>
          <a:xfrm>
            <a:off x="1042920" y="476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741840" y="1843560"/>
            <a:ext cx="282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女人仪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扬长避短天天化、浓妆淡抹总相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口红、唇笔、唇膏；眉笔、眼线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眼影；粉底、粉饼、胭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剪、常修、常洗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发型、脸型、服饰</a:t>
            </a: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修、常剪、常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肤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清洁、防晒、润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练、常健、常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味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香皂、香水、香手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1042920" y="476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963520" y="2171880"/>
            <a:ext cx="439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华文行楷"/>
              </a:rPr>
              <a:t>仪表（男士服饰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休闲装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休闲、度假、旅游（只有在休闲时会穿白袜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工作装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西服、衬衫、领带、手帕、皮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扣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双排必扣；单排宜扣，至少最上一个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三件套：马甲全扣，西装不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不穿浅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鞋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黑色最佳，棕鞋只配棕装（比较保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腰带、吊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腰带与鞋一致；吊带随行就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内衣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不干扰、不外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毛衣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衬衣与西装之间不穿毛衣（衬衣、西装、大衣组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大衣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风雨衣，扣子全部扣好较为正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服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手表、（项链、结婚戒指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"/>
          <p:cNvSpPr/>
          <p:nvPr/>
        </p:nvSpPr>
        <p:spPr>
          <a:xfrm>
            <a:off x="1042920" y="476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17520" y="1478880"/>
            <a:ext cx="549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华文行楷"/>
                <a:ea typeface="华文行楷"/>
              </a:rPr>
              <a:t>女士服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休闲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休闲、度假、旅游（睡衣不能上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工作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西服套装、西服套裙、连衣裙、低或半高跟鞋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丝袜、安静的首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礼服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非正式礼服可以工作装代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华文行楷"/>
                <a:ea typeface="华文行楷"/>
              </a:rPr>
              <a:t>女性衣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基本配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裙、裤、大衣、上衣、衬衫、外套、毛衣、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辅助配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最多三种色调 黑色、白色（</a:t>
            </a:r>
            <a:r>
              <a:rPr b="0" lang="en-US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红、黄、触电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饰物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袜、鞋、手包、围巾、腰带、手套、帽子、首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看衣穿袜（凉鞋可以不穿袜或透明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鞋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款式大方，不抢眼，平跟、半高跟最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手包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大、中、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围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大红、玫瑰、青绿色配黑、白、炭灰、乳色、海军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首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戒指、项链、耳环、手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1042920" y="47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477960" y="1985040"/>
            <a:ext cx="230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华文行楷"/>
              </a:rPr>
              <a:t>仪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莫快、莫急、莫燥、莫连、莫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莫语、莫声、莫露、莫遗、莫剩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莫丢、莫弃、莫嫌、莫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轻拿轻放、起落得当、勤擦嘴手、注意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女士起坐男礼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不宽衣解带、不随随意补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42920" y="476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476360" y="2276640"/>
            <a:ext cx="66978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让优雅成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              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一种习惯</a:t>
            </a:r>
            <a:r>
              <a:rPr b="1" lang="zh-CN" sz="6000" spc="-1" strike="noStrike">
                <a:solidFill>
                  <a:srgbClr val="000099"/>
                </a:solidFill>
                <a:latin typeface="方正舒体"/>
                <a:ea typeface="方正舒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42920" y="1773360"/>
            <a:ext cx="81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为了将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让我们认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               </a:t>
            </a:r>
            <a:r>
              <a:rPr b="1" lang="zh-CN" sz="4000" spc="-1" strike="noStrike">
                <a:solidFill>
                  <a:srgbClr val="000099"/>
                </a:solidFill>
                <a:latin typeface="方正舒体"/>
                <a:ea typeface="方正舒体"/>
              </a:rPr>
              <a:t>做好每一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42920" y="47628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2195640" y="2276640"/>
            <a:ext cx="532908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99"/>
                </a:solidFill>
                <a:latin typeface="方正舒体"/>
                <a:ea typeface="方正舒体"/>
              </a:rPr>
              <a:t>谢   谢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方正舒体"/>
                <a:ea typeface="方正舒体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42920" y="47628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042920" y="476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547640" y="2493000"/>
            <a:ext cx="74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举止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举：向上，适可而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行为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行：心而使然   有想而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礼仪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谦恭于心，现之于外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修养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­——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正确态度，修身养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8"/>
          <p:cNvSpPr/>
          <p:nvPr/>
        </p:nvSpPr>
        <p:spPr>
          <a:xfrm>
            <a:off x="1116000" y="220500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做人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正直、坦白、诚信、有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做事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积极、快乐、爱劳动、勤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修身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健康、活泼、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养性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要爱人、爱己、宽容自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0"/>
          <p:cNvSpPr/>
          <p:nvPr/>
        </p:nvSpPr>
        <p:spPr>
          <a:xfrm>
            <a:off x="1042920" y="476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40"/>
          <p:cNvSpPr/>
          <p:nvPr/>
        </p:nvSpPr>
        <p:spPr>
          <a:xfrm>
            <a:off x="971640" y="2205000"/>
            <a:ext cx="792000" cy="576360"/>
          </a:xfrm>
          <a:prstGeom prst="rightArrow">
            <a:avLst>
              <a:gd name="adj1" fmla="val 50000"/>
              <a:gd name="adj2" fmla="val 34354"/>
            </a:avLst>
          </a:prstGeom>
          <a:solidFill>
            <a:srgbClr val="c0c0c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9"/>
          <p:cNvSpPr/>
          <p:nvPr/>
        </p:nvSpPr>
        <p:spPr>
          <a:xfrm>
            <a:off x="3995640" y="2637000"/>
            <a:ext cx="180036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心 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3059280" y="4076640"/>
            <a:ext cx="1944360" cy="1044360"/>
            <a:chOff x="3059280" y="4076640"/>
            <a:chExt cx="1944360" cy="1044360"/>
          </a:xfrm>
        </p:grpSpPr>
        <p:sp>
          <p:nvSpPr>
            <p:cNvPr id="107" name="AutoShape 34"/>
            <p:cNvSpPr/>
            <p:nvPr/>
          </p:nvSpPr>
          <p:spPr>
            <a:xfrm>
              <a:off x="3059280" y="4076640"/>
              <a:ext cx="1944360" cy="1044360"/>
            </a:xfrm>
            <a:prstGeom prst="cloudCallout">
              <a:avLst>
                <a:gd name="adj1" fmla="val -42986"/>
                <a:gd name="adj2" fmla="val 40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方正舒体"/>
                </a:rPr>
                <a:t>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>
              <a:off x="4031280" y="4337640"/>
              <a:ext cx="486000" cy="5220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5"/>
          <p:cNvGrpSpPr/>
          <p:nvPr/>
        </p:nvGrpSpPr>
        <p:grpSpPr>
          <a:xfrm>
            <a:off x="2641320" y="4996800"/>
            <a:ext cx="2852640" cy="1974600"/>
            <a:chOff x="2641320" y="4996800"/>
            <a:chExt cx="2852640" cy="1974600"/>
          </a:xfrm>
        </p:grpSpPr>
        <p:sp>
          <p:nvSpPr>
            <p:cNvPr id="110" name="AutoShape 37"/>
            <p:cNvSpPr/>
            <p:nvPr/>
          </p:nvSpPr>
          <p:spPr>
            <a:xfrm rot="873600">
              <a:off x="2771640" y="5300640"/>
              <a:ext cx="2592000" cy="136692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方正舒体"/>
                </a:rPr>
                <a:t>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6"/>
            <p:cNvSpPr/>
            <p:nvPr/>
          </p:nvSpPr>
          <p:spPr>
            <a:xfrm rot="873600">
              <a:off x="4057200" y="5837040"/>
              <a:ext cx="648000" cy="455400"/>
            </a:xfrm>
            <a:custGeom>
              <a:avLst/>
              <a:gdLst>
                <a:gd name="textAreaLeft" fmla="*/ 95400 w 648000"/>
                <a:gd name="textAreaRight" fmla="*/ 552600 w 648000"/>
                <a:gd name="textAreaTop" fmla="*/ 66960 h 455400"/>
                <a:gd name="textAreaBottom" fmla="*/ 3884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401" y="15493"/>
                  </a:moveTo>
                  <a:cubicBezTo>
                    <a:pt x="18376" y="14122"/>
                    <a:pt x="18900" y="12482"/>
                    <a:pt x="18900" y="10800"/>
                  </a:cubicBezTo>
                  <a:cubicBezTo>
                    <a:pt x="18900" y="6326"/>
                    <a:pt x="15273" y="2700"/>
                    <a:pt x="10800" y="2700"/>
                  </a:cubicBezTo>
                  <a:cubicBezTo>
                    <a:pt x="9117" y="2699"/>
                    <a:pt x="7477" y="3223"/>
                    <a:pt x="6106" y="4198"/>
                  </a:cubicBezTo>
                  <a:close/>
                  <a:moveTo>
                    <a:pt x="4198" y="6106"/>
                  </a:moveTo>
                  <a:cubicBezTo>
                    <a:pt x="3223" y="7477"/>
                    <a:pt x="2700" y="9117"/>
                    <a:pt x="2700" y="10799"/>
                  </a:cubicBezTo>
                  <a:cubicBezTo>
                    <a:pt x="2700" y="15273"/>
                    <a:pt x="6326" y="18900"/>
                    <a:pt x="10800" y="18900"/>
                  </a:cubicBezTo>
                  <a:cubicBezTo>
                    <a:pt x="12482" y="18900"/>
                    <a:pt x="14122" y="18376"/>
                    <a:pt x="15493" y="1740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38"/>
          <p:cNvSpPr/>
          <p:nvPr/>
        </p:nvSpPr>
        <p:spPr>
          <a:xfrm>
            <a:off x="5219640" y="42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c0c0c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5292720" y="580536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c0c0c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5724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630360" y="2179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1835280" y="1989000"/>
            <a:ext cx="64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人的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举止、行为、礼仪、修养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完全出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9"/>
          <p:cNvSpPr/>
          <p:nvPr/>
        </p:nvSpPr>
        <p:spPr>
          <a:xfrm>
            <a:off x="6048360" y="566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厌之 避之 痛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1042920" y="476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1"/>
          <p:cNvSpPr/>
          <p:nvPr/>
        </p:nvSpPr>
        <p:spPr>
          <a:xfrm>
            <a:off x="6423120" y="4076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喜之 趋之 乐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2"/>
          <p:cNvSpPr/>
          <p:nvPr/>
        </p:nvSpPr>
        <p:spPr>
          <a:xfrm>
            <a:off x="1116000" y="4581360"/>
            <a:ext cx="180036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心 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11"/>
          <p:cNvSpPr/>
          <p:nvPr/>
        </p:nvSpPr>
        <p:spPr>
          <a:xfrm>
            <a:off x="755640" y="5157720"/>
            <a:ext cx="2519280" cy="93996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得失利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755640" y="3500280"/>
            <a:ext cx="2590920" cy="93672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判断基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826920" y="1844640"/>
            <a:ext cx="2590920" cy="936720"/>
          </a:xfrm>
          <a:prstGeom prst="horizontalScrol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好恶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49360" y="1429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5942160" y="5490360"/>
            <a:ext cx="18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292720" y="3717000"/>
            <a:ext cx="20876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决定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6988680" y="449712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5219640" y="1915920"/>
            <a:ext cx="3456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指向好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华文行楷"/>
                <a:ea typeface="华文行楷"/>
              </a:rPr>
              <a:t>（婴儿、动物本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1042920" y="476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3492360" y="198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华文行楷"/>
              </a:rPr>
              <a:t>原始好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377856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华文行楷"/>
              </a:rPr>
              <a:t>是非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370548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  <a:ea typeface="华文行楷"/>
              </a:rPr>
              <a:t>价值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5546520" y="5510160"/>
            <a:ext cx="11559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决定取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3492360" y="249228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0"/>
          <p:cNvSpPr/>
          <p:nvPr/>
        </p:nvSpPr>
        <p:spPr>
          <a:xfrm>
            <a:off x="3492360" y="407664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419640" y="5734080"/>
            <a:ext cx="1584000" cy="216000"/>
          </a:xfrm>
          <a:prstGeom prst="rightArrow">
            <a:avLst>
              <a:gd name="adj1" fmla="val 50000"/>
              <a:gd name="adj2" fmla="val 18333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1042920" y="476280"/>
            <a:ext cx="70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140360" y="2349360"/>
            <a:ext cx="1511280" cy="432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c0c0c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900000" y="2133720"/>
            <a:ext cx="3024360" cy="936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魅力何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816120" y="2147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3930480" y="3585960"/>
            <a:ext cx="41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风度、品位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修养、现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4509720" y="1773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"/>
          <p:cNvSpPr/>
          <p:nvPr/>
        </p:nvSpPr>
        <p:spPr>
          <a:xfrm>
            <a:off x="1042920" y="47628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187280" y="270792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仪容、仪表、仪餐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个人素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111560" y="40762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  <a:ea typeface="华文行楷"/>
              </a:rPr>
              <a:t>仪礼、仪态、仪柬</a:t>
            </a:r>
            <a:r>
              <a:rPr b="0" lang="en-US" sz="3600" spc="-1" strike="noStrike">
                <a:solidFill>
                  <a:srgbClr val="808000"/>
                </a:solidFill>
                <a:latin typeface="Arial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808000"/>
                </a:solidFill>
                <a:latin typeface="Times New Roman"/>
                <a:ea typeface="华文行楷"/>
              </a:rPr>
              <a:t>与人相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8"/>
          <p:cNvSpPr/>
          <p:nvPr/>
        </p:nvSpPr>
        <p:spPr>
          <a:xfrm>
            <a:off x="1042920" y="476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191400" y="2591280"/>
            <a:ext cx="4082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仪容：个人卫生好习惯（男女必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牙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每餐后刷牙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口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漱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指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清洁指甲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勤洗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头、耳、体、衣、衫、袜、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味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烟、酒、体、衣、口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8"/>
          <p:cNvSpPr/>
          <p:nvPr/>
        </p:nvSpPr>
        <p:spPr>
          <a:xfrm>
            <a:off x="1042920" y="47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方正舒体"/>
                <a:ea typeface="方正舒体"/>
              </a:rPr>
              <a:t>举止  行为  修养  礼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237480" y="1915200"/>
            <a:ext cx="3812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华文行楷"/>
                <a:ea typeface="华文行楷"/>
              </a:rPr>
              <a:t>男士仪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头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剪、常修、常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唇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唇膏防裂  牙齿洁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须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天天刮（不留须）、天天整（长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修、常剪、常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肤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清洁、防晒、润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体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常练、常健、常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味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香皂、香水、香手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8:48:59Z</dcterms:created>
  <dc:creator>Lenovo User</dc:creator>
  <dc:description/>
  <dc:language>en-US</dc:language>
  <cp:lastModifiedBy>Administrator</cp:lastModifiedBy>
  <dcterms:modified xsi:type="dcterms:W3CDTF">2015-09-23T07:56:03Z</dcterms:modified>
  <cp:revision>34</cp:revision>
  <dc:subject/>
  <dc:title>幻灯片 1</dc:title>
</cp:coreProperties>
</file>