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wmf" ContentType="image/x-wmf"/>
  <Override PartName="/ppt/media/image5.jpeg" ContentType="image/jpeg"/>
  <Override PartName="/ppt/media/image10.jpeg" ContentType="image/jpeg"/>
  <Override PartName="/ppt/media/image1.wmf" ContentType="image/x-wmf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5898-E7B8-4B72-8ADE-325799601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C500-BFFE-42C1-85D6-598A7BE12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88F0-95A0-4A5F-BB00-46B5FA941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BFEF-6094-441D-873E-5534B90D0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2A89-D636-45A9-80B0-6DA3147CA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9B7D-8E78-4E28-A543-5AD669A8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89CF-4ADA-4976-8FFE-E60DAACBB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2EF9-19C2-4E42-978C-B84AF6DA0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2DBB-A5E4-486B-AEE1-397A67C26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769C-2655-4FDF-B857-79447EB3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66B4-230E-48F9-B53B-720B742E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86AF-6242-40DD-84AE-9C3D989F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879AD-BC80-4BFA-BD20-62501750F97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EB133-9052-4850-AC34-512AB06A1A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203640" y="4365720"/>
            <a:ext cx="2286000" cy="52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9000"/>
                    </a:srgbClr>
                  </a:outerShdw>
                </a:effectLst>
                <a:latin typeface="宋体"/>
              </a:rPr>
              <a:t>飞轮海小组</a:t>
            </a:r>
            <a:endParaRPr b="1" i="1" lang="en-US" sz="1800" spc="-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Rectangl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76042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1949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年（  ）月（    ）日，中国人民政治协商会议第一届全体会议决定：“中华人民共和国纪年采用公元年法”，确认新年（元旦）为中国的法定节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A.9       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B.9       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C.9       19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                                        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正确答案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Rectangl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为了祝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u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这位罗马神话中的门神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u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后来也演化为英文（    ）这个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正确答案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Rectangle 3" descr=""/>
          <p:cNvPicPr/>
          <p:nvPr/>
        </p:nvPicPr>
        <p:blipFill>
          <a:blip r:embed="rId1"/>
          <a:stretch/>
        </p:blipFill>
        <p:spPr>
          <a:xfrm rot="552600">
            <a:off x="0" y="11556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Rectangle 3" descr=""/>
          <p:cNvPicPr/>
          <p:nvPr/>
        </p:nvPicPr>
        <p:blipFill>
          <a:blip r:embed="rId1"/>
          <a:stretch/>
        </p:blipFill>
        <p:spPr>
          <a:xfrm>
            <a:off x="-33480" y="1440"/>
            <a:ext cx="9177480" cy="685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8229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元”有开始之意，“旦”指天明的意思。元旦便是一年开始的第一天，也被称为“新历年”、“阳历年”。元旦又称“三元”，即岁之元、月之元、时之元。辛亥革命成功后，孙中山为了“行夏正，所以顺农时，从西历”，定农历正月初一为春节，而以西历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日为新年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4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日，中国人民政治协商会议第一届全体会议决定：“中华人民共和国纪年采用公元年法”，确认新年（元旦）为中国的法定节日。元旦也是世界上很多国家或地区的法定假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060720" y="620640"/>
            <a:ext cx="2743200" cy="52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元旦节的来历</a:t>
            </a:r>
            <a:endParaRPr b="1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Rectangl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8229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元旦，据说起于三皇五帝之一的颛顼，距今已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多年的历史。 “元旦”一词最早出现于《晋书》：“颛帝以孟夏正月为元，其实正朔元旦之春。 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南北朝时，南朝文史学家萧子云的《介雅》诗中有“四季新元旦，万寿初春朝”的记载。宋代吴自牧《梦粱录》中有关于：“正月朔日，谓之元旦，俗呼为新年。一岁节序，此为之首。 ” 的记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汉代崔瑗《三子钗铭》中叫“元正”、晋代庾阐《扬都赋》一赋中称作“元辰”、北齐时的《元会大享歌皇夏辞》一辞中呼为“元春”、唐德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李适《元日退朝观军仗归营》一诗中谓之“元朔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657600" y="536400"/>
            <a:ext cx="1828800" cy="52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起源变迁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Rectangle 3" descr=""/>
          <p:cNvPicPr/>
          <p:nvPr/>
        </p:nvPicPr>
        <p:blipFill>
          <a:blip r:embed="rId1"/>
          <a:stretch/>
        </p:blipFill>
        <p:spPr>
          <a:xfrm>
            <a:off x="0" y="244440"/>
            <a:ext cx="9144000" cy="63406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cc"/>
                </a:solidFill>
                <a:latin typeface="Arial"/>
              </a:rPr>
              <a:t>元旦节吃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cc"/>
                </a:solidFill>
                <a:latin typeface="Arial"/>
              </a:rPr>
              <a:t>在中国，元旦节一般都会吃饺子和年糕，吃饺子，寓意为“交子”，吃饺子取“更岁交子”之意，“子”为“子时”，交与“饺”谐音，有“喜庆团圆”和“吉祥如意”，辞旧迎新的意思。年糕：又称粘粘糕，取年年高之意。饺子和年糕都是中国的传统食品。在给人们带来年节欢乐的同时，已成为中国饮食文化的一个重要组成部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西方元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西元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，古罗马凯撒把这一天定为西历新年的开始，为了祝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u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这位罗马神话中的门神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u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后来也演化为英文一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uary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个词。原本以为教皇把耶稣诞生年作为西元元年，西元一月一日也和耶稣有关联，现在看来并非如此。可能依照西方普遍信仰基督教，还应该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日耶诞日为过年，所以西方的新年没有耶诞隆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Rectangl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Arial"/>
              </a:rPr>
              <a:t>丹麦人在元旦前夜，家家户户都要将平时打碎的杯盘碎片收集起来，待夜深人静时偷偷地送至朋友家的门前。元旦的早晨，如果谁家门前堆放的碎片越多，则说明他家的朋友越多，新年一定很幸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476280"/>
            <a:ext cx="792468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元旦趣俗——杯盘碎片送朋友</a:t>
            </a:r>
            <a:endParaRPr b="0" i="1" lang="en-US" sz="4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440" y="468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6600"/>
                </a:solidFill>
                <a:latin typeface="Arial"/>
              </a:rPr>
              <a:t>雅诗欣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1280"/>
            <a:ext cx="8688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元 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王安石［北宋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爆竹声中一岁除， 春风送暖入屠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千门万户曈曈日， 总把新桃换旧符。</a:t>
            </a:r>
            <a:r>
              <a:rPr b="1" lang="en-US" sz="3200" spc="-1" strike="noStrike">
                <a:solidFill>
                  <a:srgbClr val="cfdef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Rectangl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cc"/>
                </a:solidFill>
                <a:latin typeface="Arial"/>
              </a:rPr>
              <a:t>对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6bde"/>
                </a:solidFill>
                <a:latin typeface="Arial"/>
              </a:rPr>
              <a:t>一帆风顺年年好，万事如意步步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6bde"/>
                </a:solidFill>
                <a:latin typeface="Arial"/>
              </a:rPr>
              <a:t>吉星高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edf8"/>
                </a:solidFill>
                <a:latin typeface="Arial"/>
              </a:rPr>
              <a:t>天地和顺家添财，平安如意人多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edf8"/>
                </a:solidFill>
                <a:latin typeface="Arial"/>
              </a:rPr>
              <a:t>四季平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52cec"/>
                </a:solidFill>
                <a:latin typeface="Arial"/>
              </a:rPr>
              <a:t>欢声笑语贺新春，欢聚一堂迎新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52cec"/>
                </a:solidFill>
                <a:latin typeface="Arial"/>
              </a:rPr>
              <a:t>合家欢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77947"/>
                </a:solidFill>
                <a:latin typeface="Arial"/>
              </a:rPr>
              <a:t>高居宝地财兴旺，福照家门富生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77947"/>
                </a:solidFill>
                <a:latin typeface="Arial"/>
              </a:rPr>
              <a:t>心想事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99cc00"/>
                </a:solidFill>
                <a:latin typeface="Arial"/>
              </a:rPr>
              <a:t>有奖问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cc6600"/>
                </a:solidFill>
                <a:latin typeface="Arial"/>
              </a:rPr>
              <a:t>元”有（        ）之意，“旦”指（      ）的意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A.</a:t>
            </a:r>
            <a:r>
              <a:rPr b="1" lang="zh-CN" sz="3200" spc="-1" strike="noStrike">
                <a:solidFill>
                  <a:srgbClr val="cc6600"/>
                </a:solidFill>
                <a:latin typeface="Arial"/>
              </a:rPr>
              <a:t>开始     光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B.</a:t>
            </a:r>
            <a:r>
              <a:rPr b="1" lang="zh-CN" sz="3200" spc="-1" strike="noStrike">
                <a:solidFill>
                  <a:srgbClr val="cc6600"/>
                </a:solidFill>
                <a:latin typeface="Arial"/>
              </a:rPr>
              <a:t>结束     天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C. </a:t>
            </a:r>
            <a:r>
              <a:rPr b="1" lang="zh-CN" sz="3200" spc="-1" strike="noStrike">
                <a:solidFill>
                  <a:srgbClr val="cc6600"/>
                </a:solidFill>
                <a:latin typeface="Arial"/>
              </a:rPr>
              <a:t>开始   天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Arial"/>
              </a:rPr>
              <a:t>正确答案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dministrator</dc:creator>
  <dc:description/>
  <dc:language>en-US</dc:language>
  <cp:lastModifiedBy>bianxiaoxiang</cp:lastModifiedBy>
  <dcterms:modified xsi:type="dcterms:W3CDTF">2014-01-01T03:36:37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05</vt:lpwstr>
  </property>
</Properties>
</file>