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DD5-9CA9-4F4A-BCE9-8864BBEA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484164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76F-6C67-4EE2-824B-4817637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0420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2C6-BA93-4DDB-BAA3-22D9FC2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844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4056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844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94056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33B-47C7-4FE1-9287-67E16F80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F9F-1436-4D76-8707-EF66C832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3886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8F55-A60E-483D-96D5-2DF38F65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28E-48FC-48F5-949D-BECCB69A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8F9E-7347-42CA-8EAA-C22D3F1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992-41B7-45C9-B48E-566DC0FD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3047760"/>
            <a:ext cx="56386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0B1-6DDB-419C-9760-D0F80F8A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33E2-11E6-4109-BA1D-CEEFDD9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3886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D01-2A59-4E2B-9919-BC76197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0420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A89-4E20-4817-84D2-5E9EF90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BA7C-CE63-4587-829F-68C0512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484164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D68-A497-4F27-BD39-25310C7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0420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724-79D3-4D3A-92A7-26DFB30F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0844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40560" y="388620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0844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940560" y="4841640"/>
            <a:ext cx="18399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C82-624D-4E5B-A130-CA4E49AA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70D-323C-491C-8512-A8B3ACE3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B2C-EE30-4FAF-AA2B-2BBADAE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9B3-893D-4A2C-BE95-B311703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3047760"/>
            <a:ext cx="563868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429-61F9-4BD4-BAC6-7D6C431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CEC-6EFD-41EF-8FCB-2F02E06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4200" y="484164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1F5-33AF-4952-AC25-4824257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04200" y="3886200"/>
            <a:ext cx="278856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4841640"/>
            <a:ext cx="5715000" cy="8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720-14D9-4A77-9C33-CEAC752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9F9-5063-4012-9017-206DD7E93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C722-3292-4F3C-A9A9-E7AE72F6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Accurate Measur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960" y="388620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宋体"/>
              </a:rPr>
              <a:t>YOUR SUBTITLE GOES HER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36576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9999"/>
              </a:solidFill>
              <a:latin typeface="Times New Roman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99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30492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676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457920" y="85248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5812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1280" y="434340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21:50Z</dcterms:created>
  <dc:creator/>
  <dc:description/>
  <cp:keywords/>
  <dc:language>en-US</dc:language>
  <cp:lastModifiedBy>GZB</cp:lastModifiedBy>
  <dcterms:modified xsi:type="dcterms:W3CDTF">2011-09-13T11:32:10Z</dcterms:modified>
  <cp:revision>5</cp:revision>
  <dc:subject/>
  <dc:title>www.glzy8.com提供海量PPT模板免费下载！</dc:title>
</cp:coreProperties>
</file>