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327D-4233-4221-979F-C5C7F5944E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大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EC46-757E-433C-B57F-3E9CD200CA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史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1413-48EC-4C51-BEFC-A8335B42DE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在其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A6E1-10A1-4DCC-826F-AD76E3B942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DE0F-2A6A-4E87-9CE4-2287A6329E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人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6D0-818D-4794-BA4A-235599B979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喜出望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43E-2003-46CC-A3AB-ED84BD6429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蚊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C2C-12B2-493F-A995-22DE1A9944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熨斗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3D9D-2A51-4AB8-B83D-B2A433B507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A01C-DB9E-4EF9-AD2C-0D1BB2851D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乘人不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1A12-5C29-45CA-BE23-BB0BDB297C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保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2A31-A360-43A6-84F1-4E479B5E28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独中三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0D95-1ABF-40D0-A170-EBE86214BA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5CEA-40DD-4743-B13B-097DA3AD6C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AD3-D003-46AF-B929-A38F209D08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三言两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911A-5D00-49FF-88CF-CFF6D6815B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7C58-E119-435B-8953-B66FD77552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及时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A66-2427-41C7-8BC1-E420423A79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天涯何处无芳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D3A0-85C4-42A9-BBDF-E71DB7D6DA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940-F2E0-4DA7-901E-B7706269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CA1-3E9E-4660-872E-3A2B71E5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266-FFB4-41B8-9846-8B4D6EE4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7E2-90C8-43A2-B927-C28FC3F4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FBB-5294-4698-9D74-3E973E5D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75D-B1A3-4897-8498-1689A6C1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7B0-046C-4FA0-9C9A-791B715A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46F-3361-4C35-8AFB-7F377077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267-94CE-4051-B6CF-2641F0B8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815-F864-4CAB-90B9-351D9ADC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45E-81C5-4E80-8E76-A0F293F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B65-1ACA-4F5A-B949-33D1CDC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037E-8A4D-4E7A-8CFE-58FA5C6F019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y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3810-8CF9-4F18-B265-336918AD2E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438280" y="1808280"/>
            <a:ext cx="449604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82" name="矩形 4"/>
          <p:cNvSpPr/>
          <p:nvPr/>
        </p:nvSpPr>
        <p:spPr>
          <a:xfrm>
            <a:off x="4201920" y="32767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全面整顿（猜一地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1295280" y="3352680"/>
            <a:ext cx="623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社会在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(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打一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《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水浒转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》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人名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2298600" y="3352680"/>
            <a:ext cx="444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退席（打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《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论语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》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一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536560" y="3244680"/>
            <a:ext cx="44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大内里有人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(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打一字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98" name="矩形 4"/>
          <p:cNvSpPr/>
          <p:nvPr/>
        </p:nvSpPr>
        <p:spPr>
          <a:xfrm>
            <a:off x="4433040" y="33526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何为状元（打一文学名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102" name="矩形 4"/>
          <p:cNvSpPr/>
          <p:nvPr/>
        </p:nvSpPr>
        <p:spPr>
          <a:xfrm>
            <a:off x="4201920" y="33526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爱好旅游（打一成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1972080" y="3352680"/>
            <a:ext cx="45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为你打我，为我打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打到你皮开，打得我出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（打一动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110" name="矩形 4"/>
          <p:cNvSpPr/>
          <p:nvPr/>
        </p:nvSpPr>
        <p:spPr>
          <a:xfrm>
            <a:off x="471600" y="3352680"/>
            <a:ext cx="82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前面来只船，舵手在上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来时下小雨，走后路已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（打一日用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3715200" y="3352680"/>
            <a:ext cx="19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一粒谷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,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占满屋（打一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4201920" y="33526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乖（打一成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122" name="矩形 4"/>
          <p:cNvSpPr/>
          <p:nvPr/>
        </p:nvSpPr>
        <p:spPr>
          <a:xfrm>
            <a:off x="4437720" y="33526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固若金汤（猜河北一地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3"/>
          <p:cNvPicPr/>
          <p:nvPr/>
        </p:nvPicPr>
        <p:blipFill>
          <a:blip r:embed="rId1"/>
          <a:stretch/>
        </p:blipFill>
        <p:spPr>
          <a:xfrm>
            <a:off x="152280" y="254160"/>
            <a:ext cx="85089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7"/>
          <p:cNvPicPr/>
          <p:nvPr/>
        </p:nvPicPr>
        <p:blipFill>
          <a:blip r:embed="rId1"/>
          <a:stretch/>
        </p:blipFill>
        <p:spPr>
          <a:xfrm>
            <a:off x="317520" y="254160"/>
            <a:ext cx="85089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4412880" y="32446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凤头虎尾（打一字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66" name="矩形 4"/>
          <p:cNvSpPr/>
          <p:nvPr/>
        </p:nvSpPr>
        <p:spPr>
          <a:xfrm>
            <a:off x="4403520" y="32446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五句话（打一成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70" name="矩形 4"/>
          <p:cNvSpPr/>
          <p:nvPr/>
        </p:nvSpPr>
        <p:spPr>
          <a:xfrm>
            <a:off x="2299680" y="3244680"/>
            <a:ext cx="38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壹加壹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(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打一字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74" name="矩形 4"/>
          <p:cNvSpPr/>
          <p:nvPr/>
        </p:nvSpPr>
        <p:spPr>
          <a:xfrm>
            <a:off x="380880" y="3244680"/>
            <a:ext cx="78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当春乃发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(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打一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《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水浒转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》</a:t>
            </a: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人物</a:t>
            </a:r>
            <a:r>
              <a:rPr b="1" lang="en-US" sz="4400" spc="-1" strike="noStrike">
                <a:solidFill>
                  <a:srgbClr val="262673"/>
                </a:solidFill>
                <a:latin typeface="仿宋"/>
                <a:ea typeface="仿宋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3557520" y="981000"/>
            <a:ext cx="2028960" cy="191448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4437720" y="33526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73"/>
                </a:solidFill>
                <a:latin typeface="仿宋"/>
                <a:ea typeface="仿宋"/>
              </a:rPr>
              <a:t>谜面：春满大地（猜苏轼词一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lianggai</cp:lastModifiedBy>
  <dcterms:modified xsi:type="dcterms:W3CDTF">2012-02-06T03:57:3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