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1AB-42DA-4D91-9911-126E812C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36F-164D-450E-9E35-BB667E1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498-1C2E-4E3B-919B-C25A9523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253-FC29-4599-9F47-CC06A5FD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8AD-FBCE-49AC-8478-E835436B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DDF-9464-4D10-B664-93C2F686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9BF-8058-4B07-BC87-0A14171F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656-84CE-41DB-B00A-FB37B48F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663-E932-44E6-AB95-7F5B2EB7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264-D5F2-488A-8D96-F1F8480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EEF-1C15-4F0C-994B-231BC34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544-48AF-4801-93D1-94FF59E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F6DF-2B60-4A1F-8F3E-7F7F3A91F4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48 49 演示用PPT-01.jpg"/>
          <p:cNvPicPr/>
          <p:nvPr/>
        </p:nvPicPr>
        <p:blipFill>
          <a:blip r:embed="rId2"/>
          <a:stretch/>
        </p:blipFill>
        <p:spPr>
          <a:xfrm>
            <a:off x="0" y="-3240"/>
            <a:ext cx="9286920" cy="697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R\美吉姆资料\资料\48 49 演示用PPT-01.png"/>
          <p:cNvPicPr/>
          <p:nvPr/>
        </p:nvPicPr>
        <p:blipFill>
          <a:blip r:embed="rId1"/>
          <a:stretch/>
        </p:blipFill>
        <p:spPr>
          <a:xfrm>
            <a:off x="179280" y="-316080"/>
            <a:ext cx="8964720" cy="6607440"/>
          </a:xfrm>
          <a:prstGeom prst="rect">
            <a:avLst/>
          </a:prstGeom>
          <a:ln w="0">
            <a:noFill/>
          </a:ln>
        </p:spPr>
      </p:pic>
      <p:pic>
        <p:nvPicPr>
          <p:cNvPr id="43" name="矩形 4" descr=""/>
          <p:cNvPicPr/>
          <p:nvPr/>
        </p:nvPicPr>
        <p:blipFill>
          <a:blip r:embed="rId2"/>
          <a:stretch/>
        </p:blipFill>
        <p:spPr>
          <a:xfrm>
            <a:off x="3273480" y="1401840"/>
            <a:ext cx="5870520" cy="35481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5" descr=""/>
          <p:cNvPicPr/>
          <p:nvPr/>
        </p:nvPicPr>
        <p:blipFill>
          <a:blip r:embed="rId3"/>
          <a:stretch/>
        </p:blipFill>
        <p:spPr>
          <a:xfrm>
            <a:off x="4791240" y="4157640"/>
            <a:ext cx="28414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611280" y="4046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矩形 3" descr=""/>
          <p:cNvPicPr/>
          <p:nvPr/>
        </p:nvPicPr>
        <p:blipFill>
          <a:blip r:embed="rId1"/>
          <a:stretch/>
        </p:blipFill>
        <p:spPr>
          <a:xfrm>
            <a:off x="549360" y="1195560"/>
            <a:ext cx="5138640" cy="4340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www.helloparty.com.cn/home/upload/gpic/20110418/3563903c319eb852d2ad74ffda8d41f8.jpg"/>
          <p:cNvPicPr/>
          <p:nvPr/>
        </p:nvPicPr>
        <p:blipFill>
          <a:blip r:embed="rId2"/>
          <a:stretch/>
        </p:blipFill>
        <p:spPr>
          <a:xfrm>
            <a:off x="5867280" y="3429000"/>
            <a:ext cx="303048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t1.baidu.com/it/u=591329827,2702322854&amp;fm=0&amp;gp=0.jpg"/>
          <p:cNvPicPr/>
          <p:nvPr/>
        </p:nvPicPr>
        <p:blipFill>
          <a:blip r:embed="rId3"/>
          <a:stretch/>
        </p:blipFill>
        <p:spPr>
          <a:xfrm>
            <a:off x="5867280" y="1052640"/>
            <a:ext cx="30258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539640" y="539640"/>
            <a:ext cx="80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矩形 3" descr=""/>
          <p:cNvPicPr/>
          <p:nvPr/>
        </p:nvPicPr>
        <p:blipFill>
          <a:blip r:embed="rId1"/>
          <a:stretch/>
        </p:blipFill>
        <p:spPr>
          <a:xfrm>
            <a:off x="476280" y="1195560"/>
            <a:ext cx="4960800" cy="305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ncnxsp.com/product/149201132133157.jpg"/>
          <p:cNvPicPr/>
          <p:nvPr/>
        </p:nvPicPr>
        <p:blipFill>
          <a:blip r:embed="rId2"/>
          <a:stretch/>
        </p:blipFill>
        <p:spPr>
          <a:xfrm>
            <a:off x="5435640" y="907920"/>
            <a:ext cx="3133800" cy="225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a2.att.hudong.com/33/06/01300000136532120893069571230_s.jpg"/>
          <p:cNvPicPr/>
          <p:nvPr/>
        </p:nvPicPr>
        <p:blipFill>
          <a:blip r:embed="rId3"/>
          <a:stretch/>
        </p:blipFill>
        <p:spPr>
          <a:xfrm>
            <a:off x="5580000" y="342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42880" y="110880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、中心提前做好环境布置，以红色为主，凸显新春佳节热闹红火的气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、可以提前通知家长，为宝宝准备中式服装出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3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、现场食品需保证安全、卫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4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、活动现场设施及布置装饰较多，活动全程注意保证小朋友安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539640" y="404640"/>
            <a:ext cx="80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468360" y="40464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春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53964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天泰地泰三阳泰       家和人和万事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喜居宝地千年旺       福照家门万事兴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一帆风顺吉星到       万事如意福临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一年四季行好运       八方财宝进家门        横批：家和万事兴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财源滚滚随春到       喜气洋洋伴福来        横批：财源广进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和顺一门有百福       平安二字值千金        横批：万象更新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汉仪中圆简"/>
                <a:ea typeface="汉仪中圆简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矩形 1" descr=""/>
          <p:cNvPicPr/>
          <p:nvPr/>
        </p:nvPicPr>
        <p:blipFill>
          <a:blip r:embed="rId1"/>
          <a:stretch/>
        </p:blipFill>
        <p:spPr>
          <a:xfrm>
            <a:off x="1103400" y="500040"/>
            <a:ext cx="4767120" cy="22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PR\美吉姆资料\资料\Mymo-02.png"/>
          <p:cNvPicPr/>
          <p:nvPr/>
        </p:nvPicPr>
        <p:blipFill>
          <a:blip r:embed="rId2"/>
          <a:stretch/>
        </p:blipFill>
        <p:spPr>
          <a:xfrm>
            <a:off x="3492360" y="1125360"/>
            <a:ext cx="3768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684360" y="1125360"/>
            <a:ext cx="836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  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丰富会员活动，提高会员满意度，维护会员忠诚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  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邀约非会员参与，展示美吉姆形象，促进会员转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  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新春民俗文化体验，营造传统节日气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684360" y="404640"/>
            <a:ext cx="79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活动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c.hiphotos.baidu.com/baike/pic/item/79f0f736afc3793120217c06ebc4b74543a91157.jpg"/>
          <p:cNvPicPr/>
          <p:nvPr/>
        </p:nvPicPr>
        <p:blipFill>
          <a:blip r:embed="rId1"/>
          <a:stretch/>
        </p:blipFill>
        <p:spPr>
          <a:xfrm>
            <a:off x="684360" y="2952720"/>
            <a:ext cx="62420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611280" y="4046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活动概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635040" y="1125360"/>
            <a:ext cx="472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活动主题</a:t>
            </a: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: 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迎新春 闹元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          —— 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美吉姆新春庙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活动地点：美吉姆中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活动时间：</a:t>
            </a: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2012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月</a:t>
            </a: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24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参与人员：会员家庭、非会员家庭、工作人员、合作伙伴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活动费用：建议每个参与家庭收费</a:t>
            </a: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168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元，一个会员家庭带一个非会员家庭参与共</a:t>
            </a:r>
            <a:r>
              <a:rPr b="0" lang="en-US" sz="2000" spc="-1" strike="noStrike">
                <a:solidFill>
                  <a:srgbClr val="404040"/>
                </a:solidFill>
                <a:latin typeface="幼圆"/>
                <a:ea typeface="幼圆"/>
              </a:rPr>
              <a:t>218</a:t>
            </a:r>
            <a:r>
              <a:rPr b="0" lang="zh-CN" sz="2000" spc="-1" strike="noStrike">
                <a:solidFill>
                  <a:srgbClr val="404040"/>
                </a:solidFill>
                <a:latin typeface="幼圆"/>
                <a:ea typeface="幼圆"/>
              </a:rPr>
              <a:t>元（具体费用按中心情况安排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.hiphotos.baidu.com/baike/c%3Dbaike%2C10%2C95/sign=f3979892728b4710da2faa9daaa5a6d1/5d6034a85edf8db182251cd70923dd54564e747d.jpg"/>
          <p:cNvPicPr/>
          <p:nvPr/>
        </p:nvPicPr>
        <p:blipFill>
          <a:blip r:embed="rId1"/>
          <a:stretch/>
        </p:blipFill>
        <p:spPr>
          <a:xfrm>
            <a:off x="5905440" y="2205000"/>
            <a:ext cx="27259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611280" y="485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矩形 3" descr=""/>
          <p:cNvPicPr/>
          <p:nvPr/>
        </p:nvPicPr>
        <p:blipFill>
          <a:blip r:embed="rId1"/>
          <a:stretch/>
        </p:blipFill>
        <p:spPr>
          <a:xfrm>
            <a:off x="560520" y="1212840"/>
            <a:ext cx="4120920" cy="443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bjrcb.com/upload/info/201002/12671536056560001.jpg"/>
          <p:cNvPicPr/>
          <p:nvPr/>
        </p:nvPicPr>
        <p:blipFill>
          <a:blip r:embed="rId2"/>
          <a:stretch/>
        </p:blipFill>
        <p:spPr>
          <a:xfrm>
            <a:off x="5508720" y="692280"/>
            <a:ext cx="2857320" cy="26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jsedu.org/xinwen/images/images/2008/02/dwb_20080221094322_3.jpg"/>
          <p:cNvPicPr/>
          <p:nvPr/>
        </p:nvPicPr>
        <p:blipFill>
          <a:blip r:embed="rId3"/>
          <a:stretch/>
        </p:blipFill>
        <p:spPr>
          <a:xfrm>
            <a:off x="5508720" y="357336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539640" y="404640"/>
            <a:ext cx="80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矩形 3" descr=""/>
          <p:cNvPicPr/>
          <p:nvPr/>
        </p:nvPicPr>
        <p:blipFill>
          <a:blip r:embed="rId1"/>
          <a:stretch/>
        </p:blipFill>
        <p:spPr>
          <a:xfrm>
            <a:off x="476280" y="1195560"/>
            <a:ext cx="84186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468360" y="40464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矩形 3" descr=""/>
          <p:cNvPicPr/>
          <p:nvPr/>
        </p:nvPicPr>
        <p:blipFill>
          <a:blip r:embed="rId1"/>
          <a:stretch/>
        </p:blipFill>
        <p:spPr>
          <a:xfrm>
            <a:off x="401760" y="1195560"/>
            <a:ext cx="85662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468360" y="40464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矩形 3" descr=""/>
          <p:cNvPicPr/>
          <p:nvPr/>
        </p:nvPicPr>
        <p:blipFill>
          <a:blip r:embed="rId1"/>
          <a:stretch/>
        </p:blipFill>
        <p:spPr>
          <a:xfrm>
            <a:off x="401760" y="1195560"/>
            <a:ext cx="5773680" cy="39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yjzzxx.cn/xspd/UploadFiles_6730/201002/20100226144357782.jpg"/>
          <p:cNvPicPr/>
          <p:nvPr/>
        </p:nvPicPr>
        <p:blipFill>
          <a:blip r:embed="rId2"/>
          <a:stretch/>
        </p:blipFill>
        <p:spPr>
          <a:xfrm>
            <a:off x="6443640" y="549360"/>
            <a:ext cx="2232000" cy="297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xiaohb.com/ssnew/attachments/2011/02/20602_201102171054411Ey7Y.jpg"/>
          <p:cNvPicPr/>
          <p:nvPr/>
        </p:nvPicPr>
        <p:blipFill>
          <a:blip r:embed="rId3"/>
          <a:stretch/>
        </p:blipFill>
        <p:spPr>
          <a:xfrm>
            <a:off x="6227640" y="3860640"/>
            <a:ext cx="2691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68360" y="40464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矩形 3" descr=""/>
          <p:cNvPicPr/>
          <p:nvPr/>
        </p:nvPicPr>
        <p:blipFill>
          <a:blip r:embed="rId1"/>
          <a:stretch/>
        </p:blipFill>
        <p:spPr>
          <a:xfrm>
            <a:off x="401760" y="1195560"/>
            <a:ext cx="84931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576360" y="404640"/>
            <a:ext cx="80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琥珀"/>
                <a:ea typeface="华文琥珀"/>
              </a:rPr>
              <a:t>环节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矩形 3" descr=""/>
          <p:cNvPicPr/>
          <p:nvPr/>
        </p:nvPicPr>
        <p:blipFill>
          <a:blip r:embed="rId1"/>
          <a:stretch/>
        </p:blipFill>
        <p:spPr>
          <a:xfrm>
            <a:off x="512640" y="1127160"/>
            <a:ext cx="83138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h</cp:lastModifiedBy>
  <dcterms:modified xsi:type="dcterms:W3CDTF">2015-02-06T07:56:38Z</dcterms:modified>
  <cp:revision>3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37345</vt:lpwstr>
  </property>
  <property fmtid="{D5CDD505-2E9C-101B-9397-08002B2CF9AE}" pid="3" name="name">
    <vt:lpwstr>A000520150206A28POFW.ppt</vt:lpwstr>
  </property>
</Properties>
</file>