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DEC-BE34-4AB1-8DCB-98B39D0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DCA-DCBD-45CF-A5B4-53BA9BBF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547-65D5-44F8-AACB-B43EA35D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0D0-D429-4C91-B967-91ED78FF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6D7-1E4C-4DB4-B046-1AB940C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715-E4E4-4814-ACED-37DB7023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56C-F9F5-4DA6-AEDC-D361D66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4BC-6751-4F4B-A02E-81FAAB11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2E5-291F-4C33-B8EA-E8D24036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CE5-70B2-4B2B-8DE0-53487D19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5F9-BB39-4695-A04F-2CBBEF0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AD1-1B8E-4191-868A-FED4DAAE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383-35FB-48D5-B37F-DB349714C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iankang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2286000" y="20653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中倩简体"/>
                <a:ea typeface="方正中倩简体"/>
              </a:rPr>
              <a:t>西西软件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iankang06"/>
          <p:cNvPicPr/>
          <p:nvPr/>
        </p:nvPicPr>
        <p:blipFill>
          <a:blip r:embed="rId1"/>
          <a:stretch/>
        </p:blipFill>
        <p:spPr>
          <a:xfrm>
            <a:off x="-762120" y="-30492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2297160" y="125892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2362320" y="1066680"/>
            <a:ext cx="6432480" cy="48276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157640" y="115236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297160" y="21304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2362320" y="1938240"/>
            <a:ext cx="6432480" cy="48276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157640" y="20239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2297160" y="300348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362320" y="2811600"/>
            <a:ext cx="6432480" cy="48240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157640" y="28972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297160" y="38750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2362320" y="368316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4157640" y="376884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iankan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27"/>
          <p:cNvGrpSpPr/>
          <p:nvPr/>
        </p:nvGrpSpPr>
        <p:grpSpPr>
          <a:xfrm>
            <a:off x="380880" y="990720"/>
            <a:ext cx="2754360" cy="2754360"/>
            <a:chOff x="380880" y="990720"/>
            <a:chExt cx="2754360" cy="2754360"/>
          </a:xfrm>
        </p:grpSpPr>
        <p:grpSp>
          <p:nvGrpSpPr>
            <p:cNvPr id="64" name="组合 1"/>
            <p:cNvGrpSpPr/>
            <p:nvPr/>
          </p:nvGrpSpPr>
          <p:grpSpPr>
            <a:xfrm>
              <a:off x="380880" y="990720"/>
              <a:ext cx="2754360" cy="2754360"/>
              <a:chOff x="380880" y="990720"/>
              <a:chExt cx="2754360" cy="2754360"/>
            </a:xfrm>
          </p:grpSpPr>
          <p:sp>
            <p:nvSpPr>
              <p:cNvPr id="65" name="椭圆 2"/>
              <p:cNvSpPr/>
              <p:nvPr/>
            </p:nvSpPr>
            <p:spPr>
              <a:xfrm>
                <a:off x="380880" y="99072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椭圆 3"/>
              <p:cNvSpPr/>
              <p:nvPr/>
            </p:nvSpPr>
            <p:spPr>
              <a:xfrm>
                <a:off x="591840" y="120168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Rectangle 13"/>
            <p:cNvSpPr/>
            <p:nvPr/>
          </p:nvSpPr>
          <p:spPr>
            <a:xfrm>
              <a:off x="1071360" y="2014560"/>
              <a:ext cx="13730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46"/>
          <p:cNvSpPr/>
          <p:nvPr/>
        </p:nvSpPr>
        <p:spPr>
          <a:xfrm>
            <a:off x="3657600" y="144792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2"/>
          <p:cNvGrpSpPr/>
          <p:nvPr/>
        </p:nvGrpSpPr>
        <p:grpSpPr>
          <a:xfrm>
            <a:off x="2666880" y="762120"/>
            <a:ext cx="5048280" cy="741240"/>
            <a:chOff x="2666880" y="762120"/>
            <a:chExt cx="5048280" cy="741240"/>
          </a:xfrm>
        </p:grpSpPr>
        <p:sp>
          <p:nvSpPr>
            <p:cNvPr id="70" name="矩形 6"/>
            <p:cNvSpPr/>
            <p:nvPr/>
          </p:nvSpPr>
          <p:spPr>
            <a:xfrm>
              <a:off x="3342960" y="938160"/>
              <a:ext cx="4372200" cy="388800"/>
            </a:xfrm>
            <a:prstGeom prst="rect">
              <a:avLst/>
            </a:prstGeom>
            <a:solidFill>
              <a:srgbClr val="eebb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组合 10"/>
            <p:cNvGrpSpPr/>
            <p:nvPr/>
          </p:nvGrpSpPr>
          <p:grpSpPr>
            <a:xfrm>
              <a:off x="2669760" y="762120"/>
              <a:ext cx="741240" cy="741240"/>
              <a:chOff x="2669760" y="762120"/>
              <a:chExt cx="741240" cy="741240"/>
            </a:xfrm>
          </p:grpSpPr>
          <p:sp>
            <p:nvSpPr>
              <p:cNvPr id="72" name="椭圆 11"/>
              <p:cNvSpPr/>
              <p:nvPr/>
            </p:nvSpPr>
            <p:spPr>
              <a:xfrm>
                <a:off x="2669760" y="762120"/>
                <a:ext cx="74124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12"/>
              <p:cNvSpPr/>
              <p:nvPr/>
            </p:nvSpPr>
            <p:spPr>
              <a:xfrm>
                <a:off x="2716200" y="808560"/>
                <a:ext cx="648360" cy="648360"/>
              </a:xfrm>
              <a:prstGeom prst="ellipse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Box 146"/>
            <p:cNvSpPr/>
            <p:nvPr/>
          </p:nvSpPr>
          <p:spPr>
            <a:xfrm>
              <a:off x="3536640" y="9939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2666880" y="931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46"/>
          <p:cNvSpPr/>
          <p:nvPr/>
        </p:nvSpPr>
        <p:spPr>
          <a:xfrm>
            <a:off x="3886200" y="251460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33"/>
          <p:cNvGrpSpPr/>
          <p:nvPr/>
        </p:nvGrpSpPr>
        <p:grpSpPr>
          <a:xfrm>
            <a:off x="3124080" y="1828800"/>
            <a:ext cx="4340520" cy="739800"/>
            <a:chOff x="3124080" y="1828800"/>
            <a:chExt cx="4340520" cy="739800"/>
          </a:xfrm>
        </p:grpSpPr>
        <p:sp>
          <p:nvSpPr>
            <p:cNvPr id="78" name="矩形 5"/>
            <p:cNvSpPr/>
            <p:nvPr/>
          </p:nvSpPr>
          <p:spPr>
            <a:xfrm>
              <a:off x="3735360" y="200340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组合 7"/>
            <p:cNvGrpSpPr/>
            <p:nvPr/>
          </p:nvGrpSpPr>
          <p:grpSpPr>
            <a:xfrm>
              <a:off x="3126960" y="1828800"/>
              <a:ext cx="739800" cy="739800"/>
              <a:chOff x="3126960" y="1828800"/>
              <a:chExt cx="739800" cy="739800"/>
            </a:xfrm>
          </p:grpSpPr>
          <p:sp>
            <p:nvSpPr>
              <p:cNvPr id="80" name="椭圆 8"/>
              <p:cNvSpPr/>
              <p:nvPr/>
            </p:nvSpPr>
            <p:spPr>
              <a:xfrm>
                <a:off x="3126960" y="18288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9"/>
              <p:cNvSpPr/>
              <p:nvPr/>
            </p:nvSpPr>
            <p:spPr>
              <a:xfrm>
                <a:off x="3172680" y="18745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146"/>
            <p:cNvSpPr/>
            <p:nvPr/>
          </p:nvSpPr>
          <p:spPr>
            <a:xfrm>
              <a:off x="3990960" y="20606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3124080" y="1998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146"/>
          <p:cNvSpPr/>
          <p:nvPr/>
        </p:nvSpPr>
        <p:spPr>
          <a:xfrm>
            <a:off x="3429000" y="3809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34"/>
          <p:cNvGrpSpPr/>
          <p:nvPr/>
        </p:nvGrpSpPr>
        <p:grpSpPr>
          <a:xfrm>
            <a:off x="2895480" y="2971800"/>
            <a:ext cx="5048280" cy="739800"/>
            <a:chOff x="2895480" y="2971800"/>
            <a:chExt cx="5048280" cy="739800"/>
          </a:xfrm>
        </p:grpSpPr>
        <p:sp>
          <p:nvSpPr>
            <p:cNvPr id="86" name="矩形 4"/>
            <p:cNvSpPr/>
            <p:nvPr/>
          </p:nvSpPr>
          <p:spPr>
            <a:xfrm>
              <a:off x="3571560" y="314640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13"/>
            <p:cNvGrpSpPr/>
            <p:nvPr/>
          </p:nvGrpSpPr>
          <p:grpSpPr>
            <a:xfrm>
              <a:off x="2900160" y="2971800"/>
              <a:ext cx="739800" cy="739800"/>
              <a:chOff x="2900160" y="2971800"/>
              <a:chExt cx="739800" cy="739800"/>
            </a:xfrm>
          </p:grpSpPr>
          <p:sp>
            <p:nvSpPr>
              <p:cNvPr id="88" name="椭圆 14"/>
              <p:cNvSpPr/>
              <p:nvPr/>
            </p:nvSpPr>
            <p:spPr>
              <a:xfrm>
                <a:off x="2900160" y="29718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椭圆 15"/>
              <p:cNvSpPr/>
              <p:nvPr/>
            </p:nvSpPr>
            <p:spPr>
              <a:xfrm>
                <a:off x="2945880" y="301752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146"/>
            <p:cNvSpPr/>
            <p:nvPr/>
          </p:nvSpPr>
          <p:spPr>
            <a:xfrm>
              <a:off x="3765240" y="320364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2895480" y="31417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iankan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45"/>
          <p:cNvGrpSpPr/>
          <p:nvPr/>
        </p:nvGrpSpPr>
        <p:grpSpPr>
          <a:xfrm>
            <a:off x="1371600" y="1066680"/>
            <a:ext cx="1036800" cy="1036800"/>
            <a:chOff x="1371600" y="1066680"/>
            <a:chExt cx="1036800" cy="1036800"/>
          </a:xfrm>
        </p:grpSpPr>
        <p:sp>
          <p:nvSpPr>
            <p:cNvPr id="96" name="空心弧 2"/>
            <p:cNvSpPr/>
            <p:nvPr/>
          </p:nvSpPr>
          <p:spPr>
            <a:xfrm>
              <a:off x="1371600" y="1066680"/>
              <a:ext cx="1036800" cy="103680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arcTo wR="518319" hR="518319" stAng="4954" swAng="16193759"/>
                  <a:lnTo>
                    <a:pt x="518222" y="261025"/>
                  </a:lnTo>
                  <a:lnTo>
                    <a:pt x="518222" y="261025"/>
                  </a:lnTo>
                  <a:arcTo wR="257293" hR="257293" stAng="-5401283" swAng="-16193760"/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空心弧 3"/>
            <p:cNvSpPr/>
            <p:nvPr/>
          </p:nvSpPr>
          <p:spPr>
            <a:xfrm>
              <a:off x="1371600" y="106668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518400 h 103680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4" y="1"/>
                  </a:lnTo>
                  <a:arcTo wR="518319" hR="518319" stAng="-5391802" swAng="5391809"/>
                  <a:lnTo>
                    <a:pt x="777478" y="518319"/>
                  </a:lnTo>
                  <a:lnTo>
                    <a:pt x="777478" y="518319"/>
                  </a:lnTo>
                  <a:arcTo wR="259159" hR="259159" stAng="0" swAng="-5391815"/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1603440" y="141912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3"/>
          <p:cNvGrpSpPr/>
          <p:nvPr/>
        </p:nvGrpSpPr>
        <p:grpSpPr>
          <a:xfrm>
            <a:off x="1616040" y="2154240"/>
            <a:ext cx="519120" cy="347760"/>
            <a:chOff x="1616040" y="2154240"/>
            <a:chExt cx="519120" cy="347760"/>
          </a:xfrm>
        </p:grpSpPr>
        <p:sp>
          <p:nvSpPr>
            <p:cNvPr id="100" name="燕尾形 14"/>
            <p:cNvSpPr/>
            <p:nvPr/>
          </p:nvSpPr>
          <p:spPr>
            <a:xfrm rot="5400000">
              <a:off x="17776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燕尾形 15"/>
            <p:cNvSpPr/>
            <p:nvPr/>
          </p:nvSpPr>
          <p:spPr>
            <a:xfrm rot="5400000">
              <a:off x="17776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4"/>
          <p:cNvGrpSpPr/>
          <p:nvPr/>
        </p:nvGrpSpPr>
        <p:grpSpPr>
          <a:xfrm>
            <a:off x="1033560" y="2666880"/>
            <a:ext cx="2243160" cy="3353040"/>
            <a:chOff x="1033560" y="2666880"/>
            <a:chExt cx="2243160" cy="3353040"/>
          </a:xfrm>
        </p:grpSpPr>
        <p:sp>
          <p:nvSpPr>
            <p:cNvPr id="103" name="矩形 1"/>
            <p:cNvSpPr/>
            <p:nvPr/>
          </p:nvSpPr>
          <p:spPr>
            <a:xfrm>
              <a:off x="1033560" y="2666880"/>
              <a:ext cx="2243160" cy="335304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46"/>
            <p:cNvSpPr/>
            <p:nvPr/>
          </p:nvSpPr>
          <p:spPr>
            <a:xfrm>
              <a:off x="1063440" y="3582720"/>
              <a:ext cx="215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2"/>
            <p:cNvSpPr/>
            <p:nvPr/>
          </p:nvSpPr>
          <p:spPr>
            <a:xfrm>
              <a:off x="1120680" y="3404880"/>
              <a:ext cx="2068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46"/>
            <p:cNvSpPr/>
            <p:nvPr/>
          </p:nvSpPr>
          <p:spPr>
            <a:xfrm>
              <a:off x="1074600" y="28396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5"/>
          <p:cNvGrpSpPr/>
          <p:nvPr/>
        </p:nvGrpSpPr>
        <p:grpSpPr>
          <a:xfrm>
            <a:off x="6172200" y="1143000"/>
            <a:ext cx="1036800" cy="1036800"/>
            <a:chOff x="6172200" y="1143000"/>
            <a:chExt cx="1036800" cy="1036800"/>
          </a:xfrm>
        </p:grpSpPr>
        <p:sp>
          <p:nvSpPr>
            <p:cNvPr id="108" name="空心弧 2"/>
            <p:cNvSpPr/>
            <p:nvPr/>
          </p:nvSpPr>
          <p:spPr>
            <a:xfrm>
              <a:off x="6172200" y="1143000"/>
              <a:ext cx="1036800" cy="103680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arcTo wR="518319" hR="518319" stAng="4954" swAng="16193759"/>
                  <a:lnTo>
                    <a:pt x="518222" y="261025"/>
                  </a:lnTo>
                  <a:lnTo>
                    <a:pt x="518222" y="261025"/>
                  </a:lnTo>
                  <a:arcTo wR="257293" hR="257293" stAng="-5401283" swAng="-16193760"/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空心弧 3"/>
            <p:cNvSpPr/>
            <p:nvPr/>
          </p:nvSpPr>
          <p:spPr>
            <a:xfrm>
              <a:off x="6172200" y="1143000"/>
              <a:ext cx="1036800" cy="103680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800"/>
                <a:gd name="textAreaBottom" fmla="*/ 518400 h 103680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4" y="1"/>
                  </a:lnTo>
                  <a:arcTo wR="518319" hR="518319" stAng="-5391802" swAng="5391809"/>
                  <a:lnTo>
                    <a:pt x="777478" y="518319"/>
                  </a:lnTo>
                  <a:lnTo>
                    <a:pt x="777478" y="518319"/>
                  </a:lnTo>
                  <a:arcTo wR="259159" hR="259159" stAng="0" swAng="-5391815"/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6404040" y="149544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3"/>
          <p:cNvGrpSpPr/>
          <p:nvPr/>
        </p:nvGrpSpPr>
        <p:grpSpPr>
          <a:xfrm>
            <a:off x="6431040" y="2225520"/>
            <a:ext cx="519120" cy="347760"/>
            <a:chOff x="6431040" y="2225520"/>
            <a:chExt cx="519120" cy="347760"/>
          </a:xfrm>
        </p:grpSpPr>
        <p:sp>
          <p:nvSpPr>
            <p:cNvPr id="112" name="燕尾形 14"/>
            <p:cNvSpPr/>
            <p:nvPr/>
          </p:nvSpPr>
          <p:spPr>
            <a:xfrm rot="5400000">
              <a:off x="6592680" y="2063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燕尾形 15"/>
            <p:cNvSpPr/>
            <p:nvPr/>
          </p:nvSpPr>
          <p:spPr>
            <a:xfrm rot="5400000">
              <a:off x="6592680" y="221580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4"/>
          <p:cNvGrpSpPr/>
          <p:nvPr/>
        </p:nvGrpSpPr>
        <p:grpSpPr>
          <a:xfrm>
            <a:off x="5848200" y="2666880"/>
            <a:ext cx="1684440" cy="2428920"/>
            <a:chOff x="5848200" y="2666880"/>
            <a:chExt cx="1684440" cy="2428920"/>
          </a:xfrm>
        </p:grpSpPr>
        <p:sp>
          <p:nvSpPr>
            <p:cNvPr id="115" name="矩形 1"/>
            <p:cNvSpPr/>
            <p:nvPr/>
          </p:nvSpPr>
          <p:spPr>
            <a:xfrm>
              <a:off x="5848200" y="2666880"/>
              <a:ext cx="168444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46"/>
            <p:cNvSpPr/>
            <p:nvPr/>
          </p:nvSpPr>
          <p:spPr>
            <a:xfrm>
              <a:off x="5870160" y="33303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32"/>
            <p:cNvSpPr/>
            <p:nvPr/>
          </p:nvSpPr>
          <p:spPr>
            <a:xfrm>
              <a:off x="5913000" y="320184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46"/>
            <p:cNvSpPr/>
            <p:nvPr/>
          </p:nvSpPr>
          <p:spPr>
            <a:xfrm>
              <a:off x="5879880" y="279216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iankang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3"/>
          <p:cNvSpPr/>
          <p:nvPr/>
        </p:nvSpPr>
        <p:spPr>
          <a:xfrm>
            <a:off x="1389240" y="1073160"/>
            <a:ext cx="3335040" cy="47941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1371600"/>
            <a:ext cx="3048120" cy="3578400"/>
          </a:xfrm>
          <a:prstGeom prst="rect">
            <a:avLst/>
          </a:prstGeom>
          <a:solidFill>
            <a:srgbClr val="ffff99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219320" y="251460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13T09:1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