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20C9-FFA7-4DAF-8942-F261B4C25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B374-E1E7-4178-A4D4-4372E0ED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E71E-7BC5-454A-B172-D23A86884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9BD9-739C-46BF-8432-BD6410B3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AC3E-A122-41F4-8CE5-CA7CE88E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9C96-D6EF-4506-A4B6-0489492F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EB87-72A0-48A2-BB68-DFF3885F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6919-F87B-4B00-82CB-748D8B9F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4B32-0E19-4B3C-AD01-E83D7641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CEA2-6D81-4F0C-8D62-D67EB3CD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E9D9-A476-4E00-BD4E-5F67445C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A749-9625-487A-B359-1864F35A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9969-996E-4921-A587-42D5AF27238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071960" y="93348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643280" y="169236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新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8"/>
          <p:cNvSpPr/>
          <p:nvPr/>
        </p:nvSpPr>
        <p:spPr>
          <a:xfrm>
            <a:off x="702360" y="142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9259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52120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/>
          <p:cNvSpPr/>
          <p:nvPr/>
        </p:nvSpPr>
        <p:spPr>
          <a:xfrm>
            <a:off x="314064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73555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428760" y="68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242604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/>
          <p:cNvSpPr/>
          <p:nvPr/>
        </p:nvSpPr>
        <p:spPr>
          <a:xfrm>
            <a:off x="578376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8"/>
          <p:cNvSpPr/>
          <p:nvPr/>
        </p:nvSpPr>
        <p:spPr>
          <a:xfrm>
            <a:off x="734040" y="142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3357720" y="2071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21405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52837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27835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4450680" y="56437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蜗牛与绿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805680" y="139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29977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292608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556956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52837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734040" y="142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4000680" y="250020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35476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58550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662760" y="142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1643040" y="4357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56408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39978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734040" y="142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43549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35690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306900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805680" y="142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37119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54979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/>
          <p:cNvSpPr/>
          <p:nvPr/>
        </p:nvSpPr>
        <p:spPr>
          <a:xfrm>
            <a:off x="306900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662760" y="142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54266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49978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9"/>
          <p:cNvSpPr/>
          <p:nvPr/>
        </p:nvSpPr>
        <p:spPr>
          <a:xfrm>
            <a:off x="27118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/>
          <p:cNvSpPr/>
          <p:nvPr/>
        </p:nvSpPr>
        <p:spPr>
          <a:xfrm>
            <a:off x="29977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7-01T03:21:23Z</dcterms:modified>
  <cp:revision>39</cp:revision>
  <dc:subject/>
  <dc:title>幻灯片 1</dc:title>
</cp:coreProperties>
</file>