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482-9B2F-461C-B049-15CB8DE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F00-ED7F-4D1D-A9AA-F8E235B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4ED-3CB6-4622-8A83-639B678A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A26-9B35-4FB6-8724-E14A8823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E06-F0BF-4504-9F31-D306DF4C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964-F311-4E71-AFD9-72563C25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D46-8E65-4D58-8BCA-BB5FF977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B72-7B9C-4BAF-BEC2-0FCDC226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1C2-D60F-434C-82B7-50F15964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0AA-57DA-4A05-AA3B-2F145F9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B66-B9FC-42FF-A87A-5AE4B79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ADF-14B3-4B6B-B93A-F857725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22BF-5FCA-47ED-93CF-19A8256A7B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259164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3997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36406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00160" y="8571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854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6426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997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2520000" y="85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29260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25916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425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069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569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25200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926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140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3548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2377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500280" y="4929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2500200" y="3357720"/>
            <a:ext cx="15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26629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712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47120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855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854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24487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211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60696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23547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640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252000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5783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426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2426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926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微软用户</cp:lastModifiedBy>
  <dcterms:modified xsi:type="dcterms:W3CDTF">2015-08-03T04:01:46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