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07F0-0020-4C4F-ADB6-377CB34F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4364-C968-4C61-B17D-E80A3036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07F3-9DCC-49CF-B027-6CBD0699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BF33-3484-4AA6-9EB6-AD038987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20D6-3A05-4C92-B7BE-BCB0F06B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3A9B-15E0-4B0E-8E81-F5A8DFFD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D397-9D83-48F2-8990-82FE5173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47E-A56D-4199-B29F-73C3D307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2814-4825-4683-B0A3-2FD4BF9F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E77D-1469-4128-A827-28F8485D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1187-3931-4BD0-A395-CFDB2191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CC29-3AB2-4D66-AE6D-C8D4EF3E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CEFE-B9F4-4185-9681-5F1FEBA2A56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974A-7669-4CF8-82E8-6B1E136A783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0036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504d"/>
                </a:solidFill>
                <a:latin typeface="Arial Unicode MS"/>
              </a:rPr>
              <a:t>愚人节的小丑</a:t>
            </a: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505480"/>
            <a:ext cx="6400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1f497d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0c0"/>
              </a:solidFill>
              <a:latin typeface="Arial Unicode MS"/>
              <a:ea typeface="Arial Unicode MS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0c0"/>
              </a:solidFill>
              <a:latin typeface="Arial Unicode MS"/>
              <a:ea typeface="Arial Unicode MS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52146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504d"/>
                </a:solidFill>
                <a:latin typeface="Calibri"/>
              </a:rPr>
              <a:t>多谢观看！</a:t>
            </a: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1:13:00Z</dcterms:created>
  <dc:creator/>
  <dc:description/>
  <cp:keywords/>
  <dc:language>en-US</dc:language>
  <cp:lastModifiedBy>Sky123.Org</cp:lastModifiedBy>
  <cp:lastPrinted>1899-12-30T00:00:00Z</cp:lastPrinted>
  <dcterms:modified xsi:type="dcterms:W3CDTF">2015-08-06T06:43:17Z</dcterms:modified>
  <cp:revision>3</cp:revision>
  <dc:subject/>
  <dc:title>愚人节的小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790</vt:lpwstr>
  </property>
</Properties>
</file>