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8459788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7A40-0275-479C-B5A8-EDE696A3C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2320" y="260280"/>
            <a:ext cx="6213600" cy="1077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822320" y="1509840"/>
            <a:ext cx="6215040" cy="204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822320" y="3744720"/>
            <a:ext cx="6215040" cy="204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FBD5-909B-4716-8502-550C21FC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2320" y="260280"/>
            <a:ext cx="6213600" cy="1077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2320" y="1509840"/>
            <a:ext cx="3032640" cy="204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06880" y="1509840"/>
            <a:ext cx="3032640" cy="204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822320" y="3744720"/>
            <a:ext cx="3032640" cy="204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06880" y="3744720"/>
            <a:ext cx="3032640" cy="204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4E91-2F45-40B3-AA9C-173CB7815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2320" y="260280"/>
            <a:ext cx="6213600" cy="1077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822320" y="1509840"/>
            <a:ext cx="2000880" cy="204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23640" y="1509840"/>
            <a:ext cx="2000880" cy="204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4960" y="1509840"/>
            <a:ext cx="2000880" cy="204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822320" y="3744720"/>
            <a:ext cx="2000880" cy="204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23640" y="3744720"/>
            <a:ext cx="2000880" cy="204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4960" y="3744720"/>
            <a:ext cx="2000880" cy="204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755B-DCFB-46E6-996A-5A54A17E6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E398F-2B7D-44A6-9564-8C9FE681D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2320" y="260280"/>
            <a:ext cx="6213600" cy="1077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2320" y="1509840"/>
            <a:ext cx="621504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1A9B-BBA6-4376-A316-E9609322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2320" y="260280"/>
            <a:ext cx="6213600" cy="1077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22320" y="1509840"/>
            <a:ext cx="6215040" cy="42782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CAD2-3CF6-48D3-91C5-AF23EC7B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2320" y="260280"/>
            <a:ext cx="6213600" cy="1077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822320" y="1509840"/>
            <a:ext cx="3032640" cy="42782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06880" y="1509840"/>
            <a:ext cx="3032640" cy="42782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C910-9419-401A-91B6-12896382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2320" y="260280"/>
            <a:ext cx="6213600" cy="1077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EC73-F4C0-49F5-B83C-D8B14627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822320" y="260280"/>
            <a:ext cx="621360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E018-F9F1-4B5E-8EFE-30C93DDD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2320" y="260280"/>
            <a:ext cx="6213600" cy="1077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2320" y="1509840"/>
            <a:ext cx="3032640" cy="204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06880" y="1509840"/>
            <a:ext cx="3032640" cy="42782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822320" y="3744720"/>
            <a:ext cx="3032640" cy="204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24A0-70FD-43C4-AF26-6D8D0BB4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2320" y="260280"/>
            <a:ext cx="6213600" cy="1077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822320" y="1509840"/>
            <a:ext cx="621504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0135-BD84-4355-82D0-18578653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22320" y="260280"/>
            <a:ext cx="6213600" cy="1077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822320" y="1509840"/>
            <a:ext cx="3032640" cy="42782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06880" y="1509840"/>
            <a:ext cx="3032640" cy="204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06880" y="3744720"/>
            <a:ext cx="3032640" cy="204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F2B8-3E69-42DD-8624-5D20FC15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22320" y="260280"/>
            <a:ext cx="6213600" cy="1077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2320" y="1509840"/>
            <a:ext cx="3032640" cy="204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06880" y="1509840"/>
            <a:ext cx="3032640" cy="204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822320" y="3744720"/>
            <a:ext cx="6215040" cy="204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47FC-0FAA-41C8-A7E7-62C452B5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2320" y="260280"/>
            <a:ext cx="6213600" cy="1077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22320" y="1509840"/>
            <a:ext cx="6215040" cy="204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822320" y="3744720"/>
            <a:ext cx="6215040" cy="204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7576-FA5F-4418-AB02-0D9C7C02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22320" y="260280"/>
            <a:ext cx="6213600" cy="1077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2320" y="1509840"/>
            <a:ext cx="3032640" cy="204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06880" y="1509840"/>
            <a:ext cx="3032640" cy="204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2320" y="3744720"/>
            <a:ext cx="3032640" cy="204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06880" y="3744720"/>
            <a:ext cx="3032640" cy="204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AC95-D66B-48A6-8B94-F13A4CDF5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2320" y="260280"/>
            <a:ext cx="6213600" cy="1077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822320" y="1509840"/>
            <a:ext cx="2000880" cy="204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23640" y="1509840"/>
            <a:ext cx="2000880" cy="204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4960" y="1509840"/>
            <a:ext cx="2000880" cy="204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822320" y="3744720"/>
            <a:ext cx="2000880" cy="204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23640" y="3744720"/>
            <a:ext cx="2000880" cy="204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4960" y="3744720"/>
            <a:ext cx="2000880" cy="204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C24A-8A4B-49F2-95B5-36477C4A7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93421-851C-4840-A674-99E5C1A05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2320" y="260280"/>
            <a:ext cx="6213600" cy="1077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822320" y="1509840"/>
            <a:ext cx="621504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B676E-BB90-4647-B903-6B5473C7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2320" y="260280"/>
            <a:ext cx="6213600" cy="1077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822320" y="1509840"/>
            <a:ext cx="6215040" cy="42782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24380-B839-40E7-8DB4-7DCB3DFC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2320" y="260280"/>
            <a:ext cx="6213600" cy="1077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822320" y="1509840"/>
            <a:ext cx="3032640" cy="42782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06880" y="1509840"/>
            <a:ext cx="3032640" cy="42782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F7369-34BD-46DC-90DC-585B98AD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2320" y="260280"/>
            <a:ext cx="6213600" cy="1077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7FBC4-EB44-47DD-94D9-E55C8953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2320" y="260280"/>
            <a:ext cx="6213600" cy="1077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2320" y="1509840"/>
            <a:ext cx="6215040" cy="42782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2A5D-FF43-4990-AB79-623CD9E4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822320" y="260280"/>
            <a:ext cx="621360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34FBE-75D5-494E-A54C-CC95E907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2320" y="260280"/>
            <a:ext cx="6213600" cy="1077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22320" y="1509840"/>
            <a:ext cx="3032640" cy="204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06880" y="1509840"/>
            <a:ext cx="3032640" cy="42782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822320" y="3744720"/>
            <a:ext cx="3032640" cy="204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5411C-4E30-42E8-86C8-BE294158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22320" y="260280"/>
            <a:ext cx="6213600" cy="1077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822320" y="1509840"/>
            <a:ext cx="3032640" cy="42782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06880" y="1509840"/>
            <a:ext cx="3032640" cy="204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06880" y="3744720"/>
            <a:ext cx="3032640" cy="204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16288-479B-4897-9D03-9C552B25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2320" y="260280"/>
            <a:ext cx="6213600" cy="1077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822320" y="1509840"/>
            <a:ext cx="3032640" cy="204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06880" y="1509840"/>
            <a:ext cx="3032640" cy="204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822320" y="3744720"/>
            <a:ext cx="6215040" cy="204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44F32-4D11-43DC-AF6D-45B0845E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22320" y="260280"/>
            <a:ext cx="6213600" cy="1077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822320" y="1509840"/>
            <a:ext cx="6215040" cy="204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822320" y="3744720"/>
            <a:ext cx="6215040" cy="204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13F7B-3B20-4774-BA62-CFDB6D46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22320" y="260280"/>
            <a:ext cx="6213600" cy="1077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22320" y="1509840"/>
            <a:ext cx="3032640" cy="204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06880" y="1509840"/>
            <a:ext cx="3032640" cy="204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822320" y="3744720"/>
            <a:ext cx="3032640" cy="204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06880" y="3744720"/>
            <a:ext cx="3032640" cy="204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B3DC8-7816-43D0-AD81-7A64519AA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22320" y="260280"/>
            <a:ext cx="6213600" cy="1077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822320" y="1509840"/>
            <a:ext cx="2000880" cy="204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923640" y="1509840"/>
            <a:ext cx="2000880" cy="204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4960" y="1509840"/>
            <a:ext cx="2000880" cy="204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822320" y="3744720"/>
            <a:ext cx="2000880" cy="204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923640" y="3744720"/>
            <a:ext cx="2000880" cy="204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4960" y="3744720"/>
            <a:ext cx="2000880" cy="204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5FF19-99F5-4E6E-9EF4-5E594A6CE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2320" y="260280"/>
            <a:ext cx="6213600" cy="1077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22320" y="1509840"/>
            <a:ext cx="3032640" cy="42782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06880" y="1509840"/>
            <a:ext cx="3032640" cy="42782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C3F2-FDFA-4AC1-B289-CC28E4E7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2320" y="260280"/>
            <a:ext cx="6213600" cy="1077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0E8E-C29E-47E3-AC9B-55B361F5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22320" y="260280"/>
            <a:ext cx="621360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A92D-4BC7-41B3-B742-C7A988F4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2320" y="260280"/>
            <a:ext cx="6213600" cy="1077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822320" y="1509840"/>
            <a:ext cx="3032640" cy="204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06880" y="1509840"/>
            <a:ext cx="3032640" cy="42782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822320" y="3744720"/>
            <a:ext cx="3032640" cy="204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2C04-453B-4C92-B0C3-44C8C35A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22320" y="260280"/>
            <a:ext cx="6213600" cy="1077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822320" y="1509840"/>
            <a:ext cx="3032640" cy="42782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06880" y="1509840"/>
            <a:ext cx="3032640" cy="204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06880" y="3744720"/>
            <a:ext cx="3032640" cy="204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FFCC-BEB2-47E7-AD51-EAAFE442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2320" y="260280"/>
            <a:ext cx="6213600" cy="1077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822320" y="1509840"/>
            <a:ext cx="3032640" cy="204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06880" y="1509840"/>
            <a:ext cx="3032640" cy="204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822320" y="3744720"/>
            <a:ext cx="6215040" cy="2040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BF0A-2D71-47CC-AD3C-C33DF301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drops_8-wallpaper-1440x1080" descr=""/>
          <p:cNvPicPr/>
          <p:nvPr/>
        </p:nvPicPr>
        <p:blipFill>
          <a:blip r:embed="rId2"/>
          <a:stretch/>
        </p:blipFill>
        <p:spPr>
          <a:xfrm>
            <a:off x="0" y="-4680"/>
            <a:ext cx="8459640" cy="64846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-4680"/>
            <a:ext cx="8459640" cy="4673520"/>
          </a:xfrm>
          <a:prstGeom prst="rect">
            <a:avLst/>
          </a:prstGeom>
          <a:solidFill>
            <a:srgbClr val="c0c0c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23360" y="260280"/>
            <a:ext cx="7612200" cy="10778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23360" y="1514160"/>
            <a:ext cx="7612200" cy="2917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5200" indent="-295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42960" indent="-2476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88920" indent="-1983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84200" indent="-199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778040" indent="-19692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778040" indent="-1969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778040" indent="-1969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23360" y="5899320"/>
            <a:ext cx="1971720" cy="4507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889360" y="5899320"/>
            <a:ext cx="2681280" cy="4507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063840" y="5899320"/>
            <a:ext cx="1971720" cy="4507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2945-F56F-4044-B5DE-FF6DF5649422}" type="slidenum"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drops_8-wallpaper-1440x1080" descr=""/>
          <p:cNvPicPr/>
          <p:nvPr/>
        </p:nvPicPr>
        <p:blipFill>
          <a:blip r:embed="rId2"/>
          <a:stretch/>
        </p:blipFill>
        <p:spPr>
          <a:xfrm>
            <a:off x="0" y="0"/>
            <a:ext cx="8459640" cy="6480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6480" y="2999880"/>
            <a:ext cx="7188480" cy="10573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7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23360" y="5899320"/>
            <a:ext cx="1971720" cy="4507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889360" y="5899320"/>
            <a:ext cx="2681280" cy="4507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063840" y="5899320"/>
            <a:ext cx="1971720" cy="4507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2E27-FB3A-4118-9C0B-73733A6A424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23000" y="1516320"/>
            <a:ext cx="7613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3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  <a:p>
            <a:pPr lvl="1" marL="395280" indent="0"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300" spc="-1" strike="noStrike">
                <a:solidFill>
                  <a:srgbClr val="a0c6ea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a0c6ea"/>
              </a:solidFill>
              <a:latin typeface="Arial"/>
            </a:endParaRPr>
          </a:p>
          <a:p>
            <a:pPr lvl="2" marL="790560" algn="ctr"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184400" algn="ctr"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4" marL="1581120" algn="ctr">
              <a:spcBef>
                <a:spcPts val="24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5" marL="158112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6" marL="158112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drops_8-wallpaper-1440x1080" descr=""/>
          <p:cNvPicPr/>
          <p:nvPr/>
        </p:nvPicPr>
        <p:blipFill>
          <a:blip r:embed="rId2"/>
          <a:stretch/>
        </p:blipFill>
        <p:spPr>
          <a:xfrm>
            <a:off x="0" y="-3240"/>
            <a:ext cx="8459640" cy="64850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71680" y="-3240"/>
            <a:ext cx="6987960" cy="6472440"/>
          </a:xfrm>
          <a:prstGeom prst="rect">
            <a:avLst/>
          </a:prstGeom>
          <a:solidFill>
            <a:srgbClr val="c0c0c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22320" y="260280"/>
            <a:ext cx="6213600" cy="1077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0" lang="en-US" sz="31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822320" y="1509840"/>
            <a:ext cx="6215040" cy="42782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476"/>
              </a:spcBef>
              <a:buClr>
                <a:srgbClr val="009999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1" marL="727200" indent="-279360">
              <a:spcBef>
                <a:spcPts val="476"/>
              </a:spcBef>
              <a:buClr>
                <a:srgbClr val="009999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2" marL="1119240" indent="-223920">
              <a:spcBef>
                <a:spcPts val="476"/>
              </a:spcBef>
              <a:buClr>
                <a:srgbClr val="009999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3" marL="1566720" indent="-223560">
              <a:spcBef>
                <a:spcPts val="476"/>
              </a:spcBef>
              <a:buClr>
                <a:srgbClr val="009999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4" marL="2014560" indent="-223920">
              <a:spcBef>
                <a:spcPts val="476"/>
              </a:spcBef>
              <a:buClr>
                <a:srgbClr val="009999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5" marL="2014560" indent="-2239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6" marL="2014560" indent="-2239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23360" y="5899320"/>
            <a:ext cx="1971720" cy="4507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889360" y="5899320"/>
            <a:ext cx="2681280" cy="4507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063840" y="5899320"/>
            <a:ext cx="1971720" cy="4507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2444-0CDB-4220-A4A6-CB7D0D547038}" type="slidenum">
              <a: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36480" y="2999880"/>
            <a:ext cx="7188480" cy="10573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zh-CN" sz="2700" spc="-1" strike="noStrike">
                <a:solidFill>
                  <a:srgbClr val="009999"/>
                </a:solidFill>
                <a:latin typeface="Arial"/>
              </a:rPr>
              <a:t>雨雾</a:t>
            </a: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267920" y="4173480"/>
            <a:ext cx="5923080" cy="4176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zh-CN" sz="13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3360" y="260280"/>
            <a:ext cx="7612200" cy="10778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Arial"/>
              </a:rPr>
              <a:t>雨雾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23720" y="1514160"/>
            <a:ext cx="3735360" cy="2917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5200" indent="-2952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zh-CN" sz="2300" spc="-1" strike="noStrike">
                <a:solidFill>
                  <a:srgbClr val="ffffff"/>
                </a:solidFill>
                <a:latin typeface="Arial"/>
              </a:rPr>
              <a:t>雨雾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95200" indent="-2952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zh-CN" sz="2300" spc="-1" strike="noStrike">
                <a:solidFill>
                  <a:srgbClr val="ffffff"/>
                </a:solidFill>
                <a:latin typeface="Arial"/>
              </a:rPr>
              <a:t>雨雾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95200" indent="-2952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zh-CN" sz="2300" spc="-1" strike="noStrike">
                <a:solidFill>
                  <a:srgbClr val="ffffff"/>
                </a:solidFill>
                <a:latin typeface="Arial"/>
              </a:rPr>
              <a:t>雨雾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300560" y="1514160"/>
            <a:ext cx="3735360" cy="2917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5200" indent="-2952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zh-CN" sz="2300" spc="-1" strike="noStrike">
                <a:solidFill>
                  <a:srgbClr val="ffffff"/>
                </a:solidFill>
                <a:latin typeface="Arial"/>
              </a:rPr>
              <a:t>雨雾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95200" indent="-2952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zh-CN" sz="2300" spc="-1" strike="noStrike">
                <a:solidFill>
                  <a:srgbClr val="ffffff"/>
                </a:solidFill>
                <a:latin typeface="Arial"/>
              </a:rPr>
              <a:t>雨雾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95200" indent="-2952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zh-CN" sz="2300" spc="-1" strike="noStrike">
                <a:solidFill>
                  <a:srgbClr val="ffffff"/>
                </a:solidFill>
                <a:latin typeface="Arial"/>
              </a:rPr>
              <a:t>雨雾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06720" y="649440"/>
            <a:ext cx="4751280" cy="92376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99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7280" y="649440"/>
            <a:ext cx="2160360" cy="923760"/>
          </a:xfrm>
          <a:prstGeom prst="roundRect">
            <a:avLst>
              <a:gd name="adj" fmla="val 16667"/>
            </a:avLst>
          </a:prstGeom>
          <a:solidFill>
            <a:srgbClr val="96969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969696"/>
                </a:solidFill>
                <a:latin typeface="Arial"/>
                <a:ea typeface="微软雅黑"/>
              </a:rPr>
              <a:t>雨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7280" y="1943280"/>
            <a:ext cx="2160360" cy="927000"/>
          </a:xfrm>
          <a:prstGeom prst="roundRect">
            <a:avLst>
              <a:gd name="adj" fmla="val 16667"/>
            </a:avLst>
          </a:prstGeom>
          <a:solidFill>
            <a:srgbClr val="96969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969696"/>
                </a:solidFill>
                <a:latin typeface="Arial"/>
                <a:ea typeface="微软雅黑"/>
              </a:rPr>
              <a:t>雨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7280" y="3240000"/>
            <a:ext cx="2160360" cy="925560"/>
          </a:xfrm>
          <a:prstGeom prst="roundRect">
            <a:avLst>
              <a:gd name="adj" fmla="val 16667"/>
            </a:avLst>
          </a:prstGeom>
          <a:solidFill>
            <a:srgbClr val="96969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969696"/>
                </a:solidFill>
                <a:latin typeface="Arial"/>
                <a:ea typeface="微软雅黑"/>
              </a:rPr>
              <a:t>雨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06720" y="1943280"/>
            <a:ext cx="4751280" cy="92700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99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06720" y="3240000"/>
            <a:ext cx="4751280" cy="92556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99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9360" y="649440"/>
            <a:ext cx="2160360" cy="923760"/>
          </a:xfrm>
          <a:prstGeom prst="roundRect">
            <a:avLst>
              <a:gd name="adj" fmla="val 16667"/>
            </a:avLst>
          </a:prstGeom>
          <a:solidFill>
            <a:srgbClr val="009999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Arial"/>
                <a:ea typeface="微软雅黑"/>
              </a:rPr>
              <a:t>雨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9360" y="1943280"/>
            <a:ext cx="2160360" cy="927000"/>
          </a:xfrm>
          <a:prstGeom prst="roundRect">
            <a:avLst>
              <a:gd name="adj" fmla="val 16667"/>
            </a:avLst>
          </a:prstGeom>
          <a:solidFill>
            <a:srgbClr val="009999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Arial"/>
                <a:ea typeface="微软雅黑"/>
              </a:rPr>
              <a:t>雨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9360" y="3240000"/>
            <a:ext cx="2160360" cy="925560"/>
          </a:xfrm>
          <a:prstGeom prst="roundRect">
            <a:avLst>
              <a:gd name="adj" fmla="val 16667"/>
            </a:avLst>
          </a:prstGeom>
          <a:solidFill>
            <a:srgbClr val="009999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Arial"/>
                <a:ea typeface="微软雅黑"/>
              </a:rPr>
              <a:t>雨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1236600" y="457200"/>
            <a:ext cx="5962680" cy="4002120"/>
            <a:chOff x="1236600" y="457200"/>
            <a:chExt cx="5962680" cy="4002120"/>
          </a:xfrm>
        </p:grpSpPr>
        <p:sp>
          <p:nvSpPr>
            <p:cNvPr id="143" name=""/>
            <p:cNvSpPr/>
            <p:nvPr/>
          </p:nvSpPr>
          <p:spPr>
            <a:xfrm>
              <a:off x="1236600" y="457200"/>
              <a:ext cx="5962680" cy="1199520"/>
            </a:xfrm>
            <a:prstGeom prst="rightArrow">
              <a:avLst>
                <a:gd name="adj1" fmla="val 50000"/>
                <a:gd name="adj2" fmla="val 36177"/>
              </a:avLst>
            </a:prstGeom>
            <a:solidFill>
              <a:srgbClr val="009999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36600" y="757080"/>
              <a:ext cx="5745600" cy="59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248760" tIns="78480" bIns="1864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宋体"/>
                  <a:ea typeface="微软雅黑"/>
                </a:rPr>
                <a:t>雨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36600" y="1382400"/>
              <a:ext cx="1836360" cy="2311200"/>
            </a:xfrm>
            <a:prstGeom prst="rect">
              <a:avLst/>
            </a:prstGeom>
            <a:noFill/>
            <a:ln w="3240">
              <a:solidFill>
                <a:srgbClr val="75b6d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36600" y="1382400"/>
              <a:ext cx="1836360" cy="2311200"/>
            </a:xfrm>
            <a:prstGeom prst="rect">
              <a:avLst/>
            </a:prstGeom>
            <a:noFill/>
            <a:ln w="9360">
              <a:solidFill>
                <a:srgbClr val="00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78480" bIns="78480" anchor="t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9999"/>
                  </a:solidFill>
                  <a:latin typeface="宋体"/>
                  <a:ea typeface="微软雅黑"/>
                </a:rPr>
                <a:t>雨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72960" y="856800"/>
              <a:ext cx="4126320" cy="1199520"/>
            </a:xfrm>
            <a:prstGeom prst="rightArrow">
              <a:avLst>
                <a:gd name="adj1" fmla="val 50000"/>
                <a:gd name="adj2" fmla="val 36183"/>
              </a:avLst>
            </a:prstGeom>
            <a:solidFill>
              <a:srgbClr val="009999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72960" y="1157040"/>
              <a:ext cx="3909240" cy="59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248760" tIns="78480" bIns="1864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宋体"/>
                  <a:ea typeface="微软雅黑"/>
                </a:rPr>
                <a:t>雨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72960" y="1782000"/>
              <a:ext cx="1836360" cy="2311200"/>
            </a:xfrm>
            <a:prstGeom prst="rect">
              <a:avLst/>
            </a:prstGeom>
            <a:noFill/>
            <a:ln w="3240">
              <a:solidFill>
                <a:srgbClr val="4f81b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72960" y="1782000"/>
              <a:ext cx="1836360" cy="2311200"/>
            </a:xfrm>
            <a:prstGeom prst="rect">
              <a:avLst/>
            </a:prstGeom>
            <a:noFill/>
            <a:ln w="9360">
              <a:solidFill>
                <a:srgbClr val="00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78480" bIns="78480" anchor="t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9999"/>
                  </a:solidFill>
                  <a:latin typeface="宋体"/>
                  <a:ea typeface="微软雅黑"/>
                </a:rPr>
                <a:t>雨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09680" y="1256760"/>
              <a:ext cx="2289600" cy="1199520"/>
            </a:xfrm>
            <a:prstGeom prst="rightArrow">
              <a:avLst>
                <a:gd name="adj1" fmla="val 50000"/>
                <a:gd name="adj2" fmla="val 36196"/>
              </a:avLst>
            </a:prstGeom>
            <a:solidFill>
              <a:srgbClr val="009999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909680" y="1557000"/>
              <a:ext cx="2072520" cy="59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248760" tIns="78480" bIns="1864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宋体"/>
                  <a:ea typeface="微软雅黑"/>
                </a:rPr>
                <a:t>雨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09680" y="2181960"/>
              <a:ext cx="1836360" cy="2277360"/>
            </a:xfrm>
            <a:prstGeom prst="rect">
              <a:avLst/>
            </a:prstGeom>
            <a:noFill/>
            <a:ln w="3240">
              <a:solidFill>
                <a:srgbClr val="75b6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09680" y="2181960"/>
              <a:ext cx="1836360" cy="2277360"/>
            </a:xfrm>
            <a:prstGeom prst="rect">
              <a:avLst/>
            </a:prstGeom>
            <a:noFill/>
            <a:ln w="3240">
              <a:solidFill>
                <a:srgbClr val="00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78480" bIns="78480" anchor="t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9999"/>
                  </a:solidFill>
                  <a:latin typeface="宋体"/>
                  <a:ea typeface="微软雅黑"/>
                </a:rPr>
                <a:t>雨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2320" y="260280"/>
            <a:ext cx="6213600" cy="1077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3100" spc="-1" strike="noStrike">
                <a:solidFill>
                  <a:srgbClr val="ffffff"/>
                </a:solidFill>
                <a:latin typeface="Arial"/>
              </a:rPr>
              <a:t>雨雾</a:t>
            </a:r>
            <a:endParaRPr b="0" lang="en-US" sz="31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822320" y="1509840"/>
            <a:ext cx="6215040" cy="42782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</a:rPr>
              <a:t>雨雾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marL="336600" indent="-336600"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</a:rPr>
              <a:t>雨雾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marL="336600" indent="-336600"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</a:rPr>
              <a:t>雨雾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marL="336600" indent="-336600"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</a:rPr>
              <a:t>雨雾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marL="336600" indent="-336600"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</a:rPr>
              <a:t>雨雾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15:03:54Z</dcterms:created>
  <dc:creator>Administrator</dc:creator>
  <dc:description/>
  <dc:language>en-US</dc:language>
  <cp:lastModifiedBy/>
  <dcterms:modified xsi:type="dcterms:W3CDTF">2015-09-04T03:44:0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