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046-0ED1-4EBA-BE05-B8BE86F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710-46E7-4861-AFDF-31C63344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3DD-12E6-49DB-BD7D-D2F216F0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D7A-A928-48F8-A69E-507A69E9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808-6D16-4706-B007-46FCEE90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03F-3AAD-4BEB-AA5E-3B0B82A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C7C-3295-48A4-896C-1F4DCFA5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B0-5600-4DC3-997C-DEB27F6D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8FC-F73D-4861-90B8-C3F11F9E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1E9-4B02-4A27-8432-B9BE420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565-AB83-472A-847F-3782E02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C6E-93FD-4D90-9538-F520697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A5F5-A803-49D0-B4A0-FA4CECF1FD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4290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医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4929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2"/>
          <p:cNvGrpSpPr/>
          <p:nvPr/>
        </p:nvGrpSpPr>
        <p:grpSpPr>
          <a:xfrm>
            <a:off x="1356840" y="1685880"/>
            <a:ext cx="7061760" cy="4743360"/>
            <a:chOff x="1356840" y="1685880"/>
            <a:chExt cx="7061760" cy="4743360"/>
          </a:xfrm>
        </p:grpSpPr>
        <p:sp>
          <p:nvSpPr>
            <p:cNvPr id="165" name="五边形 10"/>
            <p:cNvSpPr/>
            <p:nvPr/>
          </p:nvSpPr>
          <p:spPr>
            <a:xfrm>
              <a:off x="3565440" y="1685880"/>
              <a:ext cx="4853160" cy="2403360"/>
            </a:xfrm>
            <a:custGeom>
              <a:avLst/>
              <a:gdLst>
                <a:gd name="textAreaLeft" fmla="*/ 0 w 4853160"/>
                <a:gd name="textAreaRight" fmla="*/ 4853520 w 4853160"/>
                <a:gd name="textAreaTop" fmla="*/ 0 h 2403360"/>
                <a:gd name="textAreaBottom" fmla="*/ 2403720 h 24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2" y="0"/>
                  </a:lnTo>
                  <a:lnTo>
                    <a:pt x="21600" y="10800"/>
                  </a:lnTo>
                  <a:lnTo>
                    <a:pt x="162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五边形 11"/>
            <p:cNvSpPr/>
            <p:nvPr/>
          </p:nvSpPr>
          <p:spPr>
            <a:xfrm flipH="1">
              <a:off x="1356480" y="4025880"/>
              <a:ext cx="4853160" cy="2403360"/>
            </a:xfrm>
            <a:custGeom>
              <a:avLst/>
              <a:gdLst>
                <a:gd name="textAreaLeft" fmla="*/ -360 w 4853160"/>
                <a:gd name="textAreaRight" fmla="*/ 4853160 w 4853160"/>
                <a:gd name="textAreaTop" fmla="*/ 0 h 2403360"/>
                <a:gd name="textAreaBottom" fmla="*/ 2403720 h 24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2" y="0"/>
                  </a:lnTo>
                  <a:lnTo>
                    <a:pt x="21600" y="10800"/>
                  </a:lnTo>
                  <a:lnTo>
                    <a:pt x="162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640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3211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6"/>
          <p:cNvGrpSpPr/>
          <p:nvPr/>
        </p:nvGrpSpPr>
        <p:grpSpPr>
          <a:xfrm>
            <a:off x="3002040" y="2286000"/>
            <a:ext cx="3784680" cy="428760"/>
            <a:chOff x="3002040" y="2286000"/>
            <a:chExt cx="3784680" cy="428760"/>
          </a:xfrm>
        </p:grpSpPr>
        <p:sp>
          <p:nvSpPr>
            <p:cNvPr id="45" name="矩形 13"/>
            <p:cNvSpPr/>
            <p:nvPr/>
          </p:nvSpPr>
          <p:spPr>
            <a:xfrm>
              <a:off x="3002040" y="228600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4"/>
            <p:cNvSpPr/>
            <p:nvPr/>
          </p:nvSpPr>
          <p:spPr>
            <a:xfrm>
              <a:off x="3002040" y="235728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7"/>
          <p:cNvGrpSpPr/>
          <p:nvPr/>
        </p:nvGrpSpPr>
        <p:grpSpPr>
          <a:xfrm>
            <a:off x="3002040" y="2928960"/>
            <a:ext cx="3784680" cy="428760"/>
            <a:chOff x="3002040" y="2928960"/>
            <a:chExt cx="3784680" cy="428760"/>
          </a:xfrm>
        </p:grpSpPr>
        <p:sp>
          <p:nvSpPr>
            <p:cNvPr id="48" name="矩形 18"/>
            <p:cNvSpPr/>
            <p:nvPr/>
          </p:nvSpPr>
          <p:spPr>
            <a:xfrm>
              <a:off x="3002040" y="292896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9"/>
            <p:cNvSpPr/>
            <p:nvPr/>
          </p:nvSpPr>
          <p:spPr>
            <a:xfrm>
              <a:off x="3002040" y="300024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"/>
          <p:cNvGrpSpPr/>
          <p:nvPr/>
        </p:nvGrpSpPr>
        <p:grpSpPr>
          <a:xfrm>
            <a:off x="3002040" y="3571920"/>
            <a:ext cx="3784680" cy="428760"/>
            <a:chOff x="3002040" y="3571920"/>
            <a:chExt cx="3784680" cy="428760"/>
          </a:xfrm>
        </p:grpSpPr>
        <p:sp>
          <p:nvSpPr>
            <p:cNvPr id="51" name="矩形 21"/>
            <p:cNvSpPr/>
            <p:nvPr/>
          </p:nvSpPr>
          <p:spPr>
            <a:xfrm>
              <a:off x="3002040" y="357192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22"/>
            <p:cNvSpPr/>
            <p:nvPr/>
          </p:nvSpPr>
          <p:spPr>
            <a:xfrm>
              <a:off x="3002040" y="364320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3"/>
          <p:cNvGrpSpPr/>
          <p:nvPr/>
        </p:nvGrpSpPr>
        <p:grpSpPr>
          <a:xfrm>
            <a:off x="3002040" y="4214880"/>
            <a:ext cx="3784680" cy="428400"/>
            <a:chOff x="3002040" y="4214880"/>
            <a:chExt cx="3784680" cy="428400"/>
          </a:xfrm>
        </p:grpSpPr>
        <p:sp>
          <p:nvSpPr>
            <p:cNvPr id="54" name="矩形 24"/>
            <p:cNvSpPr/>
            <p:nvPr/>
          </p:nvSpPr>
          <p:spPr>
            <a:xfrm>
              <a:off x="3002040" y="421488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5"/>
            <p:cNvSpPr/>
            <p:nvPr/>
          </p:nvSpPr>
          <p:spPr>
            <a:xfrm>
              <a:off x="3002040" y="4286160"/>
              <a:ext cx="37846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4214880" y="8571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4265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426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4992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426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半闭框 10"/>
          <p:cNvSpPr/>
          <p:nvPr/>
        </p:nvSpPr>
        <p:spPr>
          <a:xfrm>
            <a:off x="48578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半闭框 11"/>
          <p:cNvSpPr/>
          <p:nvPr/>
        </p:nvSpPr>
        <p:spPr>
          <a:xfrm flipH="1">
            <a:off x="27860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半闭框 12"/>
          <p:cNvSpPr/>
          <p:nvPr/>
        </p:nvSpPr>
        <p:spPr>
          <a:xfrm flipH="1" flipV="1">
            <a:off x="27860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半闭框 13"/>
          <p:cNvSpPr/>
          <p:nvPr/>
        </p:nvSpPr>
        <p:spPr>
          <a:xfrm flipV="1">
            <a:off x="48578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7" y="666743"/>
                </a:lnTo>
                <a:lnTo>
                  <a:pt x="666743" y="666743"/>
                </a:lnTo>
                <a:lnTo>
                  <a:pt x="666743" y="1333507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3497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斜纹 10"/>
          <p:cNvSpPr/>
          <p:nvPr/>
        </p:nvSpPr>
        <p:spPr>
          <a:xfrm>
            <a:off x="2593800" y="1951200"/>
            <a:ext cx="2478240" cy="2477880"/>
          </a:xfrm>
          <a:custGeom>
            <a:avLst/>
            <a:gdLst>
              <a:gd name="textAreaLeft" fmla="*/ 0 w 2478240"/>
              <a:gd name="textAreaRight" fmla="*/ 1858680 w 2478240"/>
              <a:gd name="textAreaTop" fmla="*/ 0 h 2477880"/>
              <a:gd name="textAreaBottom" fmla="*/ 1858320 h 247788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斜纹 11"/>
          <p:cNvSpPr/>
          <p:nvPr/>
        </p:nvSpPr>
        <p:spPr>
          <a:xfrm flipV="1">
            <a:off x="2593800" y="3236760"/>
            <a:ext cx="2478240" cy="2478240"/>
          </a:xfrm>
          <a:custGeom>
            <a:avLst/>
            <a:gdLst>
              <a:gd name="textAreaLeft" fmla="*/ 0 w 2478240"/>
              <a:gd name="textAreaRight" fmla="*/ 1858680 w 2478240"/>
              <a:gd name="textAreaTop" fmla="*/ 360 h 2478240"/>
              <a:gd name="textAreaBottom" fmla="*/ 1859040 h 247824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斜纹 12"/>
          <p:cNvSpPr/>
          <p:nvPr/>
        </p:nvSpPr>
        <p:spPr>
          <a:xfrm flipH="1" flipV="1">
            <a:off x="5022720" y="3236760"/>
            <a:ext cx="2478240" cy="2478240"/>
          </a:xfrm>
          <a:custGeom>
            <a:avLst/>
            <a:gdLst>
              <a:gd name="textAreaLeft" fmla="*/ 360 w 2478240"/>
              <a:gd name="textAreaRight" fmla="*/ 1859040 w 2478240"/>
              <a:gd name="textAreaTop" fmla="*/ 360 h 2478240"/>
              <a:gd name="textAreaBottom" fmla="*/ 1859040 h 247824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斜纹 13"/>
          <p:cNvSpPr/>
          <p:nvPr/>
        </p:nvSpPr>
        <p:spPr>
          <a:xfrm flipH="1">
            <a:off x="5022720" y="1951200"/>
            <a:ext cx="2478240" cy="2477880"/>
          </a:xfrm>
          <a:custGeom>
            <a:avLst/>
            <a:gdLst>
              <a:gd name="textAreaLeft" fmla="*/ 360 w 2478240"/>
              <a:gd name="textAreaRight" fmla="*/ 1859040 w 2478240"/>
              <a:gd name="textAreaTop" fmla="*/ 0 h 2477880"/>
              <a:gd name="textAreaBottom" fmla="*/ 1858320 h 2477880"/>
            </a:gdLst>
            <a:ahLst/>
            <a:rect l="textAreaLeft" t="textAreaTop" r="textAreaRight" b="textAreaBottom"/>
            <a:pathLst>
              <a:path w="2478088" h="2478087">
                <a:moveTo>
                  <a:pt x="0" y="1239044"/>
                </a:moveTo>
                <a:lnTo>
                  <a:pt x="1239044" y="0"/>
                </a:lnTo>
                <a:lnTo>
                  <a:pt x="2478088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354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2125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3140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1"/>
          <p:cNvSpPr/>
          <p:nvPr/>
        </p:nvSpPr>
        <p:spPr>
          <a:xfrm>
            <a:off x="928800" y="2500200"/>
            <a:ext cx="107136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292896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00688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7215120" y="2428920"/>
            <a:ext cx="107172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上弧形箭头 10"/>
          <p:cNvSpPr/>
          <p:nvPr/>
        </p:nvSpPr>
        <p:spPr>
          <a:xfrm>
            <a:off x="2071800" y="1928880"/>
            <a:ext cx="850680" cy="511200"/>
          </a:xfrm>
          <a:custGeom>
            <a:avLst/>
            <a:gdLst>
              <a:gd name="textAreaLeft" fmla="*/ 164520 w 850680"/>
              <a:gd name="textAreaRight" fmla="*/ 622080 w 85068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上弧形箭头 12"/>
          <p:cNvSpPr/>
          <p:nvPr/>
        </p:nvSpPr>
        <p:spPr>
          <a:xfrm>
            <a:off x="407196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上弧形箭头 14"/>
          <p:cNvSpPr/>
          <p:nvPr/>
        </p:nvSpPr>
        <p:spPr>
          <a:xfrm>
            <a:off x="614988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069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7214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070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925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0"/>
          <p:cNvSpPr/>
          <p:nvPr/>
        </p:nvSpPr>
        <p:spPr>
          <a:xfrm>
            <a:off x="3071880" y="2000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1"/>
          <p:cNvSpPr/>
          <p:nvPr/>
        </p:nvSpPr>
        <p:spPr>
          <a:xfrm>
            <a:off x="3071880" y="2786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2"/>
          <p:cNvSpPr/>
          <p:nvPr/>
        </p:nvSpPr>
        <p:spPr>
          <a:xfrm>
            <a:off x="3071880" y="3500280"/>
            <a:ext cx="37861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3"/>
          <p:cNvSpPr/>
          <p:nvPr/>
        </p:nvSpPr>
        <p:spPr>
          <a:xfrm>
            <a:off x="3071880" y="4286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4"/>
          <p:cNvSpPr/>
          <p:nvPr/>
        </p:nvSpPr>
        <p:spPr>
          <a:xfrm>
            <a:off x="3071880" y="5072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号 15"/>
          <p:cNvSpPr/>
          <p:nvPr/>
        </p:nvSpPr>
        <p:spPr>
          <a:xfrm>
            <a:off x="2357280" y="2143080"/>
            <a:ext cx="500400" cy="3071880"/>
          </a:xfrm>
          <a:custGeom>
            <a:avLst/>
            <a:gdLst>
              <a:gd name="textAreaLeft" fmla="*/ 319680 w 500400"/>
              <a:gd name="textAreaRight" fmla="*/ 500760 w 500400"/>
              <a:gd name="textAreaTop" fmla="*/ 72360 h 3071880"/>
              <a:gd name="textAreaBottom" fmla="*/ 299952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5"/>
                  <a:pt x="10800" y="1630"/>
                </a:cubicBezTo>
                <a:lnTo>
                  <a:pt x="10800" y="9170"/>
                </a:lnTo>
                <a:cubicBezTo>
                  <a:pt x="10800" y="9985"/>
                  <a:pt x="5400" y="10800"/>
                  <a:pt x="0" y="10800"/>
                </a:cubicBezTo>
                <a:cubicBezTo>
                  <a:pt x="5400" y="10800"/>
                  <a:pt x="10800" y="11615"/>
                  <a:pt x="10800" y="12430"/>
                </a:cubicBezTo>
                <a:lnTo>
                  <a:pt x="10800" y="19970"/>
                </a:lnTo>
                <a:cubicBezTo>
                  <a:pt x="10800" y="2078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cbcb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4428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4978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4497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4497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497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流程图: 终止 10"/>
          <p:cNvSpPr/>
          <p:nvPr/>
        </p:nvSpPr>
        <p:spPr>
          <a:xfrm>
            <a:off x="4405320" y="235728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流程图: 终止 11"/>
          <p:cNvSpPr/>
          <p:nvPr/>
        </p:nvSpPr>
        <p:spPr>
          <a:xfrm rot="16200000">
            <a:off x="2916720" y="3130920"/>
            <a:ext cx="2310120" cy="76176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流程图: 终止 12"/>
          <p:cNvSpPr/>
          <p:nvPr/>
        </p:nvSpPr>
        <p:spPr>
          <a:xfrm>
            <a:off x="3309840" y="459576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流程图: 终止 13"/>
          <p:cNvSpPr/>
          <p:nvPr/>
        </p:nvSpPr>
        <p:spPr>
          <a:xfrm rot="16200000">
            <a:off x="4845600" y="3893040"/>
            <a:ext cx="2309760" cy="76212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3926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5929200" y="342900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3929040" y="264312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0"/>
          <p:cNvSpPr/>
          <p:nvPr/>
        </p:nvSpPr>
        <p:spPr>
          <a:xfrm>
            <a:off x="1714680" y="28576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3286080" y="2643120"/>
            <a:ext cx="150012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4857840" y="21430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6429240" y="1500120"/>
            <a:ext cx="150048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3497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714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51422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1997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8"/>
          <p:cNvGrpSpPr/>
          <p:nvPr/>
        </p:nvGrpSpPr>
        <p:grpSpPr>
          <a:xfrm>
            <a:off x="3357720" y="1642680"/>
            <a:ext cx="3165480" cy="4861080"/>
            <a:chOff x="3357720" y="1642680"/>
            <a:chExt cx="3165480" cy="4861080"/>
          </a:xfrm>
        </p:grpSpPr>
        <p:sp>
          <p:nvSpPr>
            <p:cNvPr id="150" name="矩形 10"/>
            <p:cNvSpPr/>
            <p:nvPr/>
          </p:nvSpPr>
          <p:spPr>
            <a:xfrm rot="16200000">
              <a:off x="4176720" y="4158720"/>
              <a:ext cx="1525680" cy="316404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1"/>
            <p:cNvSpPr/>
            <p:nvPr/>
          </p:nvSpPr>
          <p:spPr>
            <a:xfrm rot="16200000">
              <a:off x="4176720" y="2520360"/>
              <a:ext cx="1525680" cy="316404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2"/>
            <p:cNvSpPr/>
            <p:nvPr/>
          </p:nvSpPr>
          <p:spPr>
            <a:xfrm rot="16200000">
              <a:off x="4176720" y="880200"/>
              <a:ext cx="1525680" cy="316404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4"/>
            <p:cNvSpPr/>
            <p:nvPr/>
          </p:nvSpPr>
          <p:spPr>
            <a:xfrm>
              <a:off x="3357720" y="4922640"/>
              <a:ext cx="3165480" cy="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5"/>
            <p:cNvSpPr/>
            <p:nvPr/>
          </p:nvSpPr>
          <p:spPr>
            <a:xfrm>
              <a:off x="3357720" y="1642680"/>
              <a:ext cx="3164040" cy="144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17"/>
            <p:cNvSpPr/>
            <p:nvPr/>
          </p:nvSpPr>
          <p:spPr>
            <a:xfrm>
              <a:off x="3357720" y="3282840"/>
              <a:ext cx="3164040" cy="144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4569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4265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0T06:18:43Z</dcterms:modified>
  <cp:revision>292</cp:revision>
  <dc:subject/>
  <dc:title>幻灯片 1</dc:title>
</cp:coreProperties>
</file>