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17636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11185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-17636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-11185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-133812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-912240" y="832464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-17636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-133812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-912240" y="8550000"/>
            <a:ext cx="40500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-17636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-11185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-111852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-176364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6141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-11185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1118520" y="855000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176364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1118520" y="8324640"/>
            <a:ext cx="61416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-1763640" y="8550000"/>
            <a:ext cx="1258920" cy="2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-17636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109440" indent="-10944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50920" y="6237360"/>
            <a:ext cx="450720" cy="419040"/>
            <a:chOff x="250920" y="6237360"/>
            <a:chExt cx="450720" cy="419040"/>
          </a:xfrm>
        </p:grpSpPr>
        <p:sp>
          <p:nvSpPr>
            <p:cNvPr id="2" name="Freeform 40"/>
            <p:cNvSpPr/>
            <p:nvPr/>
          </p:nvSpPr>
          <p:spPr>
            <a:xfrm>
              <a:off x="250920" y="6307920"/>
              <a:ext cx="392760" cy="290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41"/>
            <p:cNvSpPr/>
            <p:nvPr/>
          </p:nvSpPr>
          <p:spPr>
            <a:xfrm>
              <a:off x="373320" y="6237360"/>
              <a:ext cx="186480" cy="4190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42"/>
            <p:cNvSpPr/>
            <p:nvPr/>
          </p:nvSpPr>
          <p:spPr>
            <a:xfrm>
              <a:off x="340920" y="6249960"/>
              <a:ext cx="263880" cy="367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43"/>
            <p:cNvSpPr/>
            <p:nvPr/>
          </p:nvSpPr>
          <p:spPr>
            <a:xfrm>
              <a:off x="295920" y="6353280"/>
              <a:ext cx="405720" cy="20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44"/>
            <p:cNvSpPr/>
            <p:nvPr/>
          </p:nvSpPr>
          <p:spPr>
            <a:xfrm>
              <a:off x="424440" y="6346800"/>
              <a:ext cx="160920" cy="160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钱币" descr=""/>
          <p:cNvPicPr/>
          <p:nvPr/>
        </p:nvPicPr>
        <p:blipFill>
          <a:blip r:embed="rId2"/>
          <a:stretch/>
        </p:blipFill>
        <p:spPr>
          <a:xfrm rot="19145400">
            <a:off x="7324560" y="475920"/>
            <a:ext cx="1819440" cy="122220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160880" y="3525840"/>
            <a:ext cx="4983120" cy="3332160"/>
            <a:chOff x="4160880" y="3525840"/>
            <a:chExt cx="4983120" cy="3332160"/>
          </a:xfrm>
        </p:grpSpPr>
        <p:sp>
          <p:nvSpPr>
            <p:cNvPr id="46" name="Freeform 1251"/>
            <p:cNvSpPr/>
            <p:nvPr/>
          </p:nvSpPr>
          <p:spPr>
            <a:xfrm rot="10800000">
              <a:off x="4160880" y="3525840"/>
              <a:ext cx="4857840" cy="333216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6"/>
            <p:cNvSpPr/>
            <p:nvPr/>
          </p:nvSpPr>
          <p:spPr>
            <a:xfrm rot="10800000">
              <a:off x="5511600" y="4199760"/>
              <a:ext cx="3472560" cy="26582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61"/>
            <p:cNvSpPr/>
            <p:nvPr/>
          </p:nvSpPr>
          <p:spPr>
            <a:xfrm rot="10800000">
              <a:off x="4165560" y="3798000"/>
              <a:ext cx="4947480" cy="306000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66"/>
            <p:cNvSpPr/>
            <p:nvPr/>
          </p:nvSpPr>
          <p:spPr>
            <a:xfrm rot="10800000">
              <a:off x="5530680" y="3563640"/>
              <a:ext cx="3613320" cy="84132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71"/>
            <p:cNvSpPr/>
            <p:nvPr/>
          </p:nvSpPr>
          <p:spPr>
            <a:xfrm rot="10800000">
              <a:off x="7004160" y="3810960"/>
              <a:ext cx="1448280" cy="56304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0" y="0"/>
            <a:ext cx="6269040" cy="3525840"/>
            <a:chOff x="0" y="0"/>
            <a:chExt cx="6269040" cy="3525840"/>
          </a:xfrm>
        </p:grpSpPr>
        <p:sp>
          <p:nvSpPr>
            <p:cNvPr id="52" name="Freeform 1251"/>
            <p:cNvSpPr/>
            <p:nvPr/>
          </p:nvSpPr>
          <p:spPr>
            <a:xfrm>
              <a:off x="157680" y="0"/>
              <a:ext cx="6111360" cy="3525840"/>
            </a:xfrm>
            <a:prstGeom prst="pie">
              <a:avLst/>
            </a:prstGeom>
            <a:solidFill>
              <a:srgbClr val="ffff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56"/>
            <p:cNvSpPr/>
            <p:nvPr/>
          </p:nvSpPr>
          <p:spPr>
            <a:xfrm>
              <a:off x="200880" y="0"/>
              <a:ext cx="4368600" cy="2813040"/>
            </a:xfrm>
            <a:prstGeom prst="pie">
              <a:avLst/>
            </a:prstGeom>
            <a:solidFill>
              <a:srgbClr val="ffff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1"/>
            <p:cNvSpPr/>
            <p:nvPr/>
          </p:nvSpPr>
          <p:spPr>
            <a:xfrm>
              <a:off x="38880" y="0"/>
              <a:ext cx="6224040" cy="3237840"/>
            </a:xfrm>
            <a:prstGeom prst="pie">
              <a:avLst/>
            </a:prstGeom>
            <a:solidFill>
              <a:srgbClr val="ffff00">
                <a:alpha val="2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6"/>
            <p:cNvSpPr/>
            <p:nvPr/>
          </p:nvSpPr>
          <p:spPr>
            <a:xfrm>
              <a:off x="0" y="2595960"/>
              <a:ext cx="4545720" cy="890280"/>
            </a:xfrm>
            <a:prstGeom prst="pie">
              <a:avLst/>
            </a:prstGeom>
            <a:solidFill>
              <a:srgbClr val="ffff00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71"/>
            <p:cNvSpPr/>
            <p:nvPr/>
          </p:nvSpPr>
          <p:spPr>
            <a:xfrm>
              <a:off x="870120" y="2628360"/>
              <a:ext cx="1821960" cy="595800"/>
            </a:xfrm>
            <a:prstGeom prst="pie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117"/>
          <p:cNvSpPr/>
          <p:nvPr/>
        </p:nvSpPr>
        <p:spPr>
          <a:xfrm>
            <a:off x="-9242280" y="4051440"/>
            <a:ext cx="9144000" cy="9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276"/>
          <p:cNvSpPr/>
          <p:nvPr/>
        </p:nvSpPr>
        <p:spPr>
          <a:xfrm>
            <a:off x="5259240" y="0"/>
            <a:ext cx="2070360" cy="154476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1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50920" y="2349360"/>
            <a:ext cx="8543880" cy="2470320"/>
            <a:chOff x="250920" y="2349360"/>
            <a:chExt cx="8543880" cy="247032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00280" y="4152600"/>
              <a:ext cx="7994520" cy="6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50920" y="234936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 </a:t>
              </a:r>
              <a:r>
                <a:rPr b="0" lang="zh-CN" sz="20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紧跟医院建设步伐   再创科室事业辉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 txBox="1"/>
          <p:nvPr/>
        </p:nvSpPr>
        <p:spPr>
          <a:xfrm>
            <a:off x="395280" y="3068640"/>
            <a:ext cx="8381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>
                    <a:alpha val="8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某某大学某某医院某某科</a:t>
            </a:r>
            <a:endParaRPr b="1" lang="en-US" sz="6000" spc="-1" strike="noStrike">
              <a:ln w="9360">
                <a:solidFill>
                  <a:srgbClr val="ffff66"/>
                </a:solidFill>
                <a:miter/>
              </a:ln>
              <a:solidFill>
                <a:srgbClr val="ff0000">
                  <a:alpha val="8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3" name="Freeform 1281"/>
          <p:cNvSpPr/>
          <p:nvPr/>
        </p:nvSpPr>
        <p:spPr>
          <a:xfrm>
            <a:off x="7578720" y="8557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281"/>
          <p:cNvSpPr/>
          <p:nvPr/>
        </p:nvSpPr>
        <p:spPr>
          <a:xfrm>
            <a:off x="5460840" y="133524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281"/>
          <p:cNvSpPr/>
          <p:nvPr/>
        </p:nvSpPr>
        <p:spPr>
          <a:xfrm>
            <a:off x="7032600" y="8859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81"/>
          <p:cNvSpPr/>
          <p:nvPr/>
        </p:nvSpPr>
        <p:spPr>
          <a:xfrm>
            <a:off x="7264440" y="117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6284880" y="11635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7"/>
          <p:cNvSpPr/>
          <p:nvPr/>
        </p:nvSpPr>
        <p:spPr>
          <a:xfrm>
            <a:off x="-5938920" y="4830840"/>
            <a:ext cx="5938920" cy="7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7"/>
          <p:cNvSpPr/>
          <p:nvPr/>
        </p:nvSpPr>
        <p:spPr>
          <a:xfrm>
            <a:off x="-4722840" y="2771640"/>
            <a:ext cx="472284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39840" y="4757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1"/>
          <p:cNvSpPr/>
          <p:nvPr/>
        </p:nvSpPr>
        <p:spPr>
          <a:xfrm>
            <a:off x="5464080" y="13366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1"/>
          <p:cNvSpPr/>
          <p:nvPr/>
        </p:nvSpPr>
        <p:spPr>
          <a:xfrm>
            <a:off x="6291360" y="116532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1"/>
          <p:cNvSpPr/>
          <p:nvPr/>
        </p:nvSpPr>
        <p:spPr>
          <a:xfrm>
            <a:off x="7578720" y="85248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 repeatCount="indefinite">
                                  <p:stCondLst>
                                    <p:cond delay="18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4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6.84551E-007 L 2.09375 -6.84551E-007 E">
                                      <p:cBhvr>
                                        <p:cTn id="1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29" dur="6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4.16667E-006 0.00648 C 0.01805 0.07284 0.03611 0.13943 0.03698 0.23815 C 0.03784 0.33688 0.02448 0.5022 0.00538 0.59954 C -0.01372 0.69688 -0.06216 0.78243 -0.07813 0.8222 C -0.0941 0.86197 -0.0915 0.83469 -0.09046 0.83862 E">
                                      <p:cBhvr>
                                        <p:cTn id="31" dur="4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97965E-006 C -0.01632 0.03747 -0.03264 0.0754 -0.03281 0.10708 C -0.03298 0.13853 -0.01719 0.15773 -0.00139 0.18918 C 0.01441 0.22086 0.04809 0.25208 0.06163 0.29626 C 0.07517 0.34066 0.08438 0.38229 0.07952 0.45514 C 0.07465 0.52799 0.04097 0.6716 0.03281 0.73266 C 0.02465 0.79371 0.02743 0.80805 0.03021 0.82285 E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17"/>
          <p:cNvSpPr/>
          <p:nvPr/>
        </p:nvSpPr>
        <p:spPr>
          <a:xfrm>
            <a:off x="-9142560" y="1139760"/>
            <a:ext cx="9142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36440" y="1168560"/>
            <a:ext cx="7551720" cy="28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27960" y="525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78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80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81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Freeform 1281"/>
          <p:cNvSpPr/>
          <p:nvPr/>
        </p:nvSpPr>
        <p:spPr>
          <a:xfrm>
            <a:off x="871560" y="1449360"/>
            <a:ext cx="925560" cy="81756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ff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87280" y="1773360"/>
            <a:ext cx="7215480" cy="3816360"/>
            <a:chOff x="1187280" y="1773360"/>
            <a:chExt cx="7215480" cy="3816360"/>
          </a:xfrm>
        </p:grpSpPr>
        <p:pic>
          <p:nvPicPr>
            <p:cNvPr id="88" name="同侧圆角矩形 59" descr=""/>
            <p:cNvPicPr/>
            <p:nvPr/>
          </p:nvPicPr>
          <p:blipFill>
            <a:blip r:embed="rId4"/>
            <a:stretch/>
          </p:blipFill>
          <p:spPr>
            <a:xfrm>
              <a:off x="1187280" y="1773360"/>
              <a:ext cx="7215480" cy="38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344960" y="1886040"/>
              <a:ext cx="6899400" cy="362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91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538 0.01435 -0.00642 0.03218 -0.01718 0.04167 C -0.01962 0.05116 -0.02396 0.06042 -0.02812 0.06875 C -0.03073 0.08264 -0.0342 0.09491 -0.0375 0.10833 C -0.03698 0.12431 -0.03715 0.14028 -0.03593 0.15625 C -0.03455 0.17454 -0.0276 0.18542 -0.02031 0.2 C -0.01389 0.21273 -0.021 0.20486 -0.0125 0.2125 C -0.01041 0.22361 -0.0085 0.22639 -0.00156 0.23333 C 0.00295 0.25718 0.00278 0.2831 -0.00781 0.30417 C -0.01076 0.31968 -0.01701 0.33148 -0.02187 0.34583 C -0.02587 0.35764 -0.02934 0.3706 -0.03125 0.38333 C -0.03073 0.40764 -0.03194 0.43218 -0.02968 0.45625 C -0.02916 0.46111 -0.02552 0.46458 -0.02343 0.46875 C -0.02153 0.47269 -0.021 0.47731 -0.01875 0.48125 C -0.01406 0.48889 -0.00555 0.49468 0.00157 0.49792 C 0.00556 0.50301 0.00608 0.50486 0.01094 0.5081 C 0.01511 0.51134 0.02344 0.51667 0.02344 0.51667 C 0.02778 0.525 0.03108 0.52384 0.0375 0.52917 C 0.04618 0.53634 0.05417 0.54769 0.06407 0.55208 C 0.06979 0.55972 0.07952 0.56713 0.0875 0.57083 C 0.09375 0.57917 0.09861 0.58773 0.10469 0.59583 C 0.10851 0.61111 0.10556 0.60532 0.1125 0.61458 C 0.11493 0.62454 0.11997 0.63241 0.12344 0.64167 C 0.12986 0.65903 0.1191 0.63634 0.12813 0.65417 C 0.12986 0.67083 0.12969 0.66389 0.12969 0.675 E">
                                      <p:cBhvr>
                                        <p:cTn id="67" dur="10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17"/>
          <p:cNvSpPr/>
          <p:nvPr/>
        </p:nvSpPr>
        <p:spPr>
          <a:xfrm>
            <a:off x="-9142560" y="1139760"/>
            <a:ext cx="9142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136440" y="1168560"/>
            <a:ext cx="7551720" cy="2854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12960" y="453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工作总结内容提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98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100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101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403280" y="2060280"/>
            <a:ext cx="6337080" cy="3600360"/>
            <a:chOff x="1403280" y="2060280"/>
            <a:chExt cx="6337080" cy="3600360"/>
          </a:xfrm>
        </p:grpSpPr>
        <p:pic>
          <p:nvPicPr>
            <p:cNvPr id="107" name="同侧圆角矩形 59" descr=""/>
            <p:cNvPicPr/>
            <p:nvPr/>
          </p:nvPicPr>
          <p:blipFill>
            <a:blip r:embed="rId4"/>
            <a:stretch/>
          </p:blipFill>
          <p:spPr>
            <a:xfrm rot="16200000">
              <a:off x="2771640" y="691920"/>
              <a:ext cx="3600360" cy="63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2875320" y="854640"/>
              <a:ext cx="3442680" cy="60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10" name="钱币" descr=""/>
            <p:cNvPicPr/>
            <p:nvPr/>
          </p:nvPicPr>
          <p:blipFill>
            <a:blip r:embed="rId5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165240" y="1168560"/>
            <a:ext cx="7551720" cy="285480"/>
          </a:xfrm>
          <a:prstGeom prst="rect">
            <a:avLst/>
          </a:prstGeom>
          <a:ln w="0">
            <a:noFill/>
          </a:ln>
        </p:spPr>
      </p:pic>
      <p:sp>
        <p:nvSpPr>
          <p:cNvPr id="114" name="矩形 117"/>
          <p:cNvSpPr/>
          <p:nvPr/>
        </p:nvSpPr>
        <p:spPr>
          <a:xfrm>
            <a:off x="-9142560" y="1139760"/>
            <a:ext cx="91425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9360" y="525600"/>
            <a:ext cx="41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007-2008  </a:t>
            </a:r>
            <a:r>
              <a:rPr b="0" lang="zh-CN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住院及手术人数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908000" y="6237360"/>
            <a:ext cx="7553520" cy="28584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7"/>
          <p:cNvSpPr/>
          <p:nvPr/>
        </p:nvSpPr>
        <p:spPr>
          <a:xfrm>
            <a:off x="9144000" y="6524640"/>
            <a:ext cx="4716360" cy="7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46240" y="228600"/>
            <a:ext cx="3047040" cy="2033640"/>
            <a:chOff x="246240" y="228600"/>
            <a:chExt cx="3047040" cy="2033640"/>
          </a:xfrm>
        </p:grpSpPr>
        <p:grpSp>
          <p:nvGrpSpPr>
            <p:cNvPr id="119" name=""/>
            <p:cNvGrpSpPr/>
            <p:nvPr/>
          </p:nvGrpSpPr>
          <p:grpSpPr>
            <a:xfrm>
              <a:off x="246240" y="228600"/>
              <a:ext cx="2071440" cy="2033640"/>
              <a:chOff x="246240" y="228600"/>
              <a:chExt cx="2071440" cy="2033640"/>
            </a:xfrm>
          </p:grpSpPr>
          <p:sp>
            <p:nvSpPr>
              <p:cNvPr id="120" name="Freeform 1276"/>
              <p:cNvSpPr/>
              <p:nvPr/>
            </p:nvSpPr>
            <p:spPr>
              <a:xfrm>
                <a:off x="246240" y="228600"/>
                <a:ext cx="2071440" cy="1544760"/>
              </a:xfrm>
              <a:prstGeom prst="pi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81"/>
              <p:cNvSpPr/>
              <p:nvPr/>
            </p:nvSpPr>
            <p:spPr>
              <a:xfrm>
                <a:off x="867240" y="1444680"/>
                <a:ext cx="926280" cy="817560"/>
              </a:xfrm>
              <a:prstGeom prst="pi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Freeform 1281"/>
            <p:cNvSpPr/>
            <p:nvPr/>
          </p:nvSpPr>
          <p:spPr>
            <a:xfrm rot="17943600">
              <a:off x="2050560" y="1047960"/>
              <a:ext cx="647640" cy="6498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7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81"/>
            <p:cNvSpPr/>
            <p:nvPr/>
          </p:nvSpPr>
          <p:spPr>
            <a:xfrm rot="14525400">
              <a:off x="2590560" y="1157400"/>
              <a:ext cx="360360" cy="43236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2057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81"/>
            <p:cNvSpPr/>
            <p:nvPr/>
          </p:nvSpPr>
          <p:spPr>
            <a:xfrm rot="15812400">
              <a:off x="3030840" y="1221120"/>
              <a:ext cx="207720" cy="29520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929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79760" y="5119200"/>
            <a:ext cx="1896120" cy="2153520"/>
            <a:chOff x="7079760" y="5119200"/>
            <a:chExt cx="1896120" cy="2153520"/>
          </a:xfrm>
        </p:grpSpPr>
        <p:pic>
          <p:nvPicPr>
            <p:cNvPr id="126" name="钱币" descr=""/>
            <p:cNvPicPr/>
            <p:nvPr/>
          </p:nvPicPr>
          <p:blipFill>
            <a:blip r:embed="rId4"/>
            <a:stretch/>
          </p:blipFill>
          <p:spPr>
            <a:xfrm rot="17587800">
              <a:off x="7146720" y="5584680"/>
              <a:ext cx="1819440" cy="12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079760" y="6099120"/>
              <a:ext cx="159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医院</a:t>
              </a:r>
              <a:r>
                <a:rPr b="0" lang="en-US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4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99640" y="6460920"/>
              <a:ext cx="142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xx</a:t>
              </a:r>
              <a:r>
                <a:rPr b="0" lang="zh-CN" sz="2000" spc="-1" strike="noStrike">
                  <a:solidFill>
                    <a:srgbClr val="ffff66"/>
                  </a:solidFill>
                  <a:latin typeface="华文新魏"/>
                  <a:ea typeface="华文新魏"/>
                </a:rPr>
                <a:t>年度工作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753264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5" descr="背景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帘子" descr="帘子.png"/>
          <p:cNvPicPr/>
          <p:nvPr/>
        </p:nvPicPr>
        <p:blipFill>
          <a:blip r:embed="rId3"/>
          <a:stretch/>
        </p:blipFill>
        <p:spPr>
          <a:xfrm>
            <a:off x="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132" name="恭" descr=""/>
          <p:cNvPicPr/>
          <p:nvPr/>
        </p:nvPicPr>
        <p:blipFill>
          <a:blip r:embed="rId4"/>
          <a:stretch/>
        </p:blipFill>
        <p:spPr>
          <a:xfrm>
            <a:off x="-8269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133" name="新" descr=""/>
          <p:cNvPicPr/>
          <p:nvPr/>
        </p:nvPicPr>
        <p:blipFill>
          <a:blip r:embed="rId5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134" name="禧" descr=""/>
          <p:cNvPicPr/>
          <p:nvPr/>
        </p:nvPicPr>
        <p:blipFill>
          <a:blip r:embed="rId6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132000" y="1628640"/>
            <a:ext cx="2209680" cy="2514240"/>
            <a:chOff x="3132000" y="1628640"/>
            <a:chExt cx="2209680" cy="2514240"/>
          </a:xfrm>
        </p:grpSpPr>
        <p:sp>
          <p:nvSpPr>
            <p:cNvPr id="136" name="未知"/>
            <p:cNvSpPr/>
            <p:nvPr/>
          </p:nvSpPr>
          <p:spPr>
            <a:xfrm>
              <a:off x="3132000" y="1689840"/>
              <a:ext cx="1089000" cy="1491840"/>
            </a:xfrm>
            <a:custGeom>
              <a:avLst/>
              <a:gdLst/>
              <a:ahLst/>
              <a:rect l="l" t="t" r="r" b="b"/>
              <a:pathLst>
                <a:path w="178" h="242">
                  <a:moveTo>
                    <a:pt x="175" y="12"/>
                  </a:moveTo>
                  <a:cubicBezTo>
                    <a:pt x="174" y="1"/>
                    <a:pt x="165" y="0"/>
                    <a:pt x="156" y="1"/>
                  </a:cubicBezTo>
                  <a:cubicBezTo>
                    <a:pt x="147" y="1"/>
                    <a:pt x="129" y="13"/>
                    <a:pt x="129" y="13"/>
                  </a:cubicBezTo>
                  <a:cubicBezTo>
                    <a:pt x="129" y="13"/>
                    <a:pt x="125" y="9"/>
                    <a:pt x="118" y="10"/>
                  </a:cubicBezTo>
                  <a:cubicBezTo>
                    <a:pt x="112" y="11"/>
                    <a:pt x="104" y="16"/>
                    <a:pt x="103" y="18"/>
                  </a:cubicBezTo>
                  <a:cubicBezTo>
                    <a:pt x="101" y="21"/>
                    <a:pt x="97" y="32"/>
                    <a:pt x="97" y="32"/>
                  </a:cubicBezTo>
                  <a:cubicBezTo>
                    <a:pt x="97" y="32"/>
                    <a:pt x="83" y="39"/>
                    <a:pt x="76" y="43"/>
                  </a:cubicBezTo>
                  <a:cubicBezTo>
                    <a:pt x="70" y="46"/>
                    <a:pt x="55" y="50"/>
                    <a:pt x="55" y="47"/>
                  </a:cubicBezTo>
                  <a:cubicBezTo>
                    <a:pt x="52" y="45"/>
                    <a:pt x="64" y="28"/>
                    <a:pt x="64" y="28"/>
                  </a:cubicBezTo>
                  <a:cubicBezTo>
                    <a:pt x="64" y="28"/>
                    <a:pt x="58" y="33"/>
                    <a:pt x="53" y="36"/>
                  </a:cubicBezTo>
                  <a:cubicBezTo>
                    <a:pt x="47" y="40"/>
                    <a:pt x="41" y="42"/>
                    <a:pt x="42" y="68"/>
                  </a:cubicBezTo>
                  <a:cubicBezTo>
                    <a:pt x="41" y="95"/>
                    <a:pt x="87" y="69"/>
                    <a:pt x="87" y="69"/>
                  </a:cubicBezTo>
                  <a:cubicBezTo>
                    <a:pt x="87" y="69"/>
                    <a:pt x="91" y="67"/>
                    <a:pt x="92" y="72"/>
                  </a:cubicBezTo>
                  <a:cubicBezTo>
                    <a:pt x="70" y="152"/>
                    <a:pt x="28" y="215"/>
                    <a:pt x="25" y="218"/>
                  </a:cubicBezTo>
                  <a:cubicBezTo>
                    <a:pt x="23" y="222"/>
                    <a:pt x="10" y="226"/>
                    <a:pt x="10" y="226"/>
                  </a:cubicBezTo>
                  <a:cubicBezTo>
                    <a:pt x="0" y="234"/>
                    <a:pt x="4" y="242"/>
                    <a:pt x="11" y="242"/>
                  </a:cubicBezTo>
                  <a:cubicBezTo>
                    <a:pt x="21" y="242"/>
                    <a:pt x="57" y="194"/>
                    <a:pt x="73" y="161"/>
                  </a:cubicBezTo>
                  <a:cubicBezTo>
                    <a:pt x="85" y="137"/>
                    <a:pt x="93" y="118"/>
                    <a:pt x="93" y="118"/>
                  </a:cubicBezTo>
                  <a:cubicBezTo>
                    <a:pt x="93" y="118"/>
                    <a:pt x="93" y="116"/>
                    <a:pt x="95" y="117"/>
                  </a:cubicBezTo>
                  <a:cubicBezTo>
                    <a:pt x="115" y="180"/>
                    <a:pt x="118" y="175"/>
                    <a:pt x="118" y="175"/>
                  </a:cubicBezTo>
                  <a:cubicBezTo>
                    <a:pt x="123" y="174"/>
                    <a:pt x="123" y="174"/>
                    <a:pt x="123" y="174"/>
                  </a:cubicBezTo>
                  <a:cubicBezTo>
                    <a:pt x="123" y="174"/>
                    <a:pt x="135" y="166"/>
                    <a:pt x="138" y="160"/>
                  </a:cubicBezTo>
                  <a:cubicBezTo>
                    <a:pt x="154" y="133"/>
                    <a:pt x="168" y="70"/>
                    <a:pt x="168" y="70"/>
                  </a:cubicBezTo>
                  <a:cubicBezTo>
                    <a:pt x="171" y="64"/>
                    <a:pt x="178" y="27"/>
                    <a:pt x="175" y="12"/>
                  </a:cubicBezTo>
                  <a:close/>
                  <a:moveTo>
                    <a:pt x="148" y="52"/>
                  </a:moveTo>
                  <a:cubicBezTo>
                    <a:pt x="148" y="64"/>
                    <a:pt x="134" y="127"/>
                    <a:pt x="131" y="129"/>
                  </a:cubicBezTo>
                  <a:cubicBezTo>
                    <a:pt x="127" y="131"/>
                    <a:pt x="119" y="130"/>
                    <a:pt x="120" y="126"/>
                  </a:cubicBezTo>
                  <a:cubicBezTo>
                    <a:pt x="120" y="125"/>
                    <a:pt x="107" y="115"/>
                    <a:pt x="104" y="95"/>
                  </a:cubicBezTo>
                  <a:cubicBezTo>
                    <a:pt x="105" y="70"/>
                    <a:pt x="118" y="56"/>
                    <a:pt x="118" y="56"/>
                  </a:cubicBezTo>
                  <a:cubicBezTo>
                    <a:pt x="118" y="56"/>
                    <a:pt x="140" y="40"/>
                    <a:pt x="140" y="31"/>
                  </a:cubicBezTo>
                  <a:cubicBezTo>
                    <a:pt x="147" y="26"/>
                    <a:pt x="147" y="26"/>
                    <a:pt x="147" y="26"/>
                  </a:cubicBezTo>
                  <a:cubicBezTo>
                    <a:pt x="147" y="26"/>
                    <a:pt x="149" y="41"/>
                    <a:pt x="148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4258800" y="1628640"/>
              <a:ext cx="1082880" cy="696240"/>
            </a:xfrm>
            <a:custGeom>
              <a:avLst/>
              <a:gdLst/>
              <a:ahLst/>
              <a:rect l="l" t="t" r="r" b="b"/>
              <a:pathLst>
                <a:path w="177" h="113">
                  <a:moveTo>
                    <a:pt x="16" y="23"/>
                  </a:moveTo>
                  <a:cubicBezTo>
                    <a:pt x="16" y="23"/>
                    <a:pt x="19" y="23"/>
                    <a:pt x="21" y="26"/>
                  </a:cubicBezTo>
                  <a:cubicBezTo>
                    <a:pt x="23" y="29"/>
                    <a:pt x="29" y="47"/>
                    <a:pt x="30" y="48"/>
                  </a:cubicBezTo>
                  <a:cubicBezTo>
                    <a:pt x="30" y="50"/>
                    <a:pt x="34" y="51"/>
                    <a:pt x="35" y="49"/>
                  </a:cubicBezTo>
                  <a:cubicBezTo>
                    <a:pt x="36" y="47"/>
                    <a:pt x="98" y="17"/>
                    <a:pt x="99" y="15"/>
                  </a:cubicBezTo>
                  <a:cubicBezTo>
                    <a:pt x="100" y="13"/>
                    <a:pt x="104" y="4"/>
                    <a:pt x="107" y="2"/>
                  </a:cubicBezTo>
                  <a:cubicBezTo>
                    <a:pt x="110" y="0"/>
                    <a:pt x="123" y="6"/>
                    <a:pt x="123" y="6"/>
                  </a:cubicBezTo>
                  <a:cubicBezTo>
                    <a:pt x="123" y="6"/>
                    <a:pt x="126" y="3"/>
                    <a:pt x="130" y="4"/>
                  </a:cubicBezTo>
                  <a:cubicBezTo>
                    <a:pt x="134" y="4"/>
                    <a:pt x="142" y="8"/>
                    <a:pt x="142" y="8"/>
                  </a:cubicBezTo>
                  <a:cubicBezTo>
                    <a:pt x="142" y="8"/>
                    <a:pt x="147" y="7"/>
                    <a:pt x="151" y="7"/>
                  </a:cubicBezTo>
                  <a:cubicBezTo>
                    <a:pt x="155" y="8"/>
                    <a:pt x="169" y="19"/>
                    <a:pt x="169" y="19"/>
                  </a:cubicBezTo>
                  <a:cubicBezTo>
                    <a:pt x="169" y="19"/>
                    <a:pt x="171" y="21"/>
                    <a:pt x="171" y="29"/>
                  </a:cubicBezTo>
                  <a:cubicBezTo>
                    <a:pt x="175" y="32"/>
                    <a:pt x="177" y="33"/>
                    <a:pt x="177" y="36"/>
                  </a:cubicBezTo>
                  <a:cubicBezTo>
                    <a:pt x="177" y="39"/>
                    <a:pt x="173" y="42"/>
                    <a:pt x="173" y="42"/>
                  </a:cubicBezTo>
                  <a:cubicBezTo>
                    <a:pt x="173" y="42"/>
                    <a:pt x="149" y="57"/>
                    <a:pt x="120" y="67"/>
                  </a:cubicBezTo>
                  <a:cubicBezTo>
                    <a:pt x="137" y="73"/>
                    <a:pt x="140" y="76"/>
                    <a:pt x="140" y="82"/>
                  </a:cubicBezTo>
                  <a:cubicBezTo>
                    <a:pt x="140" y="88"/>
                    <a:pt x="132" y="94"/>
                    <a:pt x="132" y="94"/>
                  </a:cubicBezTo>
                  <a:cubicBezTo>
                    <a:pt x="132" y="94"/>
                    <a:pt x="86" y="110"/>
                    <a:pt x="74" y="111"/>
                  </a:cubicBezTo>
                  <a:cubicBezTo>
                    <a:pt x="61" y="113"/>
                    <a:pt x="53" y="113"/>
                    <a:pt x="50" y="107"/>
                  </a:cubicBezTo>
                  <a:cubicBezTo>
                    <a:pt x="47" y="102"/>
                    <a:pt x="51" y="87"/>
                    <a:pt x="55" y="83"/>
                  </a:cubicBezTo>
                  <a:cubicBezTo>
                    <a:pt x="58" y="78"/>
                    <a:pt x="74" y="61"/>
                    <a:pt x="73" y="56"/>
                  </a:cubicBezTo>
                  <a:cubicBezTo>
                    <a:pt x="67" y="54"/>
                    <a:pt x="44" y="62"/>
                    <a:pt x="36" y="71"/>
                  </a:cubicBezTo>
                  <a:cubicBezTo>
                    <a:pt x="34" y="79"/>
                    <a:pt x="35" y="96"/>
                    <a:pt x="35" y="96"/>
                  </a:cubicBezTo>
                  <a:cubicBezTo>
                    <a:pt x="35" y="96"/>
                    <a:pt x="32" y="108"/>
                    <a:pt x="22" y="108"/>
                  </a:cubicBezTo>
                  <a:cubicBezTo>
                    <a:pt x="13" y="107"/>
                    <a:pt x="8" y="98"/>
                    <a:pt x="8" y="94"/>
                  </a:cubicBezTo>
                  <a:cubicBezTo>
                    <a:pt x="8" y="91"/>
                    <a:pt x="0" y="52"/>
                    <a:pt x="16" y="2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3909600" y="2337480"/>
              <a:ext cx="942120" cy="1467000"/>
            </a:xfrm>
            <a:custGeom>
              <a:avLst/>
              <a:gdLst/>
              <a:ahLst/>
              <a:rect l="l" t="t" r="r" b="b"/>
              <a:pathLst>
                <a:path w="154" h="238">
                  <a:moveTo>
                    <a:pt x="148" y="50"/>
                  </a:moveTo>
                  <a:cubicBezTo>
                    <a:pt x="148" y="50"/>
                    <a:pt x="153" y="22"/>
                    <a:pt x="150" y="18"/>
                  </a:cubicBezTo>
                  <a:cubicBezTo>
                    <a:pt x="120" y="0"/>
                    <a:pt x="98" y="16"/>
                    <a:pt x="98" y="16"/>
                  </a:cubicBezTo>
                  <a:cubicBezTo>
                    <a:pt x="98" y="16"/>
                    <a:pt x="82" y="30"/>
                    <a:pt x="69" y="38"/>
                  </a:cubicBezTo>
                  <a:cubicBezTo>
                    <a:pt x="68" y="26"/>
                    <a:pt x="60" y="22"/>
                    <a:pt x="60" y="22"/>
                  </a:cubicBezTo>
                  <a:cubicBezTo>
                    <a:pt x="56" y="35"/>
                    <a:pt x="50" y="37"/>
                    <a:pt x="42" y="51"/>
                  </a:cubicBezTo>
                  <a:cubicBezTo>
                    <a:pt x="35" y="65"/>
                    <a:pt x="34" y="90"/>
                    <a:pt x="31" y="101"/>
                  </a:cubicBezTo>
                  <a:cubicBezTo>
                    <a:pt x="28" y="112"/>
                    <a:pt x="24" y="143"/>
                    <a:pt x="29" y="173"/>
                  </a:cubicBezTo>
                  <a:cubicBezTo>
                    <a:pt x="20" y="186"/>
                    <a:pt x="20" y="198"/>
                    <a:pt x="20" y="198"/>
                  </a:cubicBezTo>
                  <a:cubicBezTo>
                    <a:pt x="20" y="198"/>
                    <a:pt x="20" y="202"/>
                    <a:pt x="21" y="206"/>
                  </a:cubicBezTo>
                  <a:cubicBezTo>
                    <a:pt x="22" y="211"/>
                    <a:pt x="27" y="209"/>
                    <a:pt x="27" y="209"/>
                  </a:cubicBezTo>
                  <a:cubicBezTo>
                    <a:pt x="51" y="199"/>
                    <a:pt x="51" y="199"/>
                    <a:pt x="51" y="199"/>
                  </a:cubicBezTo>
                  <a:cubicBezTo>
                    <a:pt x="51" y="199"/>
                    <a:pt x="54" y="198"/>
                    <a:pt x="53" y="201"/>
                  </a:cubicBezTo>
                  <a:cubicBezTo>
                    <a:pt x="33" y="219"/>
                    <a:pt x="4" y="229"/>
                    <a:pt x="4" y="229"/>
                  </a:cubicBezTo>
                  <a:cubicBezTo>
                    <a:pt x="4" y="229"/>
                    <a:pt x="0" y="230"/>
                    <a:pt x="0" y="233"/>
                  </a:cubicBezTo>
                  <a:cubicBezTo>
                    <a:pt x="4" y="238"/>
                    <a:pt x="40" y="227"/>
                    <a:pt x="58" y="211"/>
                  </a:cubicBezTo>
                  <a:cubicBezTo>
                    <a:pt x="76" y="195"/>
                    <a:pt x="114" y="172"/>
                    <a:pt x="118" y="171"/>
                  </a:cubicBezTo>
                  <a:cubicBezTo>
                    <a:pt x="122" y="170"/>
                    <a:pt x="123" y="183"/>
                    <a:pt x="123" y="183"/>
                  </a:cubicBezTo>
                  <a:cubicBezTo>
                    <a:pt x="123" y="183"/>
                    <a:pt x="126" y="187"/>
                    <a:pt x="128" y="188"/>
                  </a:cubicBezTo>
                  <a:cubicBezTo>
                    <a:pt x="141" y="186"/>
                    <a:pt x="152" y="179"/>
                    <a:pt x="153" y="175"/>
                  </a:cubicBezTo>
                  <a:cubicBezTo>
                    <a:pt x="154" y="170"/>
                    <a:pt x="148" y="50"/>
                    <a:pt x="148" y="50"/>
                  </a:cubicBezTo>
                  <a:close/>
                  <a:moveTo>
                    <a:pt x="55" y="157"/>
                  </a:moveTo>
                  <a:cubicBezTo>
                    <a:pt x="48" y="155"/>
                    <a:pt x="51" y="142"/>
                    <a:pt x="49" y="138"/>
                  </a:cubicBezTo>
                  <a:cubicBezTo>
                    <a:pt x="47" y="134"/>
                    <a:pt x="49" y="126"/>
                    <a:pt x="50" y="120"/>
                  </a:cubicBezTo>
                  <a:cubicBezTo>
                    <a:pt x="50" y="120"/>
                    <a:pt x="51" y="119"/>
                    <a:pt x="53" y="120"/>
                  </a:cubicBezTo>
                  <a:cubicBezTo>
                    <a:pt x="55" y="121"/>
                    <a:pt x="65" y="138"/>
                    <a:pt x="65" y="139"/>
                  </a:cubicBezTo>
                  <a:cubicBezTo>
                    <a:pt x="65" y="140"/>
                    <a:pt x="67" y="147"/>
                    <a:pt x="55" y="157"/>
                  </a:cubicBezTo>
                  <a:close/>
                  <a:moveTo>
                    <a:pt x="120" y="132"/>
                  </a:moveTo>
                  <a:cubicBezTo>
                    <a:pt x="119" y="135"/>
                    <a:pt x="115" y="136"/>
                    <a:pt x="115" y="136"/>
                  </a:cubicBezTo>
                  <a:cubicBezTo>
                    <a:pt x="115" y="136"/>
                    <a:pt x="119" y="148"/>
                    <a:pt x="115" y="149"/>
                  </a:cubicBezTo>
                  <a:cubicBezTo>
                    <a:pt x="111" y="151"/>
                    <a:pt x="101" y="149"/>
                    <a:pt x="101" y="149"/>
                  </a:cubicBezTo>
                  <a:cubicBezTo>
                    <a:pt x="101" y="149"/>
                    <a:pt x="97" y="146"/>
                    <a:pt x="93" y="158"/>
                  </a:cubicBezTo>
                  <a:cubicBezTo>
                    <a:pt x="88" y="163"/>
                    <a:pt x="64" y="171"/>
                    <a:pt x="64" y="171"/>
                  </a:cubicBezTo>
                  <a:cubicBezTo>
                    <a:pt x="64" y="171"/>
                    <a:pt x="59" y="171"/>
                    <a:pt x="65" y="167"/>
                  </a:cubicBezTo>
                  <a:cubicBezTo>
                    <a:pt x="70" y="162"/>
                    <a:pt x="83" y="159"/>
                    <a:pt x="90" y="126"/>
                  </a:cubicBezTo>
                  <a:cubicBezTo>
                    <a:pt x="89" y="118"/>
                    <a:pt x="54" y="107"/>
                    <a:pt x="54" y="107"/>
                  </a:cubicBezTo>
                  <a:cubicBezTo>
                    <a:pt x="54" y="107"/>
                    <a:pt x="48" y="103"/>
                    <a:pt x="54" y="88"/>
                  </a:cubicBezTo>
                  <a:cubicBezTo>
                    <a:pt x="63" y="73"/>
                    <a:pt x="68" y="88"/>
                    <a:pt x="68" y="88"/>
                  </a:cubicBezTo>
                  <a:cubicBezTo>
                    <a:pt x="68" y="88"/>
                    <a:pt x="67" y="96"/>
                    <a:pt x="79" y="98"/>
                  </a:cubicBezTo>
                  <a:cubicBezTo>
                    <a:pt x="92" y="99"/>
                    <a:pt x="96" y="96"/>
                    <a:pt x="97" y="86"/>
                  </a:cubicBezTo>
                  <a:cubicBezTo>
                    <a:pt x="99" y="76"/>
                    <a:pt x="81" y="63"/>
                    <a:pt x="63" y="69"/>
                  </a:cubicBezTo>
                  <a:cubicBezTo>
                    <a:pt x="63" y="69"/>
                    <a:pt x="60" y="70"/>
                    <a:pt x="61" y="66"/>
                  </a:cubicBezTo>
                  <a:cubicBezTo>
                    <a:pt x="61" y="63"/>
                    <a:pt x="60" y="57"/>
                    <a:pt x="69" y="46"/>
                  </a:cubicBezTo>
                  <a:cubicBezTo>
                    <a:pt x="79" y="43"/>
                    <a:pt x="103" y="38"/>
                    <a:pt x="103" y="38"/>
                  </a:cubicBezTo>
                  <a:cubicBezTo>
                    <a:pt x="103" y="38"/>
                    <a:pt x="109" y="37"/>
                    <a:pt x="111" y="39"/>
                  </a:cubicBezTo>
                  <a:cubicBezTo>
                    <a:pt x="113" y="41"/>
                    <a:pt x="121" y="57"/>
                    <a:pt x="120" y="13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3548160" y="3804480"/>
              <a:ext cx="453600" cy="33840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12" y="0"/>
                  </a:moveTo>
                  <a:cubicBezTo>
                    <a:pt x="12" y="0"/>
                    <a:pt x="12" y="9"/>
                    <a:pt x="18" y="10"/>
                  </a:cubicBezTo>
                  <a:cubicBezTo>
                    <a:pt x="24" y="12"/>
                    <a:pt x="55" y="27"/>
                    <a:pt x="62" y="35"/>
                  </a:cubicBezTo>
                  <a:cubicBezTo>
                    <a:pt x="74" y="42"/>
                    <a:pt x="68" y="47"/>
                    <a:pt x="66" y="50"/>
                  </a:cubicBezTo>
                  <a:cubicBezTo>
                    <a:pt x="63" y="55"/>
                    <a:pt x="49" y="55"/>
                    <a:pt x="49" y="55"/>
                  </a:cubicBezTo>
                  <a:cubicBezTo>
                    <a:pt x="49" y="55"/>
                    <a:pt x="27" y="51"/>
                    <a:pt x="8" y="29"/>
                  </a:cubicBezTo>
                  <a:cubicBezTo>
                    <a:pt x="2" y="19"/>
                    <a:pt x="0" y="7"/>
                    <a:pt x="12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4649760" y="3687480"/>
              <a:ext cx="312840" cy="215640"/>
            </a:xfrm>
            <a:custGeom>
              <a:avLst/>
              <a:gdLst/>
              <a:ahLst/>
              <a:rect l="l" t="t" r="r" b="b"/>
              <a:pathLst>
                <a:path w="51" h="35">
                  <a:moveTo>
                    <a:pt x="2" y="5"/>
                  </a:moveTo>
                  <a:cubicBezTo>
                    <a:pt x="2" y="5"/>
                    <a:pt x="0" y="1"/>
                    <a:pt x="4" y="1"/>
                  </a:cubicBezTo>
                  <a:cubicBezTo>
                    <a:pt x="8" y="0"/>
                    <a:pt x="13" y="1"/>
                    <a:pt x="15" y="1"/>
                  </a:cubicBezTo>
                  <a:cubicBezTo>
                    <a:pt x="16" y="2"/>
                    <a:pt x="21" y="4"/>
                    <a:pt x="23" y="4"/>
                  </a:cubicBezTo>
                  <a:cubicBezTo>
                    <a:pt x="24" y="4"/>
                    <a:pt x="49" y="2"/>
                    <a:pt x="51" y="19"/>
                  </a:cubicBezTo>
                  <a:cubicBezTo>
                    <a:pt x="47" y="30"/>
                    <a:pt x="33" y="35"/>
                    <a:pt x="33" y="35"/>
                  </a:cubicBezTo>
                  <a:cubicBezTo>
                    <a:pt x="28" y="32"/>
                    <a:pt x="28" y="32"/>
                    <a:pt x="28" y="32"/>
                  </a:cubicBezTo>
                  <a:cubicBezTo>
                    <a:pt x="28" y="32"/>
                    <a:pt x="19" y="23"/>
                    <a:pt x="15" y="18"/>
                  </a:cubicBezTo>
                  <a:cubicBezTo>
                    <a:pt x="12" y="14"/>
                    <a:pt x="5" y="13"/>
                    <a:pt x="2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843280" y="3645000"/>
            <a:ext cx="600120" cy="609480"/>
            <a:chOff x="2843280" y="3645000"/>
            <a:chExt cx="600120" cy="609480"/>
          </a:xfrm>
        </p:grpSpPr>
        <p:sp>
          <p:nvSpPr>
            <p:cNvPr id="142" name="Freeform 1276"/>
            <p:cNvSpPr/>
            <p:nvPr/>
          </p:nvSpPr>
          <p:spPr>
            <a:xfrm>
              <a:off x="2843280" y="3645000"/>
              <a:ext cx="600120" cy="448200"/>
            </a:xfrm>
            <a:prstGeom prst="pi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00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81"/>
            <p:cNvSpPr/>
            <p:nvPr/>
          </p:nvSpPr>
          <p:spPr>
            <a:xfrm>
              <a:off x="3044160" y="4017240"/>
              <a:ext cx="268200" cy="237240"/>
            </a:xfrm>
            <a:prstGeom prst="pi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79640" y="2988720"/>
            <a:ext cx="4835880" cy="2153160"/>
            <a:chOff x="1979640" y="2988720"/>
            <a:chExt cx="4835880" cy="2153160"/>
          </a:xfrm>
        </p:grpSpPr>
        <p:grpSp>
          <p:nvGrpSpPr>
            <p:cNvPr id="145" name=""/>
            <p:cNvGrpSpPr/>
            <p:nvPr/>
          </p:nvGrpSpPr>
          <p:grpSpPr>
            <a:xfrm>
              <a:off x="1979640" y="3573360"/>
              <a:ext cx="2743200" cy="1137600"/>
              <a:chOff x="1979640" y="3573360"/>
              <a:chExt cx="2743200" cy="1137600"/>
            </a:xfrm>
          </p:grpSpPr>
          <p:pic>
            <p:nvPicPr>
              <p:cNvPr id="146" name="老鼠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9640" y="3573360"/>
                <a:ext cx="907920" cy="90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2008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9320" y="4276440"/>
                <a:ext cx="2333520" cy="434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8" name=""/>
            <p:cNvGrpSpPr/>
            <p:nvPr/>
          </p:nvGrpSpPr>
          <p:grpSpPr>
            <a:xfrm>
              <a:off x="4919400" y="2988720"/>
              <a:ext cx="1896120" cy="2153160"/>
              <a:chOff x="4919400" y="2988720"/>
              <a:chExt cx="1896120" cy="2153160"/>
            </a:xfrm>
          </p:grpSpPr>
          <p:pic>
            <p:nvPicPr>
              <p:cNvPr id="149" name="钱币" descr=""/>
              <p:cNvPicPr/>
              <p:nvPr/>
            </p:nvPicPr>
            <p:blipFill>
              <a:blip r:embed="rId9"/>
              <a:stretch/>
            </p:blipFill>
            <p:spPr>
              <a:xfrm rot="17587800">
                <a:off x="4986360" y="3453840"/>
                <a:ext cx="1819080" cy="12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4919400" y="3968640"/>
                <a:ext cx="15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医院</a:t>
                </a:r>
                <a:r>
                  <a:rPr b="0" lang="en-US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4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39280" y="4330440"/>
                <a:ext cx="142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xx</a:t>
                </a:r>
                <a:r>
                  <a:rPr b="0" lang="zh-CN" sz="2000" spc="-1" strike="noStrike">
                    <a:solidFill>
                      <a:srgbClr val="ffff66"/>
                    </a:solidFill>
                    <a:latin typeface="华文新魏"/>
                    <a:ea typeface="华文新魏"/>
                  </a:rPr>
                  <a:t>年度工作总结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" name=""/>
          <p:cNvSpPr txBox="1"/>
          <p:nvPr/>
        </p:nvSpPr>
        <p:spPr>
          <a:xfrm>
            <a:off x="1908000" y="2781360"/>
            <a:ext cx="548640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新的一年</a:t>
            </a:r>
            <a:r>
              <a:rPr b="1" lang="en-US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,</a:t>
            </a:r>
            <a:r>
              <a:rPr b="1" lang="zh-CN" sz="1800" spc="-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9000"/>
                    </a:srgbClr>
                  </a:outerShdw>
                </a:effectLst>
                <a:latin typeface="华文新魏"/>
              </a:rPr>
              <a:t>让我们再创辉煌！</a:t>
            </a:r>
            <a:endParaRPr b="1" lang="en-US" sz="1800" spc="-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8" repeatCount="4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11111E-006 -3.87283E-006 C 0.00417 -0.01387 0.00781 -0.02751 0.01528 -0.03468 C 0.02257 -0.04231 0.03629 -0.04739 0.04583 -0.04485 C 0.05417 -0.04185 0.06267 -0.02612 0.06806 -0.01849 C 0.07379 -0.01086 0.07222 -0.00323 0.07952 -3.87283E-006 C 0.08681 0.00324 0.10104 0.00625 0.10972 -3.87283E-006 C 0.1184 -0.00624 0.1224 -0.03052 0.13108 -0.03699 C 0.13976 -0.0437 0.15347 -0.0467 0.16285 -0.04023 C 0.1724 -0.03398 0.17795 -0.00555 0.18889 0.00093 C 0.19948 0.00763 0.21771 0.00671 0.22761 -3.87283E-006 C 0.23785 -0.0067 0.24063 -0.03237 0.2507 -0.03907 C 0.26059 -0.04601 0.2783 -0.04809 0.28646 -0.04138 C 0.29462 -0.03445 0.29254 -0.00601 0.29931 0.00208 C 0.30712 0.01041 0.32309 0.0081 0.3309 0.00671 C 0.33889 0.00486 0.34497 -0.0037 0.34809 -0.00763 C 0.35208 -0.01133 0.3533 -0.01387 0.35452 -0.01641 E">
                                      <p:cBhvr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3.69942E-006 C -0.00869 -0.01064 -0.0165 -0.02128 -0.02605 -0.02752 C -0.03559 -0.03399 -0.04879 -0.03977 -0.05747 -0.03815 C -0.06615 -0.037 -0.07327 -0.02706 -0.07813 -0.01966 C -0.08299 -0.01318 -0.0823 -0.00116 -0.08785 0.003 C -0.09306 0.00716 -0.10244 0.01017 -0.1099 0.00439 C -0.11719 -0.00116 -0.12431 -0.02451 -0.13178 -0.03052 C -0.13941 -0.03677 -0.14896 -0.03815 -0.15556 -0.03191 C -0.1625 -0.0259 -0.16494 3.69942000000029E-006 -0.17275 0.00624 C -0.18091 0.01179 -0.19584 0.00901 -0.20469 0.003 C -0.21303 -0.00301 -0.21789 -0.02474 -0.22518 -0.03052 C -0.23282 -0.03607 -0.24132 -0.037 -0.24862 -0.03052 C -0.25625 -0.02451 -0.2599 0.00254 -0.2691 0.00763 C -0.279 0.01364 -0.29549 0.00809 -0.30539 0.00138 C -0.31598 -0.00532 -0.3224 -0.02752 -0.32934 -0.03353 C -0.33646 -0.03977 -0.34289 -0.03677 -0.34844 -0.03515 C -0.35365 -0.03353 -0.35747 -0.03122 -0.36216 -0.02451 C -0.36719 -0.01758 -0.36893 0.00115 -0.37657 0.00624 C -0.38421 0.01109 -0.40053 0.01248 -0.40816 0.00624 C -0.41563 -0.00023 -0.41563 -0.02451 -0.42223 -0.03191 C -0.42882 -0.03954 -0.44132 -0.04047 -0.4474 -0.03815 C -0.454 -0.03538 -0.45834 -0.02266 -0.46164 -0.01526 C -0.46546 -0.0081 -0.46598 0.00046 -0.46962 0.00439 C -0.47379 0.00855 -0.48056 0.01294 -0.48559 0.00901 C -0.49098 0.00555 -0.49723 -0.01272 -0.50053 -0.01688 E">
                                      <p:cBhvr>
                                        <p:cTn id="132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8" repeatCount="9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00799 0.00879 C -0.00017 -0.00161 -0.0066 -0.01248 -0.01632 -0.01687 C -0.02552 -0.0215 -0.04045 -0.02404 -0.04913 -0.02127 C -0.05781 -0.01849 -0.06302 -0.00647 -0.0684 0.00024 C -0.07413 0.00648 -0.07604 0.0155 -0.08246 0.0185 C -0.08889 0.02197 -0.10017 0.02544 -0.10816 0.02012 C -0.11701 0.01457 -0.12292 -0.00624 -0.13107 -0.01271 C -0.13906 -0.01896 -0.1493 -0.02127 -0.15729 -0.01988 C -0.16545 -0.01849 -0.17413 -0.01017 -0.18038 -0.00393 C -0.18542 0.00232 -0.18594 0.01295 -0.19062 0.01734 C -0.19479 0.02174 -0.20208 0.02266 -0.20781 0.02266 C -0.21285 0.02336 -0.2191 0.02798 -0.225 0.02151 C -0.23142 0.01503 -0.23715 -0.00832 -0.24427 -0.01549 C -0.25156 -0.02289 -0.26111 -0.02427 -0.26875 -0.02219 C -0.27621 -0.01988 -0.28385 -0.00739 -0.28958 0.00024 C -0.29601 0.00787 -0.29844 0.0185 -0.30573 0.02266 C -0.3118 0.02682 -0.31979 0.03261 -0.32917 0.02544 C -0.33837 0.01989 -0.3526 -0.00416 -0.36076 -0.01271 C -0.36962 -0.02127 -0.37517 -0.02242 -0.38177 -0.02404 C -0.38802 -0.02427 -0.39479 -0.02381 -0.39965 -0.01988 C -0.40417 -0.01549 -0.4059 -0.00624 -0.40972 0.00024 C -0.41354 0.00648 -0.41632 0.0155 -0.42205 0.0185 C -0.42778 0.02197 -0.43715 0.02544 -0.44427 0.02012 C -0.45208 0.01434 -0.45868 -0.00069 -0.46389 -0.01549 E">
                                      <p:cBhvr>
                                        <p:cTn id="136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5.55556E-007 3.46821E-007 L -0.00087 0.34844 E">
                                      <p:cBhvr>
                                        <p:cTn id="14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18:17:23Z</dcterms:created>
  <dc:creator>Rayn_Dodolo</dc:creator>
  <dc:description/>
  <dc:language>en-US</dc:language>
  <cp:lastModifiedBy>微软用户</cp:lastModifiedBy>
  <dcterms:modified xsi:type="dcterms:W3CDTF">2015-07-02T06:40:08Z</dcterms:modified>
  <cp:revision>210</cp:revision>
  <dc:subject>元旦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