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515-EB87-4C8C-993D-BBD6F2FF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816-967E-4645-AE26-A4A6928F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C9DC-6800-49FE-A5E5-F31A6E99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A28-3B99-458F-B378-DDD207FA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4DD-1FE7-4759-989D-8BE42BF6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FC8-A3BD-4F8B-BE65-E563EAF4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B896-21C0-4871-AAAA-5F4B6987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54F0-51CF-45E8-A2F3-F74AEF33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129-ADE5-492D-B7DE-4CA1D442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487-E07D-41E8-BC36-6D44E895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5E6-74B8-43C1-9AE9-D60BD99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75C-A113-486B-B7A1-EE93EBAE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EEAB-0F55-4392-BAE5-9E32111563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357200" y="448164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职业规划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357880" y="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428840" y="498168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4"/>
          <p:cNvGrpSpPr/>
          <p:nvPr/>
        </p:nvGrpSpPr>
        <p:grpSpPr>
          <a:xfrm>
            <a:off x="1071720" y="2173320"/>
            <a:ext cx="1348920" cy="1898640"/>
            <a:chOff x="1071720" y="2173320"/>
            <a:chExt cx="1348920" cy="1898640"/>
          </a:xfrm>
        </p:grpSpPr>
        <p:sp>
          <p:nvSpPr>
            <p:cNvPr id="45" name="新月形 9"/>
            <p:cNvSpPr/>
            <p:nvPr/>
          </p:nvSpPr>
          <p:spPr>
            <a:xfrm>
              <a:off x="107172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新月形 10"/>
            <p:cNvSpPr/>
            <p:nvPr/>
          </p:nvSpPr>
          <p:spPr>
            <a:xfrm flipH="1">
              <a:off x="147096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13"/>
          <p:cNvGrpSpPr/>
          <p:nvPr/>
        </p:nvGrpSpPr>
        <p:grpSpPr>
          <a:xfrm>
            <a:off x="2928960" y="2173320"/>
            <a:ext cx="1348920" cy="1898640"/>
            <a:chOff x="2928960" y="2173320"/>
            <a:chExt cx="1348920" cy="1898640"/>
          </a:xfrm>
        </p:grpSpPr>
        <p:sp>
          <p:nvSpPr>
            <p:cNvPr id="48" name="新月形 11"/>
            <p:cNvSpPr/>
            <p:nvPr/>
          </p:nvSpPr>
          <p:spPr>
            <a:xfrm>
              <a:off x="292896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新月形 12"/>
            <p:cNvSpPr/>
            <p:nvPr/>
          </p:nvSpPr>
          <p:spPr>
            <a:xfrm flipH="1">
              <a:off x="332820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5"/>
          <p:cNvGrpSpPr/>
          <p:nvPr/>
        </p:nvGrpSpPr>
        <p:grpSpPr>
          <a:xfrm>
            <a:off x="4865760" y="2173320"/>
            <a:ext cx="1348920" cy="1898640"/>
            <a:chOff x="4865760" y="2173320"/>
            <a:chExt cx="1348920" cy="1898640"/>
          </a:xfrm>
        </p:grpSpPr>
        <p:sp>
          <p:nvSpPr>
            <p:cNvPr id="51" name="新月形 16"/>
            <p:cNvSpPr/>
            <p:nvPr/>
          </p:nvSpPr>
          <p:spPr>
            <a:xfrm>
              <a:off x="486576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新月形 17"/>
            <p:cNvSpPr/>
            <p:nvPr/>
          </p:nvSpPr>
          <p:spPr>
            <a:xfrm flipH="1">
              <a:off x="526500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8"/>
          <p:cNvGrpSpPr/>
          <p:nvPr/>
        </p:nvGrpSpPr>
        <p:grpSpPr>
          <a:xfrm>
            <a:off x="6794640" y="2173320"/>
            <a:ext cx="1348920" cy="1898640"/>
            <a:chOff x="6794640" y="2173320"/>
            <a:chExt cx="1348920" cy="1898640"/>
          </a:xfrm>
        </p:grpSpPr>
        <p:sp>
          <p:nvSpPr>
            <p:cNvPr id="54" name="新月形 19"/>
            <p:cNvSpPr/>
            <p:nvPr/>
          </p:nvSpPr>
          <p:spPr>
            <a:xfrm>
              <a:off x="679464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新月形 20"/>
            <p:cNvSpPr/>
            <p:nvPr/>
          </p:nvSpPr>
          <p:spPr>
            <a:xfrm flipH="1">
              <a:off x="7193880" y="2173320"/>
              <a:ext cx="949320" cy="1898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526" y="619"/>
                    <a:pt x="3452" y="5080"/>
                    <a:pt x="3452" y="10800"/>
                  </a:cubicBezTo>
                  <a:cubicBezTo>
                    <a:pt x="3452" y="16520"/>
                    <a:pt x="12526" y="2098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0"/>
          <p:cNvSpPr/>
          <p:nvPr/>
        </p:nvSpPr>
        <p:spPr>
          <a:xfrm>
            <a:off x="51408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7069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1"/>
          <p:cNvSpPr/>
          <p:nvPr/>
        </p:nvSpPr>
        <p:spPr>
          <a:xfrm>
            <a:off x="12830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饼形 20"/>
          <p:cNvSpPr/>
          <p:nvPr/>
        </p:nvSpPr>
        <p:spPr>
          <a:xfrm>
            <a:off x="2286000" y="3584520"/>
            <a:ext cx="2701800" cy="2702160"/>
          </a:xfrm>
          <a:custGeom>
            <a:avLst/>
            <a:gdLst>
              <a:gd name="textAreaLeft" fmla="*/ 395640 w 2701800"/>
              <a:gd name="textAreaRight" fmla="*/ 2306160 w 2701800"/>
              <a:gd name="textAreaTop" fmla="*/ 395640 h 2702160"/>
              <a:gd name="textAreaBottom" fmla="*/ 2306520 h 2702160"/>
            </a:gdLst>
            <a:ahLst/>
            <a:rect l="textAreaLeft" t="textAreaTop" r="textAreaRight" b="textAreaBottom"/>
            <a:pathLst>
              <a:path w="2701925" h="2701925">
                <a:moveTo>
                  <a:pt x="2701925" y="1350963"/>
                </a:moveTo>
                <a:lnTo>
                  <a:pt x="2701925" y="1350963"/>
                </a:lnTo>
                <a:arcTo wR="1350963" hR="1350963" stAng="0" swAng="16200005"/>
                <a:lnTo>
                  <a:pt x="1350963" y="1350963"/>
                </a:lnTo>
                <a:close/>
              </a:path>
            </a:pathLst>
          </a:custGeom>
          <a:solidFill>
            <a:srgbClr val="ccb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饼形 21"/>
          <p:cNvSpPr/>
          <p:nvPr/>
        </p:nvSpPr>
        <p:spPr>
          <a:xfrm flipV="1">
            <a:off x="2286000" y="856800"/>
            <a:ext cx="2701800" cy="2702160"/>
          </a:xfrm>
          <a:custGeom>
            <a:avLst/>
            <a:gdLst>
              <a:gd name="textAreaLeft" fmla="*/ 395640 w 2701800"/>
              <a:gd name="textAreaRight" fmla="*/ 2306160 w 2701800"/>
              <a:gd name="textAreaTop" fmla="*/ 395640 h 2702160"/>
              <a:gd name="textAreaBottom" fmla="*/ 2306520 h 2702160"/>
            </a:gdLst>
            <a:ahLst/>
            <a:rect l="textAreaLeft" t="textAreaTop" r="textAreaRight" b="textAreaBottom"/>
            <a:pathLst>
              <a:path w="2701925" h="2701925">
                <a:moveTo>
                  <a:pt x="2701925" y="1350963"/>
                </a:moveTo>
                <a:lnTo>
                  <a:pt x="2701925" y="1350963"/>
                </a:lnTo>
                <a:arcTo wR="1350963" hR="1350963" stAng="0" swAng="16200005"/>
                <a:lnTo>
                  <a:pt x="1350963" y="1350963"/>
                </a:lnTo>
                <a:close/>
              </a:path>
            </a:pathLst>
          </a:custGeom>
          <a:solidFill>
            <a:srgbClr val="f7a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4"/>
          <p:cNvGrpSpPr/>
          <p:nvPr/>
        </p:nvGrpSpPr>
        <p:grpSpPr>
          <a:xfrm>
            <a:off x="5000400" y="857160"/>
            <a:ext cx="2701800" cy="5429520"/>
            <a:chOff x="5000400" y="857160"/>
            <a:chExt cx="2701800" cy="5429520"/>
          </a:xfrm>
        </p:grpSpPr>
        <p:sp>
          <p:nvSpPr>
            <p:cNvPr id="68" name="饼形 22"/>
            <p:cNvSpPr/>
            <p:nvPr/>
          </p:nvSpPr>
          <p:spPr>
            <a:xfrm flipH="1" flipV="1">
              <a:off x="5000040" y="857160"/>
              <a:ext cx="2701800" cy="2702160"/>
            </a:xfrm>
            <a:custGeom>
              <a:avLst/>
              <a:gdLst>
                <a:gd name="textAreaLeft" fmla="*/ 395640 w 2701800"/>
                <a:gd name="textAreaRight" fmla="*/ 2306160 w 2701800"/>
                <a:gd name="textAreaTop" fmla="*/ 395640 h 2702160"/>
                <a:gd name="textAreaBottom" fmla="*/ 2306520 h 2702160"/>
              </a:gdLst>
              <a:ahLst/>
              <a:rect l="textAreaLeft" t="textAreaTop" r="textAreaRight" b="textAreaBottom"/>
              <a:pathLst>
                <a:path w="2701632" h="2701944">
                  <a:moveTo>
                    <a:pt x="2701632" y="1350972"/>
                  </a:moveTo>
                  <a:lnTo>
                    <a:pt x="2701632" y="1350972"/>
                  </a:lnTo>
                  <a:arcTo wR="1350816" hR="1350972" stAng="0" swAng="16200005"/>
                  <a:lnTo>
                    <a:pt x="1350816" y="1350972"/>
                  </a:lnTo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饼形 23"/>
            <p:cNvSpPr/>
            <p:nvPr/>
          </p:nvSpPr>
          <p:spPr>
            <a:xfrm flipH="1">
              <a:off x="5000040" y="3584520"/>
              <a:ext cx="2701800" cy="2702160"/>
            </a:xfrm>
            <a:custGeom>
              <a:avLst/>
              <a:gdLst>
                <a:gd name="textAreaLeft" fmla="*/ 395640 w 2701800"/>
                <a:gd name="textAreaRight" fmla="*/ 2306160 w 2701800"/>
                <a:gd name="textAreaTop" fmla="*/ 395640 h 2702160"/>
                <a:gd name="textAreaBottom" fmla="*/ 2306520 h 2702160"/>
              </a:gdLst>
              <a:ahLst/>
              <a:rect l="textAreaLeft" t="textAreaTop" r="textAreaRight" b="textAreaBottom"/>
              <a:pathLst>
                <a:path w="2701632" h="2701944">
                  <a:moveTo>
                    <a:pt x="2701632" y="1350972"/>
                  </a:moveTo>
                  <a:lnTo>
                    <a:pt x="2701632" y="1350972"/>
                  </a:lnTo>
                  <a:arcTo wR="1350816" hR="1350972" stAng="0" swAng="16200005"/>
                  <a:lnTo>
                    <a:pt x="1350816" y="1350972"/>
                  </a:lnTo>
                  <a:close/>
                </a:path>
              </a:pathLst>
            </a:cu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3283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59979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335484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5"/>
          <p:cNvSpPr/>
          <p:nvPr/>
        </p:nvSpPr>
        <p:spPr>
          <a:xfrm>
            <a:off x="58550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圆角矩形 10"/>
          <p:cNvSpPr/>
          <p:nvPr/>
        </p:nvSpPr>
        <p:spPr>
          <a:xfrm>
            <a:off x="642960" y="1785960"/>
            <a:ext cx="1857240" cy="3214800"/>
          </a:xfrm>
          <a:custGeom>
            <a:avLst/>
            <a:gdLst>
              <a:gd name="textAreaLeft" fmla="*/ 90360 w 1857240"/>
              <a:gd name="textAreaRight" fmla="*/ 1766880 w 1857240"/>
              <a:gd name="textAreaTop" fmla="*/ 90360 h 3214800"/>
              <a:gd name="textAreaBottom" fmla="*/ 3124440 h 3214800"/>
            </a:gdLst>
            <a:ahLst/>
            <a:rect l="textAreaLeft" t="textAreaTop" r="textAreaRight" b="textAreaBottom"/>
            <a:pathLst>
              <a:path w="21600" h="37386">
                <a:moveTo>
                  <a:pt x="3600" y="0"/>
                </a:moveTo>
                <a:arcTo wR="3600" hR="3600" stAng="16200000" swAng="-5400000"/>
                <a:lnTo>
                  <a:pt x="0" y="33786"/>
                </a:lnTo>
                <a:arcTo wR="3600" hR="3600" stAng="10800000" swAng="-5400000"/>
                <a:lnTo>
                  <a:pt x="18000" y="3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a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11"/>
          <p:cNvSpPr/>
          <p:nvPr/>
        </p:nvSpPr>
        <p:spPr>
          <a:xfrm>
            <a:off x="2643120" y="1785960"/>
            <a:ext cx="1857600" cy="321480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3214800"/>
              <a:gd name="textAreaBottom" fmla="*/ 3124440 h 3214800"/>
            </a:gdLst>
            <a:ahLst/>
            <a:rect l="textAreaLeft" t="textAreaTop" r="textAreaRight" b="textAreaBottom"/>
            <a:pathLst>
              <a:path w="21600" h="37378">
                <a:moveTo>
                  <a:pt x="3600" y="0"/>
                </a:moveTo>
                <a:arcTo wR="3600" hR="3600" stAng="16200000" swAng="-5400000"/>
                <a:lnTo>
                  <a:pt x="0" y="33778"/>
                </a:lnTo>
                <a:arcTo wR="3600" hR="3600" stAng="10800000" swAng="-5400000"/>
                <a:lnTo>
                  <a:pt x="18000" y="37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b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2"/>
          <p:cNvSpPr/>
          <p:nvPr/>
        </p:nvSpPr>
        <p:spPr>
          <a:xfrm>
            <a:off x="4643280" y="1785960"/>
            <a:ext cx="1857600" cy="3214800"/>
          </a:xfrm>
          <a:custGeom>
            <a:avLst/>
            <a:gdLst>
              <a:gd name="textAreaLeft" fmla="*/ 90360 w 1857600"/>
              <a:gd name="textAreaRight" fmla="*/ 1767240 w 1857600"/>
              <a:gd name="textAreaTop" fmla="*/ 90360 h 3214800"/>
              <a:gd name="textAreaBottom" fmla="*/ 3124440 h 3214800"/>
            </a:gdLst>
            <a:ahLst/>
            <a:rect l="textAreaLeft" t="textAreaTop" r="textAreaRight" b="textAreaBottom"/>
            <a:pathLst>
              <a:path w="21600" h="37378">
                <a:moveTo>
                  <a:pt x="3600" y="0"/>
                </a:moveTo>
                <a:arcTo wR="3600" hR="3600" stAng="16200000" swAng="-5400000"/>
                <a:lnTo>
                  <a:pt x="0" y="33778"/>
                </a:lnTo>
                <a:arcTo wR="3600" hR="3600" stAng="10800000" swAng="-5400000"/>
                <a:lnTo>
                  <a:pt x="18000" y="373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7a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13"/>
          <p:cNvSpPr/>
          <p:nvPr/>
        </p:nvSpPr>
        <p:spPr>
          <a:xfrm>
            <a:off x="6643800" y="1785960"/>
            <a:ext cx="1857240" cy="3214800"/>
          </a:xfrm>
          <a:custGeom>
            <a:avLst/>
            <a:gdLst>
              <a:gd name="textAreaLeft" fmla="*/ 90360 w 1857240"/>
              <a:gd name="textAreaRight" fmla="*/ 1766880 w 1857240"/>
              <a:gd name="textAreaTop" fmla="*/ 90360 h 3214800"/>
              <a:gd name="textAreaBottom" fmla="*/ 3124440 h 3214800"/>
            </a:gdLst>
            <a:ahLst/>
            <a:rect l="textAreaLeft" t="textAreaTop" r="textAreaRight" b="textAreaBottom"/>
            <a:pathLst>
              <a:path w="21600" h="37386">
                <a:moveTo>
                  <a:pt x="3600" y="0"/>
                </a:moveTo>
                <a:arcTo wR="3600" hR="3600" stAng="16200000" swAng="-5400000"/>
                <a:lnTo>
                  <a:pt x="0" y="33786"/>
                </a:lnTo>
                <a:arcTo wR="3600" hR="3600" stAng="10800000" swAng="-5400000"/>
                <a:lnTo>
                  <a:pt x="18000" y="373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b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3069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71409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4"/>
          <p:cNvSpPr/>
          <p:nvPr/>
        </p:nvSpPr>
        <p:spPr>
          <a:xfrm>
            <a:off x="5069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10688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组合 14"/>
          <p:cNvGrpSpPr/>
          <p:nvPr/>
        </p:nvGrpSpPr>
        <p:grpSpPr>
          <a:xfrm>
            <a:off x="3571920" y="714240"/>
            <a:ext cx="2642760" cy="5500800"/>
            <a:chOff x="3571920" y="714240"/>
            <a:chExt cx="2642760" cy="5500800"/>
          </a:xfrm>
        </p:grpSpPr>
        <p:sp>
          <p:nvSpPr>
            <p:cNvPr id="93" name="右箭头 10"/>
            <p:cNvSpPr/>
            <p:nvPr/>
          </p:nvSpPr>
          <p:spPr>
            <a:xfrm>
              <a:off x="3571920" y="714240"/>
              <a:ext cx="2143080" cy="150012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右箭头 11"/>
            <p:cNvSpPr/>
            <p:nvPr/>
          </p:nvSpPr>
          <p:spPr>
            <a:xfrm flipH="1">
              <a:off x="4071240" y="2071440"/>
              <a:ext cx="2143080" cy="150012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右箭头 12"/>
            <p:cNvSpPr/>
            <p:nvPr/>
          </p:nvSpPr>
          <p:spPr>
            <a:xfrm>
              <a:off x="3571920" y="3357360"/>
              <a:ext cx="2143080" cy="150012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右箭头 13"/>
            <p:cNvSpPr/>
            <p:nvPr/>
          </p:nvSpPr>
          <p:spPr>
            <a:xfrm flipH="1">
              <a:off x="4071240" y="4714920"/>
              <a:ext cx="2143080" cy="1500120"/>
            </a:xfrm>
            <a:prstGeom prst="rightArrow">
              <a:avLst>
                <a:gd name="adj1" fmla="val 50000"/>
                <a:gd name="adj2" fmla="val 50001"/>
              </a:avLst>
            </a:prstGeom>
            <a:solidFill>
              <a:srgbClr val="f7aa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3926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3"/>
          <p:cNvSpPr/>
          <p:nvPr/>
        </p:nvSpPr>
        <p:spPr>
          <a:xfrm>
            <a:off x="4069080" y="1285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48549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485496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图文框 10"/>
          <p:cNvSpPr/>
          <p:nvPr/>
        </p:nvSpPr>
        <p:spPr>
          <a:xfrm>
            <a:off x="3500280" y="3009960"/>
            <a:ext cx="5214960" cy="2347920"/>
          </a:xfrm>
          <a:custGeom>
            <a:avLst/>
            <a:gdLst>
              <a:gd name="textAreaLeft" fmla="*/ 220680 w 5214960"/>
              <a:gd name="textAreaRight" fmla="*/ 4994280 w 5214960"/>
              <a:gd name="textAreaTop" fmla="*/ 220680 h 2347920"/>
              <a:gd name="textAreaBottom" fmla="*/ 2127240 h 2347920"/>
            </a:gdLst>
            <a:ahLst/>
            <a:rect l="textAreaLeft" t="textAreaTop" r="textAreaRight" b="textAreaBottom"/>
            <a:pathLst>
              <a:path w="5214937" h="2347913">
                <a:moveTo>
                  <a:pt x="0" y="0"/>
                </a:moveTo>
                <a:lnTo>
                  <a:pt x="5214937" y="0"/>
                </a:lnTo>
                <a:lnTo>
                  <a:pt x="5214937" y="2347913"/>
                </a:lnTo>
                <a:lnTo>
                  <a:pt x="0" y="2347913"/>
                </a:lnTo>
                <a:close/>
                <a:moveTo>
                  <a:pt x="220751" y="220751"/>
                </a:moveTo>
                <a:lnTo>
                  <a:pt x="220751" y="2127162"/>
                </a:lnTo>
                <a:lnTo>
                  <a:pt x="4994186" y="2127162"/>
                </a:lnTo>
                <a:lnTo>
                  <a:pt x="4994186" y="220751"/>
                </a:lnTo>
                <a:close/>
              </a:path>
            </a:pathLst>
          </a:custGeom>
          <a:solidFill>
            <a:srgbClr val="ccbc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图文框 11"/>
          <p:cNvSpPr/>
          <p:nvPr/>
        </p:nvSpPr>
        <p:spPr>
          <a:xfrm>
            <a:off x="428760" y="1428840"/>
            <a:ext cx="5214960" cy="2347920"/>
          </a:xfrm>
          <a:custGeom>
            <a:avLst/>
            <a:gdLst>
              <a:gd name="textAreaLeft" fmla="*/ 220680 w 5214960"/>
              <a:gd name="textAreaRight" fmla="*/ 4994280 w 5214960"/>
              <a:gd name="textAreaTop" fmla="*/ 220680 h 2347920"/>
              <a:gd name="textAreaBottom" fmla="*/ 2127240 h 2347920"/>
            </a:gdLst>
            <a:ahLst/>
            <a:rect l="textAreaLeft" t="textAreaTop" r="textAreaRight" b="textAreaBottom"/>
            <a:pathLst>
              <a:path w="5214938" h="2347913">
                <a:moveTo>
                  <a:pt x="0" y="0"/>
                </a:moveTo>
                <a:lnTo>
                  <a:pt x="5214938" y="0"/>
                </a:lnTo>
                <a:lnTo>
                  <a:pt x="5214938" y="2347913"/>
                </a:lnTo>
                <a:lnTo>
                  <a:pt x="0" y="2347913"/>
                </a:lnTo>
                <a:close/>
                <a:moveTo>
                  <a:pt x="220751" y="220751"/>
                </a:moveTo>
                <a:lnTo>
                  <a:pt x="220751" y="2127162"/>
                </a:lnTo>
                <a:lnTo>
                  <a:pt x="4994187" y="2127162"/>
                </a:lnTo>
                <a:lnTo>
                  <a:pt x="4994187" y="220751"/>
                </a:lnTo>
                <a:close/>
              </a:path>
            </a:pathLst>
          </a:custGeom>
          <a:solidFill>
            <a:srgbClr val="f7a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4"/>
          <p:cNvSpPr/>
          <p:nvPr/>
        </p:nvSpPr>
        <p:spPr>
          <a:xfrm>
            <a:off x="2283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0"/>
          <p:cNvGrpSpPr/>
          <p:nvPr/>
        </p:nvGrpSpPr>
        <p:grpSpPr>
          <a:xfrm>
            <a:off x="1571760" y="1857240"/>
            <a:ext cx="3000240" cy="3054600"/>
            <a:chOff x="1571760" y="1857240"/>
            <a:chExt cx="3000240" cy="3054600"/>
          </a:xfrm>
        </p:grpSpPr>
        <p:sp>
          <p:nvSpPr>
            <p:cNvPr id="116" name="缺角矩形 11"/>
            <p:cNvSpPr/>
            <p:nvPr/>
          </p:nvSpPr>
          <p:spPr>
            <a:xfrm>
              <a:off x="1571760" y="1857240"/>
              <a:ext cx="3000240" cy="3054600"/>
            </a:xfrm>
            <a:custGeom>
              <a:avLst/>
              <a:gdLst>
                <a:gd name="textAreaLeft" fmla="*/ 353520 w 3000240"/>
                <a:gd name="textAreaRight" fmla="*/ 2646720 w 3000240"/>
                <a:gd name="textAreaTop" fmla="*/ 353520 h 3054600"/>
                <a:gd name="textAreaBottom" fmla="*/ 2701080 h 3054600"/>
              </a:gdLst>
              <a:ahLst/>
              <a:rect l="textAreaLeft" t="textAreaTop" r="textAreaRight" b="textAreaBottom"/>
              <a:pathLst>
                <a:path w="21600" h="21991">
                  <a:moveTo>
                    <a:pt x="3600" y="0"/>
                  </a:moveTo>
                  <a:arcTo wR="3600" hR="3600" stAng="0" swAng="5400000"/>
                  <a:lnTo>
                    <a:pt x="0" y="18391"/>
                  </a:lnTo>
                  <a:arcTo wR="3600" hR="3600" stAng="16200000" swAng="5400000"/>
                  <a:lnTo>
                    <a:pt x="18000" y="2199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缺角矩形 12"/>
            <p:cNvSpPr/>
            <p:nvPr/>
          </p:nvSpPr>
          <p:spPr>
            <a:xfrm>
              <a:off x="1643040" y="1928520"/>
              <a:ext cx="2817720" cy="2858040"/>
            </a:xfrm>
            <a:custGeom>
              <a:avLst/>
              <a:gdLst>
                <a:gd name="textAreaLeft" fmla="*/ 331920 w 2817720"/>
                <a:gd name="textAreaRight" fmla="*/ 2485800 w 2817720"/>
                <a:gd name="textAreaTop" fmla="*/ 331920 h 2858040"/>
                <a:gd name="textAreaBottom" fmla="*/ 2526120 h 2858040"/>
              </a:gdLst>
              <a:ahLst/>
              <a:rect l="textAreaLeft" t="textAreaTop" r="textAreaRight" b="textAreaBottom"/>
              <a:pathLst>
                <a:path w="21600" h="21909">
                  <a:moveTo>
                    <a:pt x="3600" y="0"/>
                  </a:moveTo>
                  <a:arcTo wR="3600" hR="3600" stAng="0" swAng="5400000"/>
                  <a:lnTo>
                    <a:pt x="0" y="18309"/>
                  </a:lnTo>
                  <a:arcTo wR="3600" hR="3600" stAng="16200000" swAng="5400000"/>
                  <a:lnTo>
                    <a:pt x="18000" y="21909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noFill/>
            <a:ln w="25560">
              <a:solidFill>
                <a:srgbClr val="f7aa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3"/>
          <p:cNvGrpSpPr/>
          <p:nvPr/>
        </p:nvGrpSpPr>
        <p:grpSpPr>
          <a:xfrm>
            <a:off x="5000760" y="1874880"/>
            <a:ext cx="3000240" cy="3054240"/>
            <a:chOff x="5000760" y="1874880"/>
            <a:chExt cx="3000240" cy="3054240"/>
          </a:xfrm>
        </p:grpSpPr>
        <p:sp>
          <p:nvSpPr>
            <p:cNvPr id="119" name="缺角矩形 14"/>
            <p:cNvSpPr/>
            <p:nvPr/>
          </p:nvSpPr>
          <p:spPr>
            <a:xfrm>
              <a:off x="5000760" y="1874880"/>
              <a:ext cx="3000240" cy="3054240"/>
            </a:xfrm>
            <a:custGeom>
              <a:avLst/>
              <a:gdLst>
                <a:gd name="textAreaLeft" fmla="*/ 353520 w 3000240"/>
                <a:gd name="textAreaRight" fmla="*/ 2646720 w 3000240"/>
                <a:gd name="textAreaTop" fmla="*/ 353520 h 3054240"/>
                <a:gd name="textAreaBottom" fmla="*/ 2700720 h 3054240"/>
              </a:gdLst>
              <a:ahLst/>
              <a:rect l="textAreaLeft" t="textAreaTop" r="textAreaRight" b="textAreaBottom"/>
              <a:pathLst>
                <a:path w="21600" h="21989">
                  <a:moveTo>
                    <a:pt x="3600" y="0"/>
                  </a:moveTo>
                  <a:arcTo wR="3600" hR="3600" stAng="0" swAng="5400000"/>
                  <a:lnTo>
                    <a:pt x="0" y="18389"/>
                  </a:lnTo>
                  <a:arcTo wR="3600" hR="3600" stAng="16200000" swAng="5400000"/>
                  <a:lnTo>
                    <a:pt x="18000" y="21989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ccb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缺角矩形 15"/>
            <p:cNvSpPr/>
            <p:nvPr/>
          </p:nvSpPr>
          <p:spPr>
            <a:xfrm>
              <a:off x="5072040" y="1946160"/>
              <a:ext cx="2817720" cy="2857680"/>
            </a:xfrm>
            <a:custGeom>
              <a:avLst/>
              <a:gdLst>
                <a:gd name="textAreaLeft" fmla="*/ 331920 w 2817720"/>
                <a:gd name="textAreaRight" fmla="*/ 2485800 w 2817720"/>
                <a:gd name="textAreaTop" fmla="*/ 331920 h 2857680"/>
                <a:gd name="textAreaBottom" fmla="*/ 2525760 h 2857680"/>
              </a:gdLst>
              <a:ahLst/>
              <a:rect l="textAreaLeft" t="textAreaTop" r="textAreaRight" b="textAreaBottom"/>
              <a:pathLst>
                <a:path w="21600" h="21906">
                  <a:moveTo>
                    <a:pt x="3600" y="0"/>
                  </a:moveTo>
                  <a:arcTo wR="3600" hR="3600" stAng="0" swAng="5400000"/>
                  <a:lnTo>
                    <a:pt x="0" y="18306"/>
                  </a:lnTo>
                  <a:arcTo wR="3600" hR="3600" stAng="16200000" swAng="5400000"/>
                  <a:lnTo>
                    <a:pt x="18000" y="21906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noFill/>
            <a:ln w="25560">
              <a:solidFill>
                <a:srgbClr val="f7aa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3"/>
          <p:cNvSpPr/>
          <p:nvPr/>
        </p:nvSpPr>
        <p:spPr>
          <a:xfrm>
            <a:off x="6069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2568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2T03:42:32Z</dcterms:modified>
  <cp:revision>285</cp:revision>
  <dc:subject/>
  <dc:title>幻灯片 1</dc:title>
</cp:coreProperties>
</file>