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CE9-0B11-4DDF-ACCC-2F789314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894-3FD3-4792-B3B1-7B6818D0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E48-B3FC-4DE6-AFF5-D6469115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706-9995-4E4A-8677-59839F09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386-2F71-4859-8C62-FC7557CC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73D-D7A3-4764-B161-DA2BE01C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41D-4BBB-4B83-86B1-3B0BA0F4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317-FB0A-4194-A864-44DEF033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B91-4E89-4FB1-AB59-DE754651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3D6-DC4C-4A46-A4B5-71495FC3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522-E9A8-4E33-93BD-5E6F1359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F6E-29CF-42AA-AE11-76A60101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C9C7-BE46-480A-BC85-C7652324F8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1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928960" y="1577880"/>
            <a:ext cx="2398680" cy="1251360"/>
            <a:chOff x="2928960" y="1577880"/>
            <a:chExt cx="2398680" cy="1251360"/>
          </a:xfrm>
        </p:grpSpPr>
        <p:pic>
          <p:nvPicPr>
            <p:cNvPr id="43" name="图片 4" descr="2.png"/>
            <p:cNvPicPr/>
            <p:nvPr/>
          </p:nvPicPr>
          <p:blipFill>
            <a:blip r:embed="rId2"/>
            <a:srcRect l="0" t="0" r="56936" b="23833"/>
            <a:stretch/>
          </p:blipFill>
          <p:spPr>
            <a:xfrm>
              <a:off x="2928960" y="1597680"/>
              <a:ext cx="918720" cy="92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4" descr="2.png"/>
            <p:cNvPicPr/>
            <p:nvPr/>
          </p:nvPicPr>
          <p:blipFill>
            <a:blip r:embed="rId3"/>
            <a:srcRect l="43081" t="0" r="-10024" b="70732"/>
            <a:stretch/>
          </p:blipFill>
          <p:spPr>
            <a:xfrm>
              <a:off x="3899160" y="1577880"/>
              <a:ext cx="1428480" cy="3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Box 6"/>
            <p:cNvSpPr/>
            <p:nvPr/>
          </p:nvSpPr>
          <p:spPr>
            <a:xfrm>
              <a:off x="3827880" y="1863720"/>
              <a:ext cx="142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新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7"/>
            <p:cNvSpPr/>
            <p:nvPr/>
          </p:nvSpPr>
          <p:spPr>
            <a:xfrm>
              <a:off x="2979360" y="2445840"/>
              <a:ext cx="2142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2011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辛卯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(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兔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11.pn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2035080" y="2143080"/>
            <a:ext cx="50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6" descr="8.png"/>
          <p:cNvPicPr/>
          <p:nvPr/>
        </p:nvPicPr>
        <p:blipFill>
          <a:blip r:embed="rId2"/>
          <a:stretch/>
        </p:blipFill>
        <p:spPr>
          <a:xfrm>
            <a:off x="1357200" y="2676600"/>
            <a:ext cx="596880" cy="6476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9.png"/>
          <p:cNvPicPr/>
          <p:nvPr/>
        </p:nvPicPr>
        <p:blipFill>
          <a:blip r:embed="rId3"/>
          <a:stretch/>
        </p:blipFill>
        <p:spPr>
          <a:xfrm>
            <a:off x="7000920" y="1857240"/>
            <a:ext cx="54288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3" descr="1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000240" y="1863720"/>
            <a:ext cx="2643480" cy="1203480"/>
            <a:chOff x="3000240" y="1863720"/>
            <a:chExt cx="2643480" cy="1203480"/>
          </a:xfrm>
        </p:grpSpPr>
        <p:sp>
          <p:nvSpPr>
            <p:cNvPr id="53" name="TextBox 6"/>
            <p:cNvSpPr/>
            <p:nvPr/>
          </p:nvSpPr>
          <p:spPr>
            <a:xfrm>
              <a:off x="3036600" y="2363760"/>
              <a:ext cx="221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f7f7f"/>
                  </a:solidFill>
                  <a:latin typeface="Calibri"/>
                </a:rPr>
                <a:t>THANK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7"/>
            <p:cNvSpPr/>
            <p:nvPr/>
          </p:nvSpPr>
          <p:spPr>
            <a:xfrm>
              <a:off x="3000240" y="1863720"/>
              <a:ext cx="264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f7f7f"/>
                  </a:solidFill>
                  <a:latin typeface="方正华隶简体"/>
                  <a:ea typeface="方正华隶简体"/>
                </a:rPr>
                <a:t>谢谢观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5:44:34Z</dcterms:created>
  <dc:creator>番茄花园</dc:creator>
  <dc:description/>
  <dc:language>en-US</dc:language>
  <cp:lastModifiedBy>YLMF</cp:lastModifiedBy>
  <dcterms:modified xsi:type="dcterms:W3CDTF">2015-06-30T00:27:00Z</dcterms:modified>
  <cp:revision>21</cp:revision>
  <dc:subject/>
  <dc:title>2011hi-hoo新年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