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5.jpeg" ContentType="image/jpeg"/>
  <Override PartName="/ppt/media/image1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gif" ContentType="image/gif"/>
  <Override PartName="/ppt/media/image1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B24-DAA6-4350-991C-870F50A1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32E-63D2-4124-B4EA-2240649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833-8105-42C1-BC44-BFF14883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269-7039-4B11-9319-B6EE8E05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F34-AD1C-4147-A8DA-5545079B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5BA-0F9F-42E9-9907-6BE3974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713-59C3-46C0-B5BF-AE74C6E6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B0D-AB56-46C7-8723-EFE80552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8F3-AB01-4042-A7AC-7C134F87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F67-B1AE-4321-8326-C4CE66D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7550-CA43-4D98-BCBB-E895B248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ADC-D52A-4563-9FA5-7451DAC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8F5F-A507-4608-A8AF-9445343B3C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6.jpeg"/><Relationship Id="rId5" Type="http://schemas.openxmlformats.org/officeDocument/2006/relationships/image" Target="../media/image12.jpeg"/><Relationship Id="rId6" Type="http://schemas.openxmlformats.org/officeDocument/2006/relationships/image" Target="../media/image6.jpeg"/><Relationship Id="rId7" Type="http://schemas.openxmlformats.org/officeDocument/2006/relationships/image" Target="../media/image13.jpeg"/><Relationship Id="rId8" Type="http://schemas.openxmlformats.org/officeDocument/2006/relationships/image" Target="../media/image6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149;&#31179;&#20116;&#38712;%200355_1.flv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38080" y="1133640"/>
            <a:ext cx="1543320" cy="154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9882"/>
          <a:stretch/>
        </p:blipFill>
        <p:spPr>
          <a:xfrm>
            <a:off x="2987640" y="1700280"/>
            <a:ext cx="5975280" cy="433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857160" y="923760"/>
            <a:ext cx="1543320" cy="704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温故知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924280"/>
            <a:ext cx="280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元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7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周平王迁都洛邑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东周开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549360"/>
            <a:ext cx="4210920" cy="5687280"/>
            <a:chOff x="0" y="549360"/>
            <a:chExt cx="4210920" cy="5687280"/>
          </a:xfrm>
        </p:grpSpPr>
        <p:grpSp>
          <p:nvGrpSpPr>
            <p:cNvPr id="88" name=""/>
            <p:cNvGrpSpPr/>
            <p:nvPr/>
          </p:nvGrpSpPr>
          <p:grpSpPr>
            <a:xfrm>
              <a:off x="0" y="549360"/>
              <a:ext cx="4210920" cy="5687280"/>
              <a:chOff x="0" y="549360"/>
              <a:chExt cx="4210920" cy="5687280"/>
            </a:xfrm>
          </p:grpSpPr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49360"/>
                <a:ext cx="4210920" cy="56872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</p:pic>
          <p:pic>
            <p:nvPicPr>
              <p:cNvPr id="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800" y="1110600"/>
                <a:ext cx="3723480" cy="47185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</p:pic>
        </p:grpSp>
        <p:sp>
          <p:nvSpPr>
            <p:cNvPr id="91" name=""/>
            <p:cNvSpPr/>
            <p:nvPr/>
          </p:nvSpPr>
          <p:spPr>
            <a:xfrm>
              <a:off x="484920" y="1029960"/>
              <a:ext cx="606960" cy="14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管 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3943440" cy="6165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56000" y="1557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齐桓公霸主地位确立的标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3716280"/>
            <a:ext cx="417492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公元前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651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年，召集诸侯“葵丘会盟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83240" y="3500280"/>
            <a:ext cx="2660760" cy="3022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4595760" cy="6335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9280" y="907920"/>
            <a:ext cx="1943280" cy="122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城濮之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退避三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4479840" cy="311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0920" y="692280"/>
            <a:ext cx="3992400" cy="2679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47640" y="677880"/>
            <a:ext cx="3240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重耳（晋文公）流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56000" y="612720"/>
            <a:ext cx="4787640" cy="3031920"/>
            <a:chOff x="4356000" y="612720"/>
            <a:chExt cx="4787640" cy="303192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356000" y="612720"/>
              <a:ext cx="4787640" cy="30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4664880" y="819000"/>
              <a:ext cx="4204800" cy="264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66960" y="803520"/>
              <a:ext cx="346500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.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楚成王的礼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645000"/>
            <a:ext cx="4427280" cy="3212640"/>
            <a:chOff x="0" y="3645000"/>
            <a:chExt cx="4427280" cy="3212640"/>
          </a:xfrm>
        </p:grpSpPr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0" y="3645000"/>
              <a:ext cx="4427280" cy="32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277200" y="3862080"/>
              <a:ext cx="3879360" cy="274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287000" y="3888360"/>
              <a:ext cx="307548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.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晋军“退避三舍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427640" y="3357720"/>
            <a:ext cx="4716000" cy="3499920"/>
            <a:chOff x="4427640" y="3357720"/>
            <a:chExt cx="4716000" cy="3499920"/>
          </a:xfrm>
        </p:grpSpPr>
        <p:pic>
          <p:nvPicPr>
            <p:cNvPr id="110" name="" descr=""/>
            <p:cNvPicPr/>
            <p:nvPr/>
          </p:nvPicPr>
          <p:blipFill>
            <a:blip r:embed="rId8"/>
            <a:stretch/>
          </p:blipFill>
          <p:spPr>
            <a:xfrm>
              <a:off x="4427640" y="3357720"/>
              <a:ext cx="4716000" cy="34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9"/>
            <a:stretch/>
          </p:blipFill>
          <p:spPr>
            <a:xfrm>
              <a:off x="4734720" y="3594240"/>
              <a:ext cx="4151520" cy="30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644720" y="3540600"/>
              <a:ext cx="3413880" cy="398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4. 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晋文公终成霸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672000" y="333360"/>
            <a:ext cx="5471280" cy="6119640"/>
            <a:chOff x="3672000" y="333360"/>
            <a:chExt cx="5471280" cy="6119640"/>
          </a:xfrm>
        </p:grpSpPr>
        <p:pic>
          <p:nvPicPr>
            <p:cNvPr id="114" name="" descr=""/>
            <p:cNvPicPr/>
            <p:nvPr/>
          </p:nvPicPr>
          <p:blipFill>
            <a:blip r:embed="rId10"/>
            <a:srcRect l="0" t="1471" r="1325" b="1471"/>
            <a:stretch/>
          </p:blipFill>
          <p:spPr>
            <a:xfrm>
              <a:off x="3681360" y="333360"/>
              <a:ext cx="5461920" cy="6119640"/>
            </a:xfrm>
            <a:prstGeom prst="rect">
              <a:avLst/>
            </a:prstGeom>
            <a:ln w="38160">
              <a:solidFill>
                <a:srgbClr val="969696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>
              <a:off x="3672000" y="359640"/>
              <a:ext cx="2099160" cy="524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00"/>
                  </a:solidFill>
                  <a:latin typeface="Times New Roman"/>
                  <a:ea typeface="黑体"/>
                </a:rPr>
                <a:t>城濮之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981000"/>
            <a:ext cx="40323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有关楚庄王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成语故事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你知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问鼎中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62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5280" y="907920"/>
            <a:ext cx="821844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春秋时期的两百多年间，诸侯们打了四百多场大战。到春秋末期 ，初期的一百多个诸侯国锐减到春秋五霸。到战国时期主要只有七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战国七雄是怎么来的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96960" y="1241280"/>
            <a:ext cx="635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模块二        合纵连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22400" y="2425680"/>
            <a:ext cx="44737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读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37-38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页，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战国时间？战国名称怎么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战国七雄是哪些国家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合纵连横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5124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696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7058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7080" y="2313000"/>
            <a:ext cx="45504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4941720"/>
            <a:ext cx="72072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8520" y="3573360"/>
            <a:ext cx="45504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80880" y="1413000"/>
            <a:ext cx="45504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33240" y="2492280"/>
            <a:ext cx="45504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33240" y="4005360"/>
            <a:ext cx="45504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60160" y="3284640"/>
            <a:ext cx="455040" cy="642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40680" y="-78120"/>
            <a:ext cx="1003320" cy="66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齐楚秦燕赵魏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" y="-33840"/>
            <a:ext cx="1003320" cy="66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东南西北到中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09360" y="0"/>
            <a:ext cx="182664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战国七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67240" y="692280"/>
            <a:ext cx="8506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齐 楚 燕  韩 赵  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33360"/>
            <a:ext cx="1295280" cy="652464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37000"/>
            <a:ext cx="1873440" cy="433080"/>
          </a:xfrm>
          <a:prstGeom prst="leftArrow">
            <a:avLst>
              <a:gd name="adj1" fmla="val 50000"/>
              <a:gd name="adj2" fmla="val 108146"/>
            </a:avLst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5720" y="21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行楷"/>
              </a:rPr>
              <a:t>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61040" y="476280"/>
            <a:ext cx="911520" cy="6192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合纵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众势以攻一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34188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69400" y="5889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22480" y="13604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73720" y="16002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cc"/>
                </a:solidFill>
                <a:latin typeface="Arial"/>
                <a:ea typeface="华文行楷"/>
              </a:rPr>
              <a:t>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4480" y="27795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54120" y="3571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17400" y="4437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920" y="24703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cc"/>
                </a:solidFill>
                <a:latin typeface="Arial"/>
                <a:ea typeface="华文行楷"/>
              </a:rPr>
              <a:t>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900000" y="2276640"/>
            <a:ext cx="2664000" cy="504720"/>
          </a:xfrm>
          <a:prstGeom prst="line">
            <a:avLst/>
          </a:prstGeom>
          <a:ln w="95400">
            <a:solidFill>
              <a:srgbClr val="d6009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195640" y="1916280"/>
            <a:ext cx="71280" cy="576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771640" y="1195200"/>
            <a:ext cx="71640" cy="1223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2708280"/>
            <a:ext cx="433440" cy="1800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2563920"/>
            <a:ext cx="287280" cy="93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637000"/>
            <a:ext cx="14436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31960" y="549360"/>
            <a:ext cx="911520" cy="611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连横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事一强以攻众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rcRect l="0" t="0" r="0" b="12477"/>
          <a:stretch/>
        </p:blipFill>
        <p:spPr>
          <a:xfrm>
            <a:off x="5435640" y="404640"/>
            <a:ext cx="3216240" cy="5469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481720" y="6127920"/>
            <a:ext cx="3662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张仪是连横主张的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516640"/>
            <a:ext cx="2016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朝秦暮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59640" y="380376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380376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1211400"/>
            <a:ext cx="2112840" cy="70344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东  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199040"/>
            <a:ext cx="3695760" cy="132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元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77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～公元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76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23000" y="4199040"/>
            <a:ext cx="3608280" cy="132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元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75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～公元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21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548080" y="1930320"/>
            <a:ext cx="4134960" cy="1167840"/>
            <a:chOff x="2548080" y="1930320"/>
            <a:chExt cx="4134960" cy="1167840"/>
          </a:xfrm>
        </p:grpSpPr>
        <p:sp>
          <p:nvSpPr>
            <p:cNvPr id="51" name=""/>
            <p:cNvSpPr/>
            <p:nvPr/>
          </p:nvSpPr>
          <p:spPr>
            <a:xfrm>
              <a:off x="4615560" y="1930320"/>
              <a:ext cx="0" cy="59508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48080" y="2525400"/>
              <a:ext cx="413496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2560" y="2503800"/>
              <a:ext cx="0" cy="5943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58560" y="2503800"/>
              <a:ext cx="0" cy="59436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538960" y="3079800"/>
            <a:ext cx="2199960" cy="70344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战 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3102120"/>
            <a:ext cx="2200320" cy="70344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春 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33480" y="1133640"/>
            <a:ext cx="1542960" cy="154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952560" y="923760"/>
            <a:ext cx="1542960" cy="704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温故知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2060640"/>
            <a:ext cx="856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从春秋到战国时期，战争发生了什么变化？这说明出现了什么趋势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4149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争霸到兼并，说明出现了从分裂到统一的趋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765000"/>
            <a:ext cx="237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议一议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春秋五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战国七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选一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5802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春秋五霸中最先称霸的是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A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齐桓公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B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晋文公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C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楚庄王 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D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越王勾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既是春秋五霸又是战国七雄的诸侯国是（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   ①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齐   ②吴   ③楚   ④赵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A.①②   B.②③   C.③④  D.①③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234936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558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5181480" cy="4830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16760" y="3630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9360" y="3211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新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2840" y="3097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临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74480" y="4027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商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2560" y="4869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6040" y="4508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58960" y="5216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会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0280" y="3803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洛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33520" y="36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27400" y="298764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27400" y="482292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21360" y="496872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02280" y="453564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0960" y="285768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9760" y="714240"/>
            <a:ext cx="65977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春秋列国时期黄河、长江中下游地区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38880" y="285588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27400" y="298764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27400" y="482292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6960" y="453564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27840" y="4968720"/>
            <a:ext cx="360360" cy="360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45040" y="2205000"/>
            <a:ext cx="911520" cy="20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填一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0"/>
            <a:ext cx="7632720" cy="6818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12000" y="2708280"/>
            <a:ext cx="59832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229360"/>
            <a:ext cx="59832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3645000"/>
            <a:ext cx="598680" cy="5205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1413000"/>
            <a:ext cx="59868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2637000"/>
            <a:ext cx="598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292640"/>
            <a:ext cx="5983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3500280"/>
            <a:ext cx="598320" cy="5205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be0e3"/>
                </a:solidFill>
                <a:latin typeface="Times New Roman"/>
                <a:ea typeface="华文新魏"/>
              </a:rPr>
              <a:t>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1268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15000" y="1413000"/>
            <a:ext cx="729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4932360" y="549360"/>
            <a:ext cx="4210920" cy="5758560"/>
            <a:chOff x="4932360" y="549360"/>
            <a:chExt cx="4210920" cy="5758560"/>
          </a:xfrm>
        </p:grpSpPr>
        <p:grpSp>
          <p:nvGrpSpPr>
            <p:cNvPr id="199" name=""/>
            <p:cNvGrpSpPr/>
            <p:nvPr/>
          </p:nvGrpSpPr>
          <p:grpSpPr>
            <a:xfrm>
              <a:off x="4932360" y="549360"/>
              <a:ext cx="4210920" cy="5758560"/>
              <a:chOff x="4932360" y="549360"/>
              <a:chExt cx="4210920" cy="575856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549360"/>
                <a:ext cx="4210920" cy="57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13880" y="1009800"/>
                <a:ext cx="3652920" cy="491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"/>
            <p:cNvSpPr/>
            <p:nvPr/>
          </p:nvSpPr>
          <p:spPr>
            <a:xfrm>
              <a:off x="5241960" y="1009800"/>
              <a:ext cx="546120" cy="36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00"/>
                  </a:solidFill>
                  <a:latin typeface="Times New Roman"/>
                  <a:ea typeface="隶书"/>
                </a:rPr>
                <a:t>勾践卧薪尝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5280" y="1700280"/>
            <a:ext cx="43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你知道卧薪尝胆的故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越王勾践卧薪尝胆，十年复国，能给我们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55640" y="404640"/>
            <a:ext cx="2952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说一说</a:t>
            </a:r>
            <a:endParaRPr b="1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资料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7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课做完，明天早读下课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1341360"/>
            <a:ext cx="8572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第</a:t>
            </a:r>
            <a:r>
              <a:rPr b="1" lang="en-US" sz="5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7</a:t>
            </a:r>
            <a:r>
              <a:rPr b="1" lang="zh-CN" sz="5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课  春秋五霸和战国七雄</a:t>
            </a:r>
            <a:endParaRPr b="1" lang="en-US" sz="54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、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26828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知识与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东周分为春秋和战国两个时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知道春秋五霸和战国七雄的名称及地理位置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识读《春秋》和《战国》形势图，提高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识读历史地图的能力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过程与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通过阅读图片、史料，培养学生获得历史信息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导学生讲述春秋战国的成语典故，提高学生的历史想象力和语言表达能力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62064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情感态度与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收集和讲述成语故事，培养学习历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齐桓公、晋文公、越王勾践等古代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的故事，培养学生宽容忍让、诚信和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毅等到优良品质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836640"/>
            <a:ext cx="8280360" cy="33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教学重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桓公称霸；培养学生学习历史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教学难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跨度长，国名多，人物多，头绪杂，学生不易掌握。理解春秋战国各自战争的特点及趋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89000"/>
            <a:ext cx="9468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春秋战国的名称是怎么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“春秋五霸”“战国七雄”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们争霸的原因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549360"/>
            <a:ext cx="576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5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琥珀"/>
              </a:rPr>
              <a:t>你预习了吗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4824360"/>
            <a:ext cx="4680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周室衰微，诸侯强并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50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模块一   齐桓公称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春秋时期的时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你知道“春秋”名字的由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春秋五霸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是谁（两种说法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为什么齐桓公能够首先称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00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盛产鱼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管仲改革，国富兵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3. 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尊王攘夷”，策略正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09840" y="333360"/>
            <a:ext cx="715464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春秋列国时期黄河、长江中下游地区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flipH="1" rot="21579600">
            <a:off x="6581880" y="3794760"/>
            <a:ext cx="3387600" cy="330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8360" y="1050840"/>
            <a:ext cx="5619600" cy="5608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24360" y="3773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2640" y="3286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新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89760" y="3943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洛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50400" y="3149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临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7360" y="42339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商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52760" y="5211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2120" y="479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70760" y="5614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6633"/>
                </a:solidFill>
                <a:latin typeface="Times New Roman"/>
                <a:ea typeface="楷体_GB2312"/>
              </a:rPr>
              <a:t>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78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黑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1800" y="3454560"/>
            <a:ext cx="392040" cy="41904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19680" y="3705120"/>
            <a:ext cx="390240" cy="41760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09920" y="2732040"/>
            <a:ext cx="392400" cy="41760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1160" y="2975040"/>
            <a:ext cx="390600" cy="41904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06640" y="5126040"/>
            <a:ext cx="390600" cy="41904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8720" y="1916280"/>
            <a:ext cx="2484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课本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页找到春秋五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03:12:42Z</dcterms:created>
  <dc:creator>dell</dc:creator>
  <dc:description/>
  <dc:language>en-US</dc:language>
  <cp:lastModifiedBy>微软用户</cp:lastModifiedBy>
  <dcterms:modified xsi:type="dcterms:W3CDTF">2013-10-14T06:59:48Z</dcterms:modified>
  <cp:revision>48</cp:revision>
  <dc:subject/>
  <dc:title>幻灯片 1</dc:title>
</cp:coreProperties>
</file>