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950-8D0A-477C-ACE6-A8C630CB7A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课程目标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一分钟自我介绍训练掌握表达要领，提升表达技巧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授课时间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授课方式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讲授、示范、演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辅助工具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秒表、时间提示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讲师注意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、讲师提前准备好示范内容，并与助教作好时间掌控方面的沟通，若是请其他讲师示范，则须与示范讲师做详细沟通，明确要求与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、本课程讲授、示范时大班运用，演练时采用小班制，根据实际学员人数安排小班人数，可提前给每位学员编号，也可当场抽签决定不同编号，建议每小班以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40-5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人为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简要介绍课程大纲，使学员了解本节课的学习目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初次见面时的交谈，是非常重要的事情，如果一开始不能给对方留下好的或深刻的印象，想要在以后进行弥补就不太方便或不太容易了。因此，作为初级组训，我们可以有理由不会讲故事，不会讲课程，但不能不会介绍自己。就比如在我们这个培训班，如果不能很好把自己介绍出去，就无法让对方了解自己，交流、沟通、互相切磋，就无从谈起。所以接下来我们所要学习的课程就是如何进行一分钟的自我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学员手册无此内容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一分钟自我介绍的方法是：在一分钟以内，按照规定的要求进行，同时要注意把握要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一分钟自我介绍包括以下内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我是谁。向所有人介绍你的姓名、年龄、特长（即具备的某种能力，比如说唱歌、编织等）、爱好（即喜欢做什么事比如说喜欢看书、游泳等）、入司时间、家庭状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我的培训期许。比如你觉得希望能够结交许多朋友、能够锻炼能力、能够学到新知识等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讲师强调在演练时内容不能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请学员先填写自我介绍内容并作熟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自我介绍演练相关要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一分钟自我介绍分成三个步骤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第一步是上台问候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跑步上台，站稳后先对所有人都要问好，然后再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第二步是正式内容的演练，即自我介绍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演练内容就是两个方面，一是介绍你是谁，二是讲你对培训的期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第三步是致谢回座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对台下所有人说谢谢后才能按讲师示意回到座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讲师强调演练时三个步骤都要完成并且顺序不能颠倒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开始与结束。不能随意地开始与结束。首先上台演练必须按指定的顺序，一个一个接下去。所有人都在讲台的一侧准备，上台前举手向讲师示意（报告！——号学员准备完毕，请指示），听到讲师发令“开始（演练）！”，演练人跑步上台。结束时，听到讲师发令”时间到，停“，演练人停止演讲，向所有人致谢，然后按讲师示意从讲台的另一侧回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演练时间是一分钟。从演练人上台问好后开始计时。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5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秒时，讲师举提示牌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秒！”，学员准备结束，时间到，演练人停止演讲。完整的过程是一分钟，但中途讲师会喊“停”，听到“停，重来”时，学员就必须重新开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必须脱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使用普通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为了达到良好的表达效果，在自我介绍时要注重以下方面的综合运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热情微笑：满腔的热情和真诚的微笑是感染别人的妙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声音洪亮：要自信地介绍自已，要让所有人都能听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姿态稳重：稳重的姿态有助于稳定听众的视线，并能建立良好的外在形象，从而增强个人吸引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表达流畅：尽可能流畅地介绍你自己，让所有人都愿意听你讲下去。不必紧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学员正式进行演练前，先安排一位讲师（可自行承担也可事先确定其他讲师）作示范演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范前先提醒学员观察要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下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师会作示范演练，请认真观察整个演练过程，从上台到下来，观察要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个步骤：问候、自我介绍、致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时间掌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热情、微笑、稳重、洪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师示范完后，可留一点时间给学员作些简单准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3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15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学员演练采用小班制进行。由分班导师运作，在学员开始演练前可再次强调演练要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排定学员上台顺序（可提前编好号，也可抽签决定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训练过程中讲师可参照的话术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请第一位就位，下一位准备，让我们以热烈掌声有请第一位伙伴；计时一分钟，开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停……，未跑步上台，精神不够，重来一次；计时一分钟，开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停……，表情太严肃，没有激情，重来一次，计时一分钟，开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停……，时间到，掌声鼓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训练过程中讲师应纠正学员的事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未跑步上台，没有精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未站稳就开始介绍，不稳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未问候，没礼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音量太低，没有热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站姿不良、肢体动作不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顺序颠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互动不佳（台下未回应，无掌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每位学员最好有一次完整进行一分钟自我介绍的机会。学员进行完整演练过程中，讲师或助教在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5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秒时，举时间提示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每位学员演练时，讲师都应有详细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3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点评反馈仍在小班由分班导师运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讲师对学员表现予以肯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参照演练相关要求，对学员不足部分作点评反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3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657600" y="719280"/>
            <a:ext cx="2401920" cy="1800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18920" y="2878200"/>
            <a:ext cx="53989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时间分配：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分钟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小结直接由分班导师在小班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良好的表达是成功的开始。自我介绍则是表达能力训练的第一步。作为训练内容，我们今天按照一定的要求来进行，但在平时，恰恰不能如此生硬的介绍自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在内容方面，我们可以结合自己的个性特点进行调整，要尽可能吸引对方，给对方留下深刻印象。比如台湾著名节目主持人凌峰有次参加中央电视台春节联欢晚会，他作这们的自我介绍：“在下凌峰，我和文章不一样，虽然我都得过金钟奖和最佳男歌星称号，但是，我是以长得难看而出名的。在拍摄《八千里路云和月》过程中，所到之处，观众给我们很多支持，尤其是男观众对我的印象特别好。因为他们认为本人长得很中国，另五千年的沧桑和苦难全都写在我的脸上。而女观众则对我印象不太良好。认为我人比黄花瘦，脸比煤球黑。但是，我要特别声明：这不是我的错，实在是家父母的错误，当初没征得我的同意就把我生成这个样子……”这里，凌峰的自我介绍运用了自嘲手法，显得妙趣横生，幽默感人，双不失精辟入理，给人留下了深刻的印象。所以自我介绍的原则就是清楚地介绍并推销自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自我介绍时注意要点。前面我们强调了自我介绍时要热情、声音要宏亮、要稳重、要流畅，但是太过热情会吓跑别人，声音太大也会显得缺乏修养，所以平时应该注意把握尺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9280" y="719280"/>
            <a:ext cx="2284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第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.1.3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33cc"/>
                </a:solidFill>
                <a:latin typeface="Wingdings"/>
                <a:ea typeface="Wingdings"/>
              </a:rPr>
              <a:t></a:t>
            </a:r>
            <a:r>
              <a:rPr b="0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1500" spc="-1" strike="noStrike">
                <a:solidFill>
                  <a:srgbClr val="0033cc"/>
                </a:solidFill>
                <a:latin typeface="黑体"/>
                <a:ea typeface="黑体"/>
              </a:rPr>
              <a:t>13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1DC-19D6-4D71-BE7C-99404352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930-1459-46FF-9AFB-33BD1581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63D-9C1A-4863-B431-6AFDD393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739-22DC-4ABD-94BB-199C4807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602-2DF0-4D05-B16C-93B97580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7699-7A82-45D6-B7AD-0A4DC92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350-39EC-4FF7-96C8-683C2E6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E99D-D3F7-4E24-BB27-0E90B763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7CF2-29BC-4358-B753-A0A1667F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D28D-0757-40C4-962F-40F69775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2ADD-3075-4EE5-BF5F-17C2104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4C1-C1E2-4F5A-A2C4-50954D86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FA9A-7D8E-41F6-91AF-8A7F00E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8B1A-AC84-433C-BF37-47C2EF6B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C10F-226D-4787-8022-E5541C16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731C-97C2-4450-9917-19F8EE8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6F7-F53E-4169-B976-2ABBF6E5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67B-4611-47E2-83E0-75633206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B00-6CF1-4689-96C8-75B3CD0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34B-46A4-4385-8EEC-4AF11BB5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883-F9E5-43C1-BADD-46B4E55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E35-0C1B-4432-9235-72AB5EA7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986-1D0D-46F7-A535-A48C281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7AC-976E-43B9-AE13-CE20C7E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852-8713-429F-93F7-28A16C98D5C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296-2F30-4D3B-809E-B11BB67883E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</a:rPr>
              <a:t>一分钟自我展示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程内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、自我介绍内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二、自我介绍相关要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三、示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四、自信展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五、点评反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、自我介绍内容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0960" y="1980720"/>
            <a:ext cx="482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3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>
              <a:lnSpc>
                <a:spcPct val="13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是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37080" indent="-187200">
              <a:lnSpc>
                <a:spcPct val="130000"/>
              </a:lnSpc>
              <a:spcBef>
                <a:spcPts val="4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姓名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37080" indent="-187200">
              <a:lnSpc>
                <a:spcPct val="130000"/>
              </a:lnSpc>
              <a:spcBef>
                <a:spcPts val="4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年龄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37080" indent="-187200">
              <a:lnSpc>
                <a:spcPct val="130000"/>
              </a:lnSpc>
              <a:spcBef>
                <a:spcPts val="4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学历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37080" indent="-187200">
              <a:lnSpc>
                <a:spcPct val="130000"/>
              </a:lnSpc>
              <a:spcBef>
                <a:spcPts val="4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毕业院校及专业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37080" indent="-187200">
              <a:lnSpc>
                <a:spcPct val="130000"/>
              </a:lnSpc>
              <a:spcBef>
                <a:spcPts val="4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个人特长及爱好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937080" indent="-187200">
              <a:lnSpc>
                <a:spcPct val="130000"/>
              </a:lnSpc>
              <a:spcBef>
                <a:spcPts val="4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家庭状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>
              <a:lnSpc>
                <a:spcPct val="13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的工作愿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演练的相关要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开始与结束（听指令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时间掌控：一分钟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必须脱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使用标准普通话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内容完整、准确，按规定顺序表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表达要领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音质、音量、语速、语调、语气。（声音宏亮、口齿清晰、表达流畅、无口头禅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目光及眼神（平视、有神、用眼睛说话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仪态及肢体语言（行走姿式、站姿、手势，用身体说话、无不良习惯动作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仪容仪表：规范整洁（分场合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表情：自然（不做作）、放松（不紧张、不要过于严肃）、微笑、热情、自信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个性化表达：感染力、场面的控制、现场气氛的营造、与众不同印象深刻（个人修养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示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782880" y="2590920"/>
            <a:ext cx="1627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四、自信展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340080" y="2743200"/>
            <a:ext cx="214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五、点评及反复演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3352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   结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2409840" cy="2228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表达的目的是建立良好的个人形象，让他人认识、认可、喜爱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良好的表达是成功的开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</cp:lastModifiedBy>
  <dcterms:modified xsi:type="dcterms:W3CDTF">2010-07-23T03:20:1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