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B1F-664E-4B83-BB8F-41CE3738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BCD-F19A-4075-B227-ECE34259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08C-DE87-410A-8472-A2788740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426-27FC-4092-9797-6A86CF5B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197-D172-43AF-9CD3-39B146AE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0BB-AB46-407E-9812-BDA90D64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BA8-4918-4939-AEA1-3542FB19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FFF-646A-4CBC-A4FD-F1051EC1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D3C-299A-43A0-93BA-6679F5B7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515-605E-4B92-A35D-AB63A9CC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268-4171-4430-A24A-1D59F946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12F-E895-44F9-A82F-5A1CD2BE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A212-9635-4C39-B9D2-BC3757FC45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00080" y="135720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学习教育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071720" y="185724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组合 9" descr=""/>
          <p:cNvPicPr/>
          <p:nvPr/>
        </p:nvPicPr>
        <p:blipFill>
          <a:blip r:embed="rId2"/>
          <a:stretch/>
        </p:blipFill>
        <p:spPr>
          <a:xfrm>
            <a:off x="2803680" y="1420920"/>
            <a:ext cx="3921120" cy="871560"/>
          </a:xfrm>
          <a:prstGeom prst="rect">
            <a:avLst/>
          </a:prstGeom>
          <a:ln w="0">
            <a:noFill/>
          </a:ln>
        </p:spPr>
      </p:pic>
      <p:pic>
        <p:nvPicPr>
          <p:cNvPr id="50" name="组合 13" descr=""/>
          <p:cNvPicPr/>
          <p:nvPr/>
        </p:nvPicPr>
        <p:blipFill>
          <a:blip r:embed="rId3"/>
          <a:stretch/>
        </p:blipFill>
        <p:spPr>
          <a:xfrm>
            <a:off x="2792520" y="2352600"/>
            <a:ext cx="3913200" cy="866880"/>
          </a:xfrm>
          <a:prstGeom prst="rect">
            <a:avLst/>
          </a:prstGeom>
          <a:ln w="0">
            <a:noFill/>
          </a:ln>
        </p:spPr>
      </p:pic>
      <p:pic>
        <p:nvPicPr>
          <p:cNvPr id="51" name="组合 16" descr=""/>
          <p:cNvPicPr/>
          <p:nvPr/>
        </p:nvPicPr>
        <p:blipFill>
          <a:blip r:embed="rId4"/>
          <a:stretch/>
        </p:blipFill>
        <p:spPr>
          <a:xfrm>
            <a:off x="2803680" y="3279600"/>
            <a:ext cx="3921120" cy="871560"/>
          </a:xfrm>
          <a:prstGeom prst="rect">
            <a:avLst/>
          </a:prstGeom>
          <a:ln w="0">
            <a:noFill/>
          </a:ln>
        </p:spPr>
      </p:pic>
      <p:pic>
        <p:nvPicPr>
          <p:cNvPr id="52" name="组合 19" descr=""/>
          <p:cNvPicPr/>
          <p:nvPr/>
        </p:nvPicPr>
        <p:blipFill>
          <a:blip r:embed="rId5"/>
          <a:stretch/>
        </p:blipFill>
        <p:spPr>
          <a:xfrm>
            <a:off x="2803680" y="4206960"/>
            <a:ext cx="3921120" cy="871560"/>
          </a:xfrm>
          <a:prstGeom prst="rect">
            <a:avLst/>
          </a:prstGeom>
          <a:ln w="0">
            <a:noFill/>
          </a:ln>
        </p:spPr>
      </p:pic>
      <p:sp>
        <p:nvSpPr>
          <p:cNvPr id="53" name="矩形 20"/>
          <p:cNvSpPr/>
          <p:nvPr/>
        </p:nvSpPr>
        <p:spPr>
          <a:xfrm>
            <a:off x="4497840" y="349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4497840" y="2570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4497840" y="442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497840" y="1641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5"/>
          <p:cNvSpPr/>
          <p:nvPr/>
        </p:nvSpPr>
        <p:spPr>
          <a:xfrm>
            <a:off x="571680" y="3152880"/>
            <a:ext cx="1643040" cy="17604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76" h="18">
                <a:moveTo>
                  <a:pt x="176" y="0"/>
                </a:moveTo>
                <a:cubicBezTo>
                  <a:pt x="176" y="18"/>
                  <a:pt x="176" y="18"/>
                  <a:pt x="176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2" y="18"/>
                  <a:pt x="0" y="14"/>
                  <a:pt x="0" y="9"/>
                </a:cubicBezTo>
                <a:cubicBezTo>
                  <a:pt x="0" y="4"/>
                  <a:pt x="2" y="0"/>
                  <a:pt x="4" y="0"/>
                </a:cubicBezTo>
                <a:cubicBezTo>
                  <a:pt x="176" y="0"/>
                  <a:pt x="176" y="0"/>
                  <a:pt x="176" y="0"/>
                </a:cubicBezTo>
              </a:path>
            </a:pathLst>
          </a:custGeom>
          <a:solidFill>
            <a:srgbClr val="60b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214720" y="3152880"/>
            <a:ext cx="16444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859200" y="3152880"/>
            <a:ext cx="1641600" cy="176040"/>
          </a:xfrm>
          <a:prstGeom prst="rect">
            <a:avLst/>
          </a:pr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2205000" y="2125800"/>
            <a:ext cx="1563840" cy="393480"/>
          </a:xfrm>
          <a:prstGeom prst="rect">
            <a:avLst/>
          </a:prstGeom>
          <a:solidFill>
            <a:srgbClr val="60b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5"/>
          <p:cNvSpPr/>
          <p:nvPr/>
        </p:nvSpPr>
        <p:spPr>
          <a:xfrm>
            <a:off x="4127400" y="3967200"/>
            <a:ext cx="1565280" cy="390600"/>
          </a:xfrm>
          <a:prstGeom prst="rect">
            <a:avLst/>
          </a:pr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3"/>
          <p:cNvSpPr/>
          <p:nvPr/>
        </p:nvSpPr>
        <p:spPr>
          <a:xfrm flipV="1">
            <a:off x="1030320" y="2322360"/>
            <a:ext cx="595440" cy="765360"/>
          </a:xfrm>
          <a:prstGeom prst="line">
            <a:avLst/>
          </a:prstGeom>
          <a:ln w="28440">
            <a:solidFill>
              <a:srgbClr val="60b3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4"/>
          <p:cNvSpPr/>
          <p:nvPr/>
        </p:nvSpPr>
        <p:spPr>
          <a:xfrm flipV="1">
            <a:off x="1643040" y="2327040"/>
            <a:ext cx="571680" cy="29880"/>
          </a:xfrm>
          <a:prstGeom prst="line">
            <a:avLst/>
          </a:prstGeom>
          <a:ln w="28440">
            <a:solidFill>
              <a:srgbClr val="60b3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143080" y="3152880"/>
            <a:ext cx="1644840" cy="176040"/>
          </a:xfrm>
          <a:prstGeom prst="rect">
            <a:avLst/>
          </a:pr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5"/>
          <p:cNvSpPr/>
          <p:nvPr/>
        </p:nvSpPr>
        <p:spPr>
          <a:xfrm flipH="1">
            <a:off x="5494320" y="3152880"/>
            <a:ext cx="1643040" cy="176040"/>
          </a:xfrm>
          <a:custGeom>
            <a:avLst/>
            <a:gdLst>
              <a:gd name="textAreaLeft" fmla="*/ 360 w 1643040"/>
              <a:gd name="textAreaRight" fmla="*/ 1643760 w 16430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76" h="18">
                <a:moveTo>
                  <a:pt x="176" y="0"/>
                </a:moveTo>
                <a:cubicBezTo>
                  <a:pt x="176" y="18"/>
                  <a:pt x="176" y="18"/>
                  <a:pt x="176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2" y="18"/>
                  <a:pt x="0" y="14"/>
                  <a:pt x="0" y="9"/>
                </a:cubicBezTo>
                <a:cubicBezTo>
                  <a:pt x="0" y="4"/>
                  <a:pt x="2" y="0"/>
                  <a:pt x="4" y="0"/>
                </a:cubicBezTo>
                <a:cubicBezTo>
                  <a:pt x="176" y="0"/>
                  <a:pt x="176" y="0"/>
                  <a:pt x="176" y="0"/>
                </a:cubicBezTo>
              </a:path>
            </a:pathLst>
          </a:custGeom>
          <a:solidFill>
            <a:srgbClr val="60b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34"/>
          <p:cNvGrpSpPr/>
          <p:nvPr/>
        </p:nvGrpSpPr>
        <p:grpSpPr>
          <a:xfrm>
            <a:off x="4599000" y="2322360"/>
            <a:ext cx="1173240" cy="765360"/>
            <a:chOff x="4599000" y="2322360"/>
            <a:chExt cx="1173240" cy="765360"/>
          </a:xfrm>
        </p:grpSpPr>
        <p:sp>
          <p:nvSpPr>
            <p:cNvPr id="72" name="直接连接符 18"/>
            <p:cNvSpPr/>
            <p:nvPr/>
          </p:nvSpPr>
          <p:spPr>
            <a:xfrm flipV="1">
              <a:off x="4599000" y="2322360"/>
              <a:ext cx="595440" cy="765360"/>
            </a:xfrm>
            <a:prstGeom prst="line">
              <a:avLst/>
            </a:prstGeom>
            <a:ln w="28440">
              <a:solidFill>
                <a:srgbClr val="a7c7d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19"/>
            <p:cNvSpPr/>
            <p:nvPr/>
          </p:nvSpPr>
          <p:spPr>
            <a:xfrm>
              <a:off x="5194440" y="2322360"/>
              <a:ext cx="577800" cy="0"/>
            </a:xfrm>
            <a:prstGeom prst="line">
              <a:avLst/>
            </a:prstGeom>
            <a:ln w="28440">
              <a:solidFill>
                <a:srgbClr val="a7c7d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37"/>
          <p:cNvGrpSpPr/>
          <p:nvPr/>
        </p:nvGrpSpPr>
        <p:grpSpPr>
          <a:xfrm>
            <a:off x="2990880" y="3397320"/>
            <a:ext cx="1173240" cy="765000"/>
            <a:chOff x="2990880" y="3397320"/>
            <a:chExt cx="1173240" cy="765000"/>
          </a:xfrm>
        </p:grpSpPr>
        <p:sp>
          <p:nvSpPr>
            <p:cNvPr id="75" name="直接连接符 21"/>
            <p:cNvSpPr/>
            <p:nvPr/>
          </p:nvSpPr>
          <p:spPr>
            <a:xfrm>
              <a:off x="2990880" y="3397320"/>
              <a:ext cx="595440" cy="765000"/>
            </a:xfrm>
            <a:prstGeom prst="line">
              <a:avLst/>
            </a:prstGeom>
            <a:ln w="28440">
              <a:solidFill>
                <a:srgbClr val="a7c7d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22"/>
            <p:cNvSpPr/>
            <p:nvPr/>
          </p:nvSpPr>
          <p:spPr>
            <a:xfrm>
              <a:off x="3586320" y="4161960"/>
              <a:ext cx="577800" cy="0"/>
            </a:xfrm>
            <a:prstGeom prst="line">
              <a:avLst/>
            </a:prstGeom>
            <a:ln w="28440">
              <a:solidFill>
                <a:srgbClr val="a7c7d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40"/>
          <p:cNvGrpSpPr/>
          <p:nvPr/>
        </p:nvGrpSpPr>
        <p:grpSpPr>
          <a:xfrm>
            <a:off x="6008760" y="3397320"/>
            <a:ext cx="1173240" cy="765000"/>
            <a:chOff x="6008760" y="3397320"/>
            <a:chExt cx="1173240" cy="765000"/>
          </a:xfrm>
        </p:grpSpPr>
        <p:sp>
          <p:nvSpPr>
            <p:cNvPr id="78" name="直接连接符 24"/>
            <p:cNvSpPr/>
            <p:nvPr/>
          </p:nvSpPr>
          <p:spPr>
            <a:xfrm>
              <a:off x="6008760" y="3397320"/>
              <a:ext cx="595440" cy="765000"/>
            </a:xfrm>
            <a:prstGeom prst="line">
              <a:avLst/>
            </a:prstGeom>
            <a:ln w="28440">
              <a:solidFill>
                <a:srgbClr val="60b3c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25"/>
            <p:cNvSpPr/>
            <p:nvPr/>
          </p:nvSpPr>
          <p:spPr>
            <a:xfrm>
              <a:off x="6604200" y="4161960"/>
              <a:ext cx="577800" cy="0"/>
            </a:xfrm>
            <a:prstGeom prst="line">
              <a:avLst/>
            </a:prstGeom>
            <a:ln w="28440">
              <a:solidFill>
                <a:srgbClr val="60b3c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矩形 12"/>
          <p:cNvSpPr/>
          <p:nvPr/>
        </p:nvSpPr>
        <p:spPr>
          <a:xfrm>
            <a:off x="5997960" y="2143080"/>
            <a:ext cx="1003680" cy="368280"/>
          </a:xfrm>
          <a:prstGeom prst="rect">
            <a:avLst/>
          </a:pr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7426800" y="3987720"/>
            <a:ext cx="1003680" cy="368280"/>
          </a:xfrm>
          <a:prstGeom prst="rect">
            <a:avLst/>
          </a:prstGeom>
          <a:solidFill>
            <a:srgbClr val="60b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4426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2497680" y="2130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6"/>
          <p:cNvSpPr/>
          <p:nvPr/>
        </p:nvSpPr>
        <p:spPr>
          <a:xfrm>
            <a:off x="404640" y="2168640"/>
            <a:ext cx="2589480" cy="1873080"/>
          </a:xfrm>
          <a:prstGeom prst="roundRect">
            <a:avLst>
              <a:gd name="adj" fmla="val 9810"/>
            </a:avLst>
          </a:prstGeom>
          <a:solidFill>
            <a:srgbClr val="60b3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7"/>
          <p:cNvSpPr/>
          <p:nvPr/>
        </p:nvSpPr>
        <p:spPr>
          <a:xfrm>
            <a:off x="3240000" y="2197080"/>
            <a:ext cx="2590920" cy="1871640"/>
          </a:xfrm>
          <a:prstGeom prst="roundRect">
            <a:avLst>
              <a:gd name="adj" fmla="val 9810"/>
            </a:avLst>
          </a:prstGeom>
          <a:solidFill>
            <a:srgbClr val="a7c7d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8"/>
          <p:cNvSpPr/>
          <p:nvPr/>
        </p:nvSpPr>
        <p:spPr>
          <a:xfrm>
            <a:off x="6121440" y="2197080"/>
            <a:ext cx="2589120" cy="1871640"/>
          </a:xfrm>
          <a:prstGeom prst="roundRect">
            <a:avLst>
              <a:gd name="adj" fmla="val 9810"/>
            </a:avLst>
          </a:prstGeom>
          <a:solidFill>
            <a:srgbClr val="60b3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五边形 9"/>
          <p:cNvSpPr/>
          <p:nvPr/>
        </p:nvSpPr>
        <p:spPr>
          <a:xfrm>
            <a:off x="357120" y="1882800"/>
            <a:ext cx="1592280" cy="43164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71" y="0"/>
                </a:lnTo>
                <a:lnTo>
                  <a:pt x="21600" y="10800"/>
                </a:lnTo>
                <a:lnTo>
                  <a:pt x="186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五边形 10"/>
          <p:cNvSpPr/>
          <p:nvPr/>
        </p:nvSpPr>
        <p:spPr>
          <a:xfrm>
            <a:off x="3286080" y="1882800"/>
            <a:ext cx="1592280" cy="43164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71" y="0"/>
                </a:lnTo>
                <a:lnTo>
                  <a:pt x="21600" y="10800"/>
                </a:lnTo>
                <a:lnTo>
                  <a:pt x="186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0b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五边形 11"/>
          <p:cNvSpPr/>
          <p:nvPr/>
        </p:nvSpPr>
        <p:spPr>
          <a:xfrm>
            <a:off x="6121440" y="1882800"/>
            <a:ext cx="1590480" cy="431640"/>
          </a:xfrm>
          <a:custGeom>
            <a:avLst/>
            <a:gdLst>
              <a:gd name="textAreaLeft" fmla="*/ 0 w 1590480"/>
              <a:gd name="textAreaRight" fmla="*/ 1590840 w 15904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68" y="0"/>
                </a:lnTo>
                <a:lnTo>
                  <a:pt x="21600" y="10800"/>
                </a:lnTo>
                <a:lnTo>
                  <a:pt x="186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下箭头 12"/>
          <p:cNvSpPr/>
          <p:nvPr/>
        </p:nvSpPr>
        <p:spPr>
          <a:xfrm>
            <a:off x="1289160" y="4253040"/>
            <a:ext cx="785880" cy="266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下箭头 13"/>
          <p:cNvSpPr/>
          <p:nvPr/>
        </p:nvSpPr>
        <p:spPr>
          <a:xfrm>
            <a:off x="4154400" y="4264200"/>
            <a:ext cx="785880" cy="266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下箭头 14"/>
          <p:cNvSpPr/>
          <p:nvPr/>
        </p:nvSpPr>
        <p:spPr>
          <a:xfrm>
            <a:off x="7102440" y="4273560"/>
            <a:ext cx="787320" cy="264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4069080" y="2882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6998040" y="2882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4212000" y="463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1140120" y="2882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1211760" y="461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7069680" y="463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087720" y="1811160"/>
            <a:ext cx="3363840" cy="601920"/>
          </a:xfrm>
          <a:prstGeom prst="roundRect">
            <a:avLst>
              <a:gd name="adj" fmla="val 50000"/>
            </a:avLst>
          </a:prstGeom>
          <a:solidFill>
            <a:srgbClr val="60b3c7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857160" y="2787480"/>
            <a:ext cx="1486080" cy="1514520"/>
          </a:xfrm>
          <a:prstGeom prst="ellipse">
            <a:avLst/>
          </a:prstGeom>
          <a:solidFill>
            <a:srgbClr val="60b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857160" y="4419720"/>
            <a:ext cx="1579680" cy="4381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5"/>
          <p:cNvSpPr/>
          <p:nvPr/>
        </p:nvSpPr>
        <p:spPr>
          <a:xfrm>
            <a:off x="2762280" y="2787480"/>
            <a:ext cx="1523880" cy="1521000"/>
          </a:xfrm>
          <a:prstGeom prst="ellipse">
            <a:avLst/>
          </a:pr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8"/>
          <p:cNvSpPr/>
          <p:nvPr/>
        </p:nvSpPr>
        <p:spPr>
          <a:xfrm>
            <a:off x="2800440" y="4419720"/>
            <a:ext cx="1579320" cy="4381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4819680" y="2743200"/>
            <a:ext cx="1523880" cy="1521000"/>
          </a:xfrm>
          <a:prstGeom prst="ellipse">
            <a:avLst/>
          </a:prstGeom>
          <a:solidFill>
            <a:srgbClr val="60b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4871880" y="4419720"/>
            <a:ext cx="1579680" cy="4381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8"/>
          <p:cNvSpPr/>
          <p:nvPr/>
        </p:nvSpPr>
        <p:spPr>
          <a:xfrm>
            <a:off x="6724800" y="2743200"/>
            <a:ext cx="1523880" cy="1531800"/>
          </a:xfrm>
          <a:prstGeom prst="ellipse">
            <a:avLst/>
          </a:pr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1"/>
          <p:cNvSpPr/>
          <p:nvPr/>
        </p:nvSpPr>
        <p:spPr>
          <a:xfrm>
            <a:off x="6724800" y="4419720"/>
            <a:ext cx="1579320" cy="4381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41407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6999840" y="334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30690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11419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2025720" y="1438200"/>
            <a:ext cx="2624040" cy="1530360"/>
          </a:xfrm>
          <a:prstGeom prst="rect">
            <a:avLst/>
          </a:pr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2057400" y="3848040"/>
            <a:ext cx="2592360" cy="1295640"/>
          </a:xfrm>
          <a:prstGeom prst="rect">
            <a:avLst/>
          </a:pr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8"/>
          <p:cNvSpPr/>
          <p:nvPr/>
        </p:nvSpPr>
        <p:spPr>
          <a:xfrm>
            <a:off x="5505480" y="3379680"/>
            <a:ext cx="569880" cy="0"/>
          </a:xfrm>
          <a:prstGeom prst="line">
            <a:avLst/>
          </a:prstGeom>
          <a:ln w="28440">
            <a:solidFill>
              <a:srgbClr val="7294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9"/>
          <p:cNvSpPr/>
          <p:nvPr/>
        </p:nvSpPr>
        <p:spPr>
          <a:xfrm>
            <a:off x="5505480" y="2262240"/>
            <a:ext cx="0" cy="2233440"/>
          </a:xfrm>
          <a:prstGeom prst="line">
            <a:avLst/>
          </a:prstGeom>
          <a:ln w="28440">
            <a:solidFill>
              <a:srgbClr val="729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直接箭头连接符 10"/>
          <p:cNvCxnSpPr/>
          <p:nvPr/>
        </p:nvCxnSpPr>
        <p:spPr>
          <a:xfrm flipH="1">
            <a:off x="4642560" y="4495320"/>
            <a:ext cx="856440" cy="1080"/>
          </a:xfrm>
          <a:prstGeom prst="straightConnector1">
            <a:avLst/>
          </a:prstGeom>
          <a:ln w="28440">
            <a:solidFill>
              <a:srgbClr val="7294bd"/>
            </a:solidFill>
            <a:miter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4649040" y="2284200"/>
            <a:ext cx="856440" cy="1080"/>
          </a:xfrm>
          <a:prstGeom prst="straightConnector1">
            <a:avLst/>
          </a:prstGeom>
          <a:ln w="28440">
            <a:solidFill>
              <a:srgbClr val="7294bd"/>
            </a:solidFill>
            <a:miter/>
          </a:ln>
        </p:spPr>
      </p:cxnSp>
      <p:sp>
        <p:nvSpPr>
          <p:cNvPr id="134" name="矩形 12"/>
          <p:cNvSpPr/>
          <p:nvPr/>
        </p:nvSpPr>
        <p:spPr>
          <a:xfrm>
            <a:off x="6105600" y="2614680"/>
            <a:ext cx="1609560" cy="1297080"/>
          </a:xfrm>
          <a:prstGeom prst="rect">
            <a:avLst/>
          </a:prstGeom>
          <a:solidFill>
            <a:srgbClr val="60b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854800" y="1938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6426720" y="3081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2854800" y="4367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对角圆角矩形 6"/>
          <p:cNvSpPr/>
          <p:nvPr/>
        </p:nvSpPr>
        <p:spPr>
          <a:xfrm>
            <a:off x="1143000" y="1285920"/>
            <a:ext cx="3500280" cy="2071800"/>
          </a:xfrm>
          <a:custGeom>
            <a:avLst/>
            <a:gdLst>
              <a:gd name="textAreaLeft" fmla="*/ 100800 w 3500280"/>
              <a:gd name="textAreaRight" fmla="*/ 3399480 w 3500280"/>
              <a:gd name="textAreaTop" fmla="*/ 100800 h 2071800"/>
              <a:gd name="textAreaBottom" fmla="*/ 1971000 h 2071800"/>
            </a:gdLst>
            <a:ahLst/>
            <a:rect l="textAreaLeft" t="textAreaTop" r="textAreaRight" b="textAreaBottom"/>
            <a:pathLst>
              <a:path w="3500438" h="2071688">
                <a:moveTo>
                  <a:pt x="345288" y="0"/>
                </a:moveTo>
                <a:lnTo>
                  <a:pt x="3500438" y="0"/>
                </a:lnTo>
                <a:lnTo>
                  <a:pt x="3500438" y="1726400"/>
                </a:lnTo>
                <a:lnTo>
                  <a:pt x="3500438" y="1726400"/>
                </a:lnTo>
                <a:arcTo wR="345288" hR="345288" stAng="0" swAng="5400000"/>
                <a:lnTo>
                  <a:pt x="0" y="2071688"/>
                </a:lnTo>
                <a:lnTo>
                  <a:pt x="0" y="345288"/>
                </a:lnTo>
                <a:lnTo>
                  <a:pt x="0" y="345288"/>
                </a:lnTo>
                <a:arcTo wR="345288" hR="345288" stAng="10800000" swAng="5400010"/>
                <a:close/>
              </a:path>
            </a:pathLst>
          </a:custGeom>
          <a:solidFill>
            <a:srgbClr val="60b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对角圆角矩形 7"/>
          <p:cNvSpPr/>
          <p:nvPr/>
        </p:nvSpPr>
        <p:spPr>
          <a:xfrm flipH="1">
            <a:off x="4786200" y="1285920"/>
            <a:ext cx="3500640" cy="2071800"/>
          </a:xfrm>
          <a:custGeom>
            <a:avLst/>
            <a:gdLst>
              <a:gd name="textAreaLeft" fmla="*/ 100800 w 3500640"/>
              <a:gd name="textAreaRight" fmla="*/ 3399840 w 3500640"/>
              <a:gd name="textAreaTop" fmla="*/ 100800 h 2071800"/>
              <a:gd name="textAreaBottom" fmla="*/ 1971000 h 2071800"/>
            </a:gdLst>
            <a:ahLst/>
            <a:rect l="textAreaLeft" t="textAreaTop" r="textAreaRight" b="textAreaBottom"/>
            <a:pathLst>
              <a:path w="3500437" h="2071688">
                <a:moveTo>
                  <a:pt x="345288" y="0"/>
                </a:moveTo>
                <a:lnTo>
                  <a:pt x="3500437" y="0"/>
                </a:lnTo>
                <a:lnTo>
                  <a:pt x="3500437" y="1726400"/>
                </a:lnTo>
                <a:lnTo>
                  <a:pt x="3500437" y="1726400"/>
                </a:lnTo>
                <a:arcTo wR="345288" hR="345288" stAng="0" swAng="5400000"/>
                <a:lnTo>
                  <a:pt x="0" y="2071688"/>
                </a:lnTo>
                <a:lnTo>
                  <a:pt x="0" y="345288"/>
                </a:lnTo>
                <a:lnTo>
                  <a:pt x="0" y="345288"/>
                </a:lnTo>
                <a:arcTo wR="345288" hR="345288" stAng="10800000" swAng="5400010"/>
                <a:close/>
              </a:path>
            </a:pathLst>
          </a:cu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对角圆角矩形 9"/>
          <p:cNvSpPr/>
          <p:nvPr/>
        </p:nvSpPr>
        <p:spPr>
          <a:xfrm flipH="1" flipV="1">
            <a:off x="4786200" y="3499560"/>
            <a:ext cx="3500640" cy="2071800"/>
          </a:xfrm>
          <a:custGeom>
            <a:avLst/>
            <a:gdLst>
              <a:gd name="textAreaLeft" fmla="*/ 100800 w 3500640"/>
              <a:gd name="textAreaRight" fmla="*/ 3399840 w 3500640"/>
              <a:gd name="textAreaTop" fmla="*/ 100800 h 2071800"/>
              <a:gd name="textAreaBottom" fmla="*/ 1971000 h 2071800"/>
            </a:gdLst>
            <a:ahLst/>
            <a:rect l="textAreaLeft" t="textAreaTop" r="textAreaRight" b="textAreaBottom"/>
            <a:pathLst>
              <a:path w="3500437" h="2071687">
                <a:moveTo>
                  <a:pt x="345288" y="0"/>
                </a:moveTo>
                <a:lnTo>
                  <a:pt x="3500437" y="0"/>
                </a:lnTo>
                <a:lnTo>
                  <a:pt x="3500437" y="1726399"/>
                </a:lnTo>
                <a:lnTo>
                  <a:pt x="3500437" y="1726399"/>
                </a:lnTo>
                <a:arcTo wR="345288" hR="345288" stAng="0" swAng="5400000"/>
                <a:lnTo>
                  <a:pt x="0" y="2071687"/>
                </a:lnTo>
                <a:lnTo>
                  <a:pt x="0" y="345288"/>
                </a:lnTo>
                <a:lnTo>
                  <a:pt x="0" y="345288"/>
                </a:lnTo>
                <a:arcTo wR="345288" hR="345288" stAng="10800000" swAng="5400010"/>
                <a:close/>
              </a:path>
            </a:pathLst>
          </a:custGeom>
          <a:solidFill>
            <a:srgbClr val="60b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对角圆角矩形 10"/>
          <p:cNvSpPr/>
          <p:nvPr/>
        </p:nvSpPr>
        <p:spPr>
          <a:xfrm flipV="1">
            <a:off x="1143000" y="3499560"/>
            <a:ext cx="3500280" cy="2071800"/>
          </a:xfrm>
          <a:custGeom>
            <a:avLst/>
            <a:gdLst>
              <a:gd name="textAreaLeft" fmla="*/ 100800 w 3500280"/>
              <a:gd name="textAreaRight" fmla="*/ 3399480 w 3500280"/>
              <a:gd name="textAreaTop" fmla="*/ 100800 h 2071800"/>
              <a:gd name="textAreaBottom" fmla="*/ 1971000 h 2071800"/>
            </a:gdLst>
            <a:ahLst/>
            <a:rect l="textAreaLeft" t="textAreaTop" r="textAreaRight" b="textAreaBottom"/>
            <a:pathLst>
              <a:path w="3500438" h="2071687">
                <a:moveTo>
                  <a:pt x="345288" y="0"/>
                </a:moveTo>
                <a:lnTo>
                  <a:pt x="3500438" y="0"/>
                </a:lnTo>
                <a:lnTo>
                  <a:pt x="3500438" y="1726399"/>
                </a:lnTo>
                <a:lnTo>
                  <a:pt x="3500438" y="1726399"/>
                </a:lnTo>
                <a:arcTo wR="345288" hR="345288" stAng="0" swAng="5400000"/>
                <a:lnTo>
                  <a:pt x="0" y="2071687"/>
                </a:lnTo>
                <a:lnTo>
                  <a:pt x="0" y="345288"/>
                </a:lnTo>
                <a:lnTo>
                  <a:pt x="0" y="345288"/>
                </a:lnTo>
                <a:arcTo wR="345288" hR="345288" stAng="10800000" swAng="5400010"/>
                <a:close/>
              </a:path>
            </a:pathLst>
          </a:custGeom>
          <a:solidFill>
            <a:srgbClr val="a7c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24260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6069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2497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60696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6T07:07:11Z</dcterms:modified>
  <cp:revision>286</cp:revision>
  <dc:subject/>
  <dc:title>幻灯片 1</dc:title>
</cp:coreProperties>
</file>